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43AD-2B8D-4D4F-AF96-72CBF66DF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dvantages of lactic acid in human performance – counterpoint article Lamb 2006; Robergs 2004; Bangsbo 199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5894-AC3B-4DC5-A10D-F833CAC92D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high intensity exercise, immediate and non oxidative energy systems are used to produce energy (ATP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have shown that as lactate levels increase in the blood as a result of high intensity exercise, performance levels have been observed to de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tilization of glucose via glycolysis can cause a change in the pH due to an increase abundance of H+ in the muscl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s in pH levels and the accumulation of lactate could be multifactorial leading to acidosis and decreased athletic perform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21B3-AC17-41C7-874F-5F4AB7EC67D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– open circles represent control group performing exercise to point of exhaustion with no lactate build up i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ened circles represent exhaustion point when lactate already present in blood via UE exercise and subjects were asked to perform a LE leg extension exerc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axis on left – represents blood lactate le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axis on right side – muscle pH.  Notice that as muscle pH level decrease as of lactate formation in blood, the potential for exhaustion is soo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4848-631B-4C8A-99F8-1A015AB95B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have shown that the handling of intracellular Ca2+, through increases in lactate levels and H+ions may induce an impairment to the SR Ca2+ release chan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ay have an effect of the actin myofilament during muscle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+ions could reduce the amount of Ca2+ that is available for reloading in the S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5A29-A470-4488-A5F1-0515451E15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were mainly conducted on animals hard to infer results to hum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s conducted on resting muscle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correlation btwn transport capacity and lactic acid accumulation.  (higher LA, less capacity to transpor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high LA &amp; low pH levels are not the primary cause of fatigue in humans, it appears that it contributes to fatigue particularly when performing intense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4294-532A-4F0B-8D45-70E94E81C4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7EC0-80AD-4172-A3A1-8CFF0905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000-2A9D-4FD6-9263-A37D0472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7B8-ECA3-448C-A2A4-623CB427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7A33-612C-42A9-BE49-DDB80C1B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DE55-1A42-4CD2-8EEA-9417F909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AE8E-1DB8-420D-A2B8-AA6956E9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3BA1-3A98-44D4-A1F7-8219E70E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A5EB-913F-42B8-99C5-D0E28CE4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9788-CEF1-4C3C-BAF2-3F74F1B2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66B9-3A58-458F-8649-F1C5800C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EEB3-E63C-4619-843D-C5D6446C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9A1D-38AC-4053-B94A-8A082304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7D8F-68E4-4C28-8BF0-91609A43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BFED-8BB6-473B-93C2-B3F999A7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A533-0911-4CFE-9166-538B0EC0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0826-360E-42DA-8385-8E1828F7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E6BC-75A7-42BE-A606-F8F40FA8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DCB6D-B294-4B15-AB73-CB7F49AB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FE70F-3ADE-4214-BC95-558066C8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A9B85-40CE-4691-81CF-811CB13F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3E272-0838-4C7B-9692-F3ADA915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E9F9F-F309-4958-8A52-DA636CCB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FEC-2815-4097-8019-8ACA292E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3D046-BCBA-4FAF-9787-A990B51A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76265-D0DA-4D6E-85E1-91A56DE8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46CEE-DD0E-458C-8A1A-27F534E6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54A1D-71D0-4267-B713-7CCE79D6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012F4-EB34-4288-A7FD-CB3CF683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339CF-D5FE-434C-9346-EF8E8420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6AE9C-9166-4C0B-9E99-B76BE8A1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39122-EB8E-42C1-BB23-D68F9AED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19D64-C40F-4A3E-AED4-160C2AE2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65453-56B7-44AA-BD38-36C607B9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ED6-FD8D-4CB8-AAB9-79BAC257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60C0A-7B87-4E14-A9C9-A8701FE1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96319-28EC-44D6-8D88-BCB366CD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A0A1A-77DB-425F-B077-85961F12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795E7-93E3-4F2D-9556-DC1957ED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55487-FA7F-404C-B370-64A20B71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F6DAF-DE56-4745-9FB2-40482DD8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3F1CD-DEC2-4611-B840-B753CB56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38C5E-87F4-4AF1-ACDA-5DAD18DE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5EC60-52A4-40BC-85BA-92DFBAB6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5C215-A542-41B4-9300-30CB0157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A28-2E51-4B77-A864-F76C0838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7F131-B65A-4ADC-BAA8-6901B78F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10A1E-3AD3-4231-A578-3D90D9AC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7DAC9-5240-4A2E-ABE5-3D3145D1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4F5F7-9109-4B2F-88D5-343F470B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F4517-65BC-467B-BC6C-8D147B45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6F7F3-5FE4-4591-8105-873E3F22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51522-891C-4C11-83A5-850E2065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01A43-110D-439E-8726-136965C1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C2CAB-6174-4932-9514-D83889CE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47F83-3CA7-408C-9C40-446A00A7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666-F575-43F8-BD8A-5EB2624A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25997-8695-4148-AE3C-68B647D6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81553-F329-4941-B3C5-A252110F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CA766-ADF1-4334-B812-6BA98963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BC7FE-A9F4-408A-AFEA-39B44B0A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FF4FB-71C9-4E14-9A6C-3AA9848F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F9680-0615-4A3D-8F8D-743233E7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A33BD-AFFF-4BBA-A54C-A43306E6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B89EE-A71B-40C0-A028-A15E31F5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BBE9F-BD0D-4682-BBC0-7CFE03A3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EB39D-444C-434F-845E-3BB276A1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65E-DC48-4501-9307-F2A154D0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C0024-C39C-44C5-A9DD-0456DD1C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698FA-13CE-482E-822C-AF6DF64C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F3C6E-9E76-4739-B8CB-58B39B8D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9A177-BD76-47A1-95A4-8696D20D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4B75C-0620-4EF1-992E-F55EA837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14967-54E5-4B24-A81A-5EAE68D5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30DC7-B8A7-4CC9-B647-432156A8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42394-2AD4-4BA7-BFE6-4382EF1E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DC9CA-7BF5-4EE2-9678-CD022138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4CB2E-F358-44C2-82BC-881B18C8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5E7-AD6C-4571-806E-9A7DB293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F3CAB-C438-4843-9868-A352238F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A1DEF-A757-4932-8841-2E721D13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EB219-3EE8-47D2-AAAB-9F06AA7C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9FB97-52C7-42BB-9A89-33758D58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60ABA-C9C3-4873-BB2A-178964D3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E9A-CAE7-4A60-AEF5-FDD91FD4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F517-0413-4B7A-9C7A-C5D327A7C842}" type="slidenum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209E-70EE-4443-8C05-0679911F2600}" type="slidenum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FB11-E9FB-4483-8993-D30E754A4588}" type="slidenum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63C8-35BA-4F0C-AA35-F2B269E8F8B5}" type="slidenum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8705-3D89-4C01-97B8-D97BD3714C1B}" type="slidenum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DDDF-F578-44A1-ADFD-C57E5BED4A92}" type="slidenum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C52A-9938-40A3-AE27-853153EA44F0}" type="slidenum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380880" y="761760"/>
            <a:ext cx="8382240" cy="97452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dvantages of Lactic Acid in Human Performanc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486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609120" y="456840"/>
            <a:ext cx="8077320" cy="58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tate is produced as a result of ATP formation via non oxidative energy system – glycolys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lactate concentrations in the blood have been observed, resulted in decreased athletic performanc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abundance of  H+ ions can change the pH leve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ative effects of lactic acid could be multi-factorial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993600" y="914400"/>
            <a:ext cx="708372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0880" y="38052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levels of lactate and H+ ions could impair  SR Ca 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+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channe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+ could depress Ca 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+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ion of actin myofilame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+ induces a reduction of the Ca 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+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oading into the S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controversie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iculty in extrapolating the results to in vivo conditions – exercise performance in human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ies based on isolated, non contracting muscle and skinned muscle fibers resulting in artificial non exercise related conditio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ve correlation between transport capacity and performance, suggesting that lactic acid accumulation is a disadvantag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hough high levels of lactic acid &amp; low pH are not primary cause of fatigue, it appears to contribute to fatigue during intense exercis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9:30:11Z</dcterms:created>
  <dc:creator>Kaiwi</dc:creator>
  <dc:description/>
  <dc:language>en-US</dc:language>
  <cp:lastModifiedBy>Kaiwi</cp:lastModifiedBy>
  <dcterms:modified xsi:type="dcterms:W3CDTF">2009-09-28T21:52:27Z</dcterms:modified>
  <cp:revision>14</cp:revision>
  <dc:subject/>
  <dc:title>Slide 1</dc:title>
</cp:coreProperties>
</file>