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43A-4D97-4D4A-9439-66A17C550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dvantages of lactic acid in human performance – counterpoint article Lamb 2006; Robergs 2004; Bangsbo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7DA-1691-447B-B1F0-010CDF360C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igh intensity exercise, immediate and non oxidative energy systems are used to produce energy (AT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have shown that as lactate levels increase in the blood as a result of high intensity exercise, performance levels have been observed to de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tilization of glucose via glycolysis can cause a change in the pH due to an increase abundance of H+ in the muscl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pH levels and the accumulation of lactate could be multifactorial leading to acidosis and decreased athletic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7456-1584-4AC2-8CD6-FF4E28EA42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– open circles represent control group performing exercise to point of exhaustion with no lactate build up i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ened circles represent exhaustion point when lactate already present in blood via UE exercise and subjects were asked to perform a LE leg extension 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axis on left – represents blood lactate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axis on right side – muscle pH.  Notice that as muscle pH level decrease as of lactate formation in blood, the potential for exhaustion is soo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D66-CEA1-44C3-BDE0-5E93D680F7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have shown that the handling of intracellular Ca2+, through increases in lactate levels and H+ions may induce an impairment to the SR Ca2+ release chan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y have an effect of the actin myofilament during 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ions could reduce the amount of Ca2+ that is available for reloading in the S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13D7-C8E0-439B-8BD3-DEB033307C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were mainly conducted on animals hard to infer results to hum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s conducted on resting muscle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correlation btwn transport capacity and lactic acid accumulation.  (higher LA, less capacity to trans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high LA &amp; low pH levels are not the primary cause of fatigue in humans, it appears that it contributes to fatigue particularly when performing intense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4051-9328-4398-9734-09B185940E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D43-89A9-4E56-8C8D-E378DBED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566-4EAA-4431-A9EF-C2ADEBE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14E-825D-45D4-B381-246B798A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0E7-3D54-47C2-B0E4-CEFBDC2D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A840-275B-41F5-B7B5-ACC09E20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AA29-DA5F-4A96-AAA5-8AD7894A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650C-EDCB-4553-BD8B-A7C91A3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7075-BBD7-431B-99D7-EF60B91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4317-66F9-4BFC-93CB-4770F6E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734E-762B-4A3C-83A3-F1DDB42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78B-1339-4C65-979B-B5AF138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5A6-005B-4C60-B3E0-8F7FAB64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F774-A9CE-46B7-A4CB-BBAF53E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660D-AD6A-42B5-9F36-2351234A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030-BE48-4F56-A005-582436F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9F89-3AC8-43BA-9E62-68B4C53E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36DF-43C3-4817-8A06-DAEBE438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5708-4969-4107-8027-BE11EA61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1692-FAA1-4482-9952-127547E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0B1E-511B-4852-A467-C9D512F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6C37-ECFD-40DC-9AA7-370C72F2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C81F-60C5-4179-AE52-E720D633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08A-8AC6-4FCA-A7FB-DFAEF49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6642-6356-44FA-9CE0-7568B92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C168-0C26-49EE-9106-7164494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65A4-F93F-42E6-AFC0-13D02475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ABB4-2409-4885-A07D-61A7BB2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BF9E-EF6E-4832-AB25-F60EB24A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593F-F06A-4453-BD7D-D77C3C5B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A2BA-1047-4B69-9457-E6410A26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767B-7C50-4179-AF68-84730BC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FBB6-8895-4FB3-BE57-A521F6E2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77C0-3208-4F26-A3B7-A64D9FED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B5C-B1E0-489D-A4E7-6C31783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7295-DB72-4AAB-874F-2DA41CC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67E5-70C2-4AB3-B47F-EBE5664C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5823-6ABB-4562-9B28-CF59B221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79F5-1446-4D78-8F34-84198D9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2156-D2DA-4D38-AB70-07F10A5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5D9A-4879-4B8B-9F9F-149529F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5D9B-D0A3-4800-A7DC-3C6884A3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4F68-1168-4E62-859A-269573C1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6394-5924-4ED1-8F0B-F88D686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DE16-F097-49A1-8913-4C291324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911-F855-40D4-B7EC-567B2E5F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8074-9EDD-455C-8542-5291B2F2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71CF-BFA4-4665-8DB2-D9361DF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97F7F-2F3D-4F81-BE0B-6ADFC69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005B-B9EE-48D1-9291-A11991AF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5779-81CF-4AA4-93A8-CCAC0EA6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9B6A-6F27-4EFE-928E-048F5021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4E69-01F5-448E-BAB8-D219E6D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1DAF-6C46-4A19-8F4F-4598ECF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AE9F-441E-4120-B372-4ADF254E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01A5-E9D8-41FC-AD45-63394687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8E0-380B-4349-AE0F-EE08873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03626-1F2D-4949-B034-AC77B589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0EE0A-6C1D-4881-846A-8A153049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E644-0AE3-479A-AAC2-F16E156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A98E-5EEF-4816-9FE9-738F3FE0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849A-7E4F-490F-974B-843B1AE1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3940-C9A7-4EF2-A596-2A1D49E9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BEB1-BABE-48E2-BAEC-2D6BB118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CD28-FD84-4717-8473-11EC65CE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4E99-E13D-4462-A083-B1A826F2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488DB-464A-4C42-B301-5496F6D1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E58-D1DD-481B-9D65-516A69B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E859-6D9E-4655-83F1-9286CBDD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6492-4E83-4906-8F30-C777D0E3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41C6-3067-4C92-8367-6B31A7CC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91DE-53EC-40B0-AD7D-993F494B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34C1-5A3B-491A-899B-6C90379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D7F3-351F-4FF3-B723-21DDFC14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4C752-A452-4B40-8DC7-46C512C7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89A03-908D-4DAB-BCE9-0143EDDD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56996-71DE-40F4-913A-31DC6809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665BF-0C16-4580-AA69-C95F5B20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B5E-4CB5-47FB-B101-4B7F51A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5A4E-996A-4B83-815F-E379BD9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7157-9BEE-4CCE-A123-D1654E6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34124-60B7-4740-A2B3-DF5BDF86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D6AD-902F-4063-8B7A-7C39DBB3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8070-03EA-49E5-899F-325771EA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D47-5147-405F-BE7C-6262400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005E-2F82-4930-8FF4-A44A58D4BF85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EF89-8194-42CE-9B7F-CC87223258A2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611B-1222-479C-B2F5-FAEB4D9A4A12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59C-3C9C-48A9-A83F-0E9EE6F91FE1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156-D1D9-4088-ACFC-D102F8FCE4A5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2A49-CDC7-4044-8A14-CE08766863E0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17F7-13CC-4931-B0E1-FC4C11529E41}" type="slidenum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80880" y="761760"/>
            <a:ext cx="8382240" cy="9745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 of Lactic Acid in Human Performanc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4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09120" y="456840"/>
            <a:ext cx="8077320" cy="58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ate is produced as a result of ATP formation via non oxidative energy system – glycolys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lactate concentrations in the blood have been observed, resulted in decreased athletic performanc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abundance of  H+ ions can change the pH lev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effects of lactic acid could be multi-factorial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93600" y="914400"/>
            <a:ext cx="7083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levels of lactate and H+ ions could impair  SR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channe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+ could depress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 of actin myofila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+ induces a reduction of the Ca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oading into the S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controversi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in extrapolating the results to in vivo conditions – exercise performance in huma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s based on isolated, non contracting muscle and skinned muscle fibers resulting in artificial non exercise related condi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correlation between transport capacity and performance, suggesting that lactic acid accumulation is a disadvantag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high levels of lactic acid &amp; low pH are not primary cause of fatigue, it appears to contribute to fatigue during intense exerc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30:11Z</dcterms:created>
  <dc:creator>Kaiwi</dc:creator>
  <dc:description/>
  <dc:language>en-US</dc:language>
  <cp:lastModifiedBy>Kaiwi</cp:lastModifiedBy>
  <dcterms:modified xsi:type="dcterms:W3CDTF">2009-09-28T21:52:27Z</dcterms:modified>
  <cp:revision>14</cp:revision>
  <dc:subject/>
  <dc:title>Slide 1</dc:title>
</cp:coreProperties>
</file>