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F5E0-08E3-4AA0-BEAA-067EEC436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 of lactic acid in human performance – counterpoint article Lamb 2006; Robergs 2004; Bangsbo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F79E-9DF1-42EB-B0AE-27EF31DB90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igh intensity exercise, immediate and non oxidative energy systems are used to produce energy (AT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have shown that as lactate levels increase in the blood as a result of high intensity exercise, performance levels have been observed to de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tilization of glucose via glycolysis can cause a change in the pH due to an increase abundance of H+ in the muscl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pH levels and the accumulation of lactate could be multifactorial leading to acidosis and decreased athletic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9FCA-9F72-44EB-84BF-CBEE0747F1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– open circles represent control group performing exercise to point of exhaustion with no lactate build up i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ened circles represent exhaustion point when lactate already present in blood via UE exercise and subjects were asked to perform a LE leg extension 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axis on left – represents blood lactate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axis on right side – muscle pH.  Notice that as muscle pH level decrease as of lactate formation in blood, the potential for exhaustion is soo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E1C8-DFB5-4BAD-8AB4-F6E3684D3C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have shown that the handling of intracellular Ca2+, through increases in lactate levels and H+ions may induce an impairment to the SR Ca2+ release chan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y have an effect of the actin myofilament during 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ions could reduce the amount of Ca2+ that is available for reloading in the S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71BB-19F3-461D-98CD-B8655BC94C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were mainly conducted on animals hard to infer results to hum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s conducted on resting muscle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correlation btwn transport capacity and lactic acid accumulation.  (higher LA, less capacity to trans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high LA &amp; low pH levels are not the primary cause of fatigue in humans, it appears that it contributes to fatigue particularly when performing intense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BDD3-2DBC-40CB-B577-85ACE1D0E5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CEF-4B6D-4276-8CC0-5D4AC322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11A-F738-4607-BE79-49126403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1BE-95B1-47F8-B94B-6D3C1EA4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9C7-B9C5-45AA-9726-92920948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D679-40B0-4E40-9A74-25E4D26A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21B5-6818-4846-9A97-BD65291B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6A8C-50EA-418B-A212-F2774050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8A7E-47BA-4946-B1A5-868F30E5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9C12-88B3-4753-A915-C30D721F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8F02-0DB8-4135-8591-9CEC586A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6C7C-5897-4CEF-9466-5C889DD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DB1-2189-481A-9194-F588FA57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B1D2-13F5-4A4F-8092-7C8BD3B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68C3-3D8E-4DC2-8378-974F14DF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F275-0301-474D-A9F0-81F161E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89F1-A118-4A6E-AC9D-52837010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5AD2-88FD-4119-B68A-80E364F9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7827-2C90-44B4-A50C-52F23292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350D-2DD2-4AB7-B8AF-3B58BE6C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CCA7-EC29-48E6-B75E-444C7336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9A3A-EED6-4D25-AEF8-EA2ACC6A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0AD6-77CE-4280-B592-C77B8071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238-8612-43DE-9E81-297B35BA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A9C4-0FE4-410A-B758-018D1EB4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01BA-5853-4C84-AC46-15592336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3D57-A721-4BE6-882F-421C455D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8B9A-F847-4073-8130-5246067C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4799-98EC-4CFA-AC17-5119B60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30EC-2BDB-40DE-8B89-05E362BC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09968-3095-49E3-A3BD-8274EB1C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76F67-85CA-44A4-BA1F-B0BBFA13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3F5E3-E5E5-4626-937E-4A56B081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2E04-F3A3-40BB-9CCD-93260BA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C7F-D253-4E0C-AB5C-0280EBA5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AACC4-EC50-48D6-8FFD-78A0C0EF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B529-3E12-40B7-B944-93649F30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C8CE-E5F7-46BA-B6A1-6635B7C7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D987-2565-4B97-8F92-60FEF9B4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0FA30-42C5-448A-8DCE-010B5327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F836-7014-40A8-9FDB-FCE386C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0C222-B545-44AB-B1A4-491B84E0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F79C-3E39-47F6-81E6-B7B79BAF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43013-79AD-4745-B45D-09E913C1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BAA51-9F6A-434E-9B0D-600DC83A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653-FEA7-4E6D-AC08-A7D87A61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55F3D-67AB-4CC8-8A4B-00DBA03B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8F254-9996-4D49-B048-12FB90B6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44E4D-B840-471B-ACEB-E0A26610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01A17-6489-4720-BBB5-FECA593A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95274-986F-4491-A6CF-3D840826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BB2AF-CF15-405D-BF39-7AB95F1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2B870-6271-4B92-A32F-3FF1A008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5AE55-64F0-46F2-A90D-381D67B3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C7157-7543-4066-B073-60DEA2FE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6807-AF8F-45FA-BE3A-5EE7E0A3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4A1-88EF-4DC2-AAE9-AD9ED321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7B75E-20B9-42E2-8A7F-F97DAA97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77BBB-F650-4C8B-AEE9-86F32231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0A342-9331-4E95-ABC6-79F4060A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0BB8-CBD5-4BB1-8778-DBEF9727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C685-DBE7-4D86-A111-5025842E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A2957-BCB7-4988-857E-8AD3758E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A7AE2-5683-422F-9836-3A4F392E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736B1-483A-4A57-BAA6-098F0660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F8A84-DD73-41B8-80B3-971F49E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50977-EE2A-4BF7-AE92-8A896B97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0CE-59E8-4484-8DF0-9814203C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01398-7A5F-47C2-8C5D-4F0DF036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5AE8A-6591-4284-85B2-4FFF848B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099A7-264B-4FD5-A0BC-087996D2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309BE-15E2-4412-A6D6-A4C191E1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0BB08-7FFC-4880-A670-A899B51D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9D925-9B87-42B6-A7E9-B593B601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C433B-BFEF-4A5A-8036-E4B051C6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2A80D-E6F4-4C9E-97EE-20A382F7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1AA3A-7CE5-4B24-981A-2C98673F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BE6AC-1FDC-4E42-B7EB-5F90DE5D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F33-B9B4-436B-8372-466D610B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1FE32-52AD-4598-BFF3-4D553026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BD1D0-91DB-4C8D-9F1B-90EFCBC1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76C83-9E19-4FDC-896C-E5F7081A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3DA6F-EE3F-4989-8C41-F619829E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C585F-E000-43DB-8668-6DBCF9C9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5A2-3F15-49C1-A23D-9F6C10F8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F9F8-8EB3-45B5-B32D-7E2E1EA1AE65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5112-2B11-48D3-873A-352C6B000539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7925-83B9-46B5-95F1-441A19743C87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4622-5791-438E-9014-30066DD05B99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8831-9A1A-44C8-B8F8-D595E2E342C5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2793-30B1-4529-A4E4-F0BA35214A8D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55D3-5621-4346-B1BB-DCA463FE47C5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80880" y="761760"/>
            <a:ext cx="8382240" cy="97452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 of Lactic Acid in Human Performanc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486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09120" y="456840"/>
            <a:ext cx="8077320" cy="58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tate is produced as a result of ATP formation via non oxidative energy system – glycolys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lactate concentrations in the blood have been observed, resulted in decreased athletic performanc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abundance of  H+ ions can change the pH leve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effects of lactic acid could be multi-factorial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993600" y="914400"/>
            <a:ext cx="70837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088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levels of lactate and H+ ions could impair  SR Ca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channe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+ could depress Ca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 of actin myofila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+ induces a reduction of the Ca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oading into the S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controversie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y in extrapolating the results to in vivo conditions – exercise performance in huma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es based on isolated, non contracting muscle and skinned muscle fibers resulting in artificial non exercise related condi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correlation between transport capacity and performance, suggesting that lactic acid accumulation is a disadvantag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high levels of lactic acid &amp; low pH are not primary cause of fatigue, it appears to contribute to fatigue during intense exerci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30:11Z</dcterms:created>
  <dc:creator>Kaiwi</dc:creator>
  <dc:description/>
  <dc:language>en-US</dc:language>
  <cp:lastModifiedBy>Kaiwi</cp:lastModifiedBy>
  <dcterms:modified xsi:type="dcterms:W3CDTF">2009-09-28T21:52:27Z</dcterms:modified>
  <cp:revision>14</cp:revision>
  <dc:subject/>
  <dc:title>Slide 1</dc:title>
</cp:coreProperties>
</file>