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79AC-7F43-4E23-B187-7B9EA99E9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609A-1CE4-4317-AAD8-29424EE84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onfused on why there’s all the controversy hope I can clear this up a little now and give a reasonable practical application at the e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4CD2-0632-420E-A7D8-13B71FD2D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method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ion of lactate threshold by gas exchange – CO2 rises when lactate goes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lood lactate assessed directly – even this is tricky for example earlobe levels usually lower then fingertip and plasma values usually higher than venous and capillary values between these two sources, in addition some analyzers look at the lactate levels by measuring more like a spectrophotometer while other measure electric current flowing through lactate producing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ctate clamp – infusion which artificially inflates lactate levels, but gives advantage of only raising lactate levels, not creating acidosis, thus we can just focus on lactates effects without getting confused with acidosis because we’re still not entirely sure if something beyond H+ is responsible for acidosis, but lactate clamp studies would seem to decrease support of lactate having a role because they say in this method there’s not acid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scle biopsies and a whole bunch of really complex techniques we’ll discuss in a b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ats vs. humans – rats have much faster metabolic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solated muscle samples and organelles – not real-life – for example there’s some controversy over how acidosis doesn’t seem to be that hampering for isolated muscle yet plasma acidosis is definitely associate with fatigue, possibly because this acidosis reduces central nervous system drive to the muscle, thus if take brain out equation are we really getting whole picture – many more arguments could be made about this and need for reductionist vs. complex whole body research where you can’t single out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kinned fibers – carries problem of removing possible influence of membrane structures. For example in pt ctpt they talked about how incubation with lactate decreased force in an intact isolated muscle with its membrane, but lactate did not decrease force when the muscle was skinned. This seems to support the idea of the MCT transporters. Thus maybe when they’re removed lactate’s access to the inside of the cell to do whatever it does is not the same. We also learned in our previous section on the PCr shuttle how membranous compartmentation is important for normal functioning, thus membrane removal can mess with the orientation of various components involved in mediating lactate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designs/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original data was correlational where they pretty much said let’s see what’s going on with these other things as fatigue sets in. thus no research can show cause and effect, but this type of correlational data is even harder to use for cause and effect proving. Use of lactate clamp and situations like this allow us to look at what goes on based on varying lactate levels, gets us closer to explaining lactate’s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itially has to estimate from gases, then started measuring blood, finally with confusion add in tricks like lactate clamp to isolate looking at lactate, now with advent of muscle biopsies can look at lactate where contractions going on. Then with Western blotting and elisa assays we could start putting together more of the story looking at levels of involved enzymes and transport proteins, advent of electron microscopy and magnetic resonance spectroscopy allowed us to better locate these enzymes and proteins and in the case of magnetic resonance spectroscopy in a minimally invasive wa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1FCA-DCE3-4A99-BB76-645E1A436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Unkn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because it’s obvious even though lactate and H+ are causes of fatigue so question is what are the other causes – other possibilities including the H+ produced from ATP hydrolysis in glycolysis as kary talked about, also disturbances of any of the processes in excitation contraction coupling can cause fatigue to set in sooner. Likely lactate doesn’t have independent effects, but very likely interacts with these other factors and somehow some form of interaction leads to fatig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quite obvious that lactate can be used as a fuel by various cell. Particularly accepted is that MCT transporters coordinate lactate getting to other cells for oxidation, what remains highly debated is whether a given cell can use it’s on lactate by oxidizing it in its own mitochondr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E5F3-4576-4229-B2CE-20FA6C5AF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apply when working with athletes or people looking to improve fitn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122E-7C0C-46E2-8D9A-EC686DCE6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ive the body a reason to change hence train insane or remain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ity of training should always predominate because you want to be very well trained at what you need to do. That said the energy systems are all so coordinated that neglecting at least some level of cross-training is not wise. For example were learned in our previous section on the phosphagen system how even though a sprinter should spend the majority of their time doing short bursts will long recovery periods in between to maximally train the phosphagen system, doing some oxidative system training via interval type programs will help them train their PCr shuttle for more rapid PCr regener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the endurance athlete cannot always do distance training. Pushing limits intensity wise and creating the acidotic state teaches trains the body to release O2 more readily from HgB, upregulates the components involved in aerobic metabolism, enhances blood flow, and likely teaches the body how to better use lactate and spare glucose. Thus as you shift into larger CHO and less fat use, you have another source of energy besides glucose, in lactate, to better sustain your ability to maintain this level. As for the level there’s believed to be 2 lactate thresholds, one where there’s a large initial rise in lactate and another where lactate formation reaches a steady state with lactate clearance. Debate is whether or not this steady state is a result of the body knowing how to use a substantial amount of lactate or if it’s the body become trained enough to clear of lactate fast enough to prevent deleterious effects (less likely). Either way until we know it would seem that the body best gains the ability to do whatever it is it needs to do with lactate by training at the high level of this 2</a:t>
            </a:r>
            <a:r>
              <a:rPr b="0" lang="en-US" sz="1200" spc="-1" strike="noStrike" baseline="30000">
                <a:solidFill>
                  <a:srgbClr val="000000"/>
                </a:solidFill>
                <a:latin typeface="Arial"/>
              </a:rPr>
              <a:t>nd</a:t>
            </a:r>
            <a:r>
              <a:rPr b="0" lang="en-US" sz="1200" spc="-1" strike="noStrike">
                <a:solidFill>
                  <a:srgbClr val="000000"/>
                </a:solidFill>
                <a:latin typeface="Arial"/>
              </a:rPr>
              <a:t> threshold steady st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be sane as you plan the insanity indicates not getting too caught up in cross-training or in hype. Specificity still most important, but no form of athletic competition involves only one energy system so all must be trained, however small the ext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B0B0-FF28-4C7E-AC17-C22BDDE71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711E0-B993-4F0A-8AA8-8BD13A3A3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B81A-8997-4D8E-B89D-D7B9735FD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CCE8A-8161-458E-900A-9DC1442A0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44D6C-A0AB-4C87-BF2F-9013B1D75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838A2-6D60-4D86-A8C1-6BD675B68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3E4B8-B871-4A7C-AF23-5320526C1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CA48-3BF3-4504-A1F2-D395B10B4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49F42-5855-4C5F-A218-A23A0DE15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62BE-39BA-4056-B0FE-304672BC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F53D-35EF-4ED6-80E3-CD73314D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A8ED-C81B-4D10-8DAE-01156259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0498-B93B-49D5-BEC6-05BBB1C2F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DA87-F17E-41F4-A14E-76A6532D7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now wha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AutoShape 4"/>
          <p:cNvSpPr/>
          <p:nvPr/>
        </p:nvSpPr>
        <p:spPr>
          <a:xfrm>
            <a:off x="914400" y="4343400"/>
            <a:ext cx="7391520" cy="990720"/>
          </a:xfrm>
          <a:prstGeom prst="rightArrow">
            <a:avLst>
              <a:gd name="adj1" fmla="val 50000"/>
              <a:gd name="adj2" fmla="val 1865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ll the debate?</a:t>
            </a: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meth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mod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designs/analy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y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hat do we know</a:t>
            </a:r>
            <a:endParaRPr b="0" lang="en-US" sz="4400" spc="-1" strike="noStrike">
              <a:solidFill>
                <a:srgbClr val="000000"/>
              </a:solidFill>
              <a:latin typeface="Arial"/>
            </a:endParaRPr>
          </a:p>
        </p:txBody>
      </p:sp>
      <p:sp>
        <p:nvSpPr>
          <p:cNvPr id="54" name="PlaceHolder 2"/>
          <p:cNvSpPr>
            <a:spLocks noGrp="1"/>
          </p:cNvSpPr>
          <p:nvPr>
            <p:ph/>
          </p:nvPr>
        </p:nvSpPr>
        <p:spPr>
          <a:xfrm>
            <a:off x="457200" y="23320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ly friend, but also fo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to cel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48320" y="23320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Deb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cellular/mitochondrial shutt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stery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does that mea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MCj04344030000[1]"/>
          <p:cNvPicPr/>
          <p:nvPr/>
        </p:nvPicPr>
        <p:blipFill>
          <a:blip r:embed="rId1"/>
          <a:stretch/>
        </p:blipFill>
        <p:spPr>
          <a:xfrm>
            <a:off x="2971800" y="1981080"/>
            <a:ext cx="3129120" cy="438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n doubt….</a:t>
            </a:r>
            <a:endParaRPr b="0" lang="en-US" sz="4400" spc="-1" strike="noStrike">
              <a:solidFill>
                <a:srgbClr val="000000"/>
              </a:solidFill>
              <a:latin typeface="Arial"/>
            </a:endParaRPr>
          </a:p>
        </p:txBody>
      </p:sp>
      <p:sp>
        <p:nvSpPr>
          <p:cNvPr id="60" name="PlaceHolder 2"/>
          <p:cNvSpPr>
            <a:spLocks noGrp="1"/>
          </p:cNvSpPr>
          <p:nvPr>
            <p:ph/>
          </p:nvPr>
        </p:nvSpPr>
        <p:spPr>
          <a:xfrm>
            <a:off x="228600" y="990360"/>
            <a:ext cx="8610480" cy="5562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t>
            </a:r>
            <a:r>
              <a:rPr b="0" i="1" lang="en-US" sz="4000" spc="-1" strike="noStrike">
                <a:solidFill>
                  <a:srgbClr val="000000"/>
                </a:solidFill>
                <a:latin typeface="Arial"/>
              </a:rPr>
              <a:t>Train insane or remain the sam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1" name="Picture 9" descr="15physed"/>
          <p:cNvPicPr/>
          <p:nvPr/>
        </p:nvPicPr>
        <p:blipFill>
          <a:blip r:embed="rId1"/>
          <a:stretch/>
        </p:blipFill>
        <p:spPr>
          <a:xfrm>
            <a:off x="2590920" y="4267080"/>
            <a:ext cx="3886200" cy="2590920"/>
          </a:xfrm>
          <a:prstGeom prst="rect">
            <a:avLst/>
          </a:prstGeom>
          <a:ln w="0">
            <a:noFill/>
          </a:ln>
        </p:spPr>
      </p:pic>
      <p:pic>
        <p:nvPicPr>
          <p:cNvPr id="62" name="Picture 10" descr="grunting-gym-grunt"/>
          <p:cNvPicPr/>
          <p:nvPr/>
        </p:nvPicPr>
        <p:blipFill>
          <a:blip r:embed="rId2"/>
          <a:stretch/>
        </p:blipFill>
        <p:spPr>
          <a:xfrm>
            <a:off x="304920" y="1849320"/>
            <a:ext cx="4495680" cy="2551320"/>
          </a:xfrm>
          <a:prstGeom prst="rect">
            <a:avLst/>
          </a:prstGeom>
          <a:ln w="0">
            <a:noFill/>
          </a:ln>
        </p:spPr>
      </p:pic>
      <p:pic>
        <p:nvPicPr>
          <p:cNvPr id="63" name="Picture 11" descr="capt"/>
          <p:cNvPicPr/>
          <p:nvPr/>
        </p:nvPicPr>
        <p:blipFill>
          <a:blip r:embed="rId3"/>
          <a:stretch/>
        </p:blipFill>
        <p:spPr>
          <a:xfrm>
            <a:off x="5105520" y="1849320"/>
            <a:ext cx="3657600" cy="2475000"/>
          </a:xfrm>
          <a:prstGeom prst="rect">
            <a:avLst/>
          </a:prstGeom>
          <a:ln w="0">
            <a:noFill/>
          </a:ln>
        </p:spPr>
      </p:pic>
      <p:sp>
        <p:nvSpPr>
          <p:cNvPr id="64" name="Text Box 12"/>
          <p:cNvSpPr/>
          <p:nvPr/>
        </p:nvSpPr>
        <p:spPr>
          <a:xfrm>
            <a:off x="2057400" y="4724280"/>
            <a:ext cx="571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Be sane as you plan the insa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 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tronglifts.com/wp-content/uploads/grunting-gym-grunt.jp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nazret.com/blog/media/blogs/new/capt.1b8fdff62109464db917a548af6b4f2b.beijing_olympics_athletics_mens_marathon_olyat107.jp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aphics8.nytimes.com/images/2009/07/15/magazine/15physed.480.jp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45:17Z</dcterms:created>
  <dc:creator> John Bosse</dc:creator>
  <dc:description/>
  <dc:language>en-US</dc:language>
  <cp:lastModifiedBy>Kary Bredenberg</cp:lastModifiedBy>
  <dcterms:modified xsi:type="dcterms:W3CDTF">2009-09-28T23:57:14Z</dcterms:modified>
  <cp:revision>21</cp:revision>
  <dc:subject/>
  <dc:title>So now what…….</dc:title>
</cp:coreProperties>
</file>