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3202-EFE6-44C1-A882-13160BD3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done in amphibian musc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in lactic acid at onset of exercise as result of oxygen deficit became primary explanation of the increased appearance of lactic acid with fatigue.  From here on sought to prove that lactate was cause of fatigue rather then question its fun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 of experimental biology 200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ytosol LDH has low Km value for Pyruvate thus small amount of pyruvate will result in lactate so lactate is predominant end product of glycolysis.  Due to this Lactate to Pyruvate conversion in the cytosol is unlik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LS-Lactate is transferred out of the cell to other cells to be oxidized more support and agreement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LS- More controversy about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290A3-93FF-470F-92AA-80FE9E68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EF923-9772-4F70-96B0-4ADD81BD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C7E7B-883D-45F2-9C3B-B3277FE50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C43A-D637-4A62-B915-D5F3D8D49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4B369-F51C-45FC-82CE-4D2226960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A64A2-B30C-4DA7-B885-F13214407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711A6-36E2-4518-8529-956D94DC4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400D2-359B-4B3F-8827-F76482F15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22F3F-0827-4DE2-9BC9-82F67F18F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6669B-076C-4AC5-BC45-A5ACA2C01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6E6CB-999E-4C30-B03A-1423669D7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675CE-51D6-4BD0-BDD7-639623EC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A2B61-0159-46D2-AABA-C980942BF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CA1CD-85DC-4014-B204-F8696E5A3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21DCC-B7C4-442C-8137-0E5C0AD8F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99FEB-B201-4381-A8EA-4A75822DA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F5C3A-7DBC-4F79-A9F5-97F534F68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48EA6-5B10-4651-9B00-DBB30BCC2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6F8D3-D747-4AAB-8EBB-DEB37749D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CEE63-4ED3-4424-A9B7-D29C98CD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670CA-E150-4445-AD98-D29FD685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3B3F-B4D2-4F63-9B0F-644BC5B0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997C-AF2F-4798-A2F5-AF57C0BDC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41901-B1C2-4512-9AD5-9A1E823E5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B60C-DE30-490B-9CC7-0739969560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C1D5-139F-4A72-A175-C97555F3A2D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US" sz="5400" spc="-1" strike="noStrike">
                <a:solidFill>
                  <a:srgbClr val="ffffff"/>
                </a:solidFill>
                <a:latin typeface="Times New Roman"/>
              </a:rPr>
              <a:t>The History of Lactate</a:t>
            </a:r>
            <a:br>
              <a:rPr sz="5400"/>
            </a:br>
            <a:r>
              <a:rPr b="0" lang="en-US" sz="5400" spc="-1" strike="noStrike">
                <a:solidFill>
                  <a:srgbClr val="ffffff"/>
                </a:solidFill>
                <a:latin typeface="Times New Roman"/>
              </a:rPr>
              <a:t>and its Modern Implications</a:t>
            </a:r>
            <a:endParaRPr b="0" lang="en-US" sz="54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dessa Addison, DPT</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9/28/2009</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08-Lacte identified by Berzeliu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91-Araki identified lactate concentrations rise in proportion to activation of exercised muscle.  Thought this was related to oxygen availabi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07- Fletcher and Hopkins looked at lactate in amphibian musc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tic acid appeared in response to muscle contraction in absence of oxygen</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tate disappeared when oxygen was present</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20’s-Hill, Heidelberg, and Margaria group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ication of lactic acid cycle</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erobic and anaerobic pathways for cellular energy suppli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ise of lactic acid at onset of exercise as result of oxygen deficit</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rrelations of increased lactate and decreased twitch for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ctate Correlates to Decreased Twitch Force</a:t>
            </a:r>
            <a:endParaRPr b="0" lang="en-US" sz="4400" spc="-1" strike="noStrike">
              <a:solidFill>
                <a:srgbClr val="ffffff"/>
              </a:solidFill>
              <a:latin typeface="Times New Roman"/>
            </a:endParaRPr>
          </a:p>
        </p:txBody>
      </p:sp>
      <p:sp>
        <p:nvSpPr>
          <p:cNvPr id="106" name=""/>
          <p:cNvSpPr/>
          <p:nvPr/>
        </p:nvSpPr>
        <p:spPr>
          <a:xfrm>
            <a:off x="2133720" y="220968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2209680" y="4724280"/>
            <a:ext cx="4038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3124080" y="49528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tate</a:t>
            </a:r>
            <a:endParaRPr b="0" lang="en-US" sz="2400" spc="-1" strike="noStrike">
              <a:solidFill>
                <a:srgbClr val="ffffff"/>
              </a:solidFill>
              <a:latin typeface="Arial"/>
            </a:endParaRPr>
          </a:p>
        </p:txBody>
      </p:sp>
      <p:sp>
        <p:nvSpPr>
          <p:cNvPr id="109" name=""/>
          <p:cNvSpPr/>
          <p:nvPr/>
        </p:nvSpPr>
        <p:spPr>
          <a:xfrm>
            <a:off x="457200" y="2819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a:t>
            </a:r>
            <a:endParaRPr b="0" lang="en-US" sz="2400" spc="-1" strike="noStrike">
              <a:solidFill>
                <a:srgbClr val="ffffff"/>
              </a:solidFill>
              <a:latin typeface="Arial"/>
            </a:endParaRPr>
          </a:p>
        </p:txBody>
      </p:sp>
      <p:sp>
        <p:nvSpPr>
          <p:cNvPr id="110" name=""/>
          <p:cNvSpPr/>
          <p:nvPr/>
        </p:nvSpPr>
        <p:spPr>
          <a:xfrm>
            <a:off x="2362320" y="2514600"/>
            <a:ext cx="2666880" cy="18288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 of Lactate</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After these findings science sought to prove lactate was the cause of fatigue rather then to question its functi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Philp et al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fter Lactate is produced how is it utilized? </a:t>
            </a:r>
            <a:endParaRPr b="0" lang="en-US" sz="4400" spc="-1" strike="noStrike">
              <a:solidFill>
                <a:srgbClr val="ffffff"/>
              </a:solidFill>
              <a:latin typeface="Times New Roman"/>
            </a:endParaRPr>
          </a:p>
        </p:txBody>
      </p:sp>
      <p:pic>
        <p:nvPicPr>
          <p:cNvPr id="114" name="" descr=""/>
          <p:cNvPicPr/>
          <p:nvPr/>
        </p:nvPicPr>
        <p:blipFill>
          <a:blip r:embed="rId1"/>
          <a:stretch/>
        </p:blipFill>
        <p:spPr>
          <a:xfrm>
            <a:off x="1828800" y="1752480"/>
            <a:ext cx="6400800" cy="4125960"/>
          </a:xfrm>
          <a:prstGeom prst="rect">
            <a:avLst/>
          </a:prstGeom>
          <a:ln w="0">
            <a:noFill/>
          </a:ln>
        </p:spPr>
      </p:pic>
      <p:sp>
        <p:nvSpPr>
          <p:cNvPr id="115" name=""/>
          <p:cNvSpPr/>
          <p:nvPr/>
        </p:nvSpPr>
        <p:spPr>
          <a:xfrm>
            <a:off x="5562720" y="1828800"/>
            <a:ext cx="1676160" cy="22860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962520" y="3809880"/>
            <a:ext cx="3047760" cy="1676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7:15:34Z</dcterms:created>
  <dc:creator>odessa  addison</dc:creator>
  <dc:description/>
  <dc:language>en-US</dc:language>
  <cp:lastModifiedBy>odessa  addison</cp:lastModifiedBy>
  <dcterms:modified xsi:type="dcterms:W3CDTF">2009-09-29T00:28:26Z</dcterms:modified>
  <cp:revision>9</cp:revision>
  <dc:subject/>
  <dc:title>The History of Lactate and its Modern Implications</dc:title>
</cp:coreProperties>
</file>