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D823494-0416-4FA2-B9A3-71998E51D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609E3DC-84CF-4ECA-98B4-62B246620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33CBBC7-589E-4E22-BB50-A8881F88CA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C99B57F-B021-4722-8E42-CF5E7215D85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98A30-02A7-4C4D-9698-499578245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F3156-A868-4CDB-9654-FF15830A1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068B9-9FF4-4AF6-843E-D4A231E43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FF5CA-D853-4552-88AD-5449687B0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88641-5EED-458D-B1D5-660EA8C7A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BE2EC-856C-4F9B-BA13-99AD6839F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08D48-8FDB-414E-80D6-5C811F3CE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E290E23-9D3A-43FD-A04D-B548BCAD6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F5E31-B2E9-43EF-8D29-B0826096C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112B-74E7-47B0-BBEB-7DF232EF4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20138-ABD0-43EC-8614-F70DCB057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18CF5-81A1-4F42-BCCC-89B754E49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53D36-BC3C-496A-8E60-16759B44C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93DD99E-52DF-4873-B7C8-F94400A2A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CE83578-0FFD-4DCF-9254-4618F850F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DCC735E-477C-4EE3-93B2-21B141732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FE8C089-64A5-4FBD-8B9B-7F78A967C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7F7592D-CCD8-40AB-839F-0B6DF69AF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AACE5F5-590F-4EF6-AC77-71924BA8D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EA62759-BCB2-4D9D-BAFA-116DA1ED2C3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83ED-D3FB-4D69-AC00-A28B872921B0}"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88BD-9D64-4236-8158-2325CA9FE0D2}"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Biopol&#237;mero" TargetMode="External"/><Relationship Id="rId3" Type="http://schemas.openxmlformats.org/officeDocument/2006/relationships/hyperlink" Target="http://es.wikipedia.org/wiki/Mon&#243;mero" TargetMode="External"/><Relationship Id="rId4" Type="http://schemas.openxmlformats.org/officeDocument/2006/relationships/hyperlink" Target="http://es.wikipedia.org/wiki/Disolvente" TargetMode="External"/><Relationship Id="rId5" Type="http://schemas.openxmlformats.org/officeDocument/2006/relationships/hyperlink" Target="http://es.wikipedia.org/wiki/Dispersi&#243;n_coloidal" TargetMode="External"/><Relationship Id="rId6" Type="http://schemas.openxmlformats.org/officeDocument/2006/relationships/image" Target="../media/image1.png"/><Relationship Id="rId7" Type="http://schemas.openxmlformats.org/officeDocument/2006/relationships/hyperlink" Target="http://es.wikipedia.org/wiki/Hidr&#243;lisis"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AS PROTEINAS</a:t>
            </a:r>
            <a:endParaRPr b="0" lang="en-US" sz="4400" spc="-1" strike="noStrike">
              <a:solidFill>
                <a:srgbClr val="dfdef6"/>
              </a:solidFill>
              <a:latin typeface="Arial"/>
            </a:endParaRPr>
          </a:p>
        </p:txBody>
      </p:sp>
      <p:sp>
        <p:nvSpPr>
          <p:cNvPr id="5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macromoléculas; son </a:t>
            </a:r>
            <a:r>
              <a:rPr b="0" lang="en-US" sz="2000" spc="-1" strike="noStrike" u="sng">
                <a:solidFill>
                  <a:srgbClr val="9999ff"/>
                </a:solidFill>
                <a:uFillTx/>
                <a:latin typeface="Arial"/>
                <a:hlinkClick r:id="rId2"/>
              </a:rPr>
              <a:t>biopolímeros</a:t>
            </a:r>
            <a:r>
              <a:rPr b="0" lang="en-US" sz="2000" spc="-1" strike="noStrike" u="sng">
                <a:solidFill>
                  <a:srgbClr val="ffffff"/>
                </a:solidFill>
                <a:uFillTx/>
                <a:latin typeface="Arial"/>
              </a:rPr>
              <a:t>, es decir, están constituidas por gran número de unidades estructurales simples repetitivas (</a:t>
            </a:r>
            <a:r>
              <a:rPr b="0" lang="en-US" sz="2000" spc="-1" strike="noStrike" u="sng">
                <a:solidFill>
                  <a:srgbClr val="9999ff"/>
                </a:solidFill>
                <a:uFillTx/>
                <a:latin typeface="Arial"/>
                <a:hlinkClick r:id="rId3"/>
              </a:rPr>
              <a:t>monómeros</a:t>
            </a:r>
            <a:r>
              <a:rPr b="0" lang="en-US" sz="2000" spc="-1" strike="noStrike" u="sng">
                <a:solidFill>
                  <a:srgbClr val="ffffff"/>
                </a:solidFill>
                <a:uFillTx/>
                <a:latin typeface="Arial"/>
              </a:rPr>
              <a:t>). Debido a su gran tamaño, cuando estas moléculas se dispersan en un </a:t>
            </a:r>
            <a:r>
              <a:rPr b="0" lang="en-US" sz="2000" spc="-1" strike="noStrike" u="sng">
                <a:solidFill>
                  <a:srgbClr val="9999ff"/>
                </a:solidFill>
                <a:uFillTx/>
                <a:latin typeface="Arial"/>
                <a:hlinkClick r:id="rId4"/>
              </a:rPr>
              <a:t>disolvente</a:t>
            </a:r>
            <a:r>
              <a:rPr b="0" lang="en-US" sz="2000" spc="-1" strike="noStrike" u="sng">
                <a:solidFill>
                  <a:srgbClr val="ffffff"/>
                </a:solidFill>
                <a:uFillTx/>
                <a:latin typeface="Arial"/>
              </a:rPr>
              <a:t> adecuado, forman siempre </a:t>
            </a:r>
            <a:r>
              <a:rPr b="0" lang="en-US" sz="2000" spc="-1" strike="noStrike" u="sng">
                <a:solidFill>
                  <a:srgbClr val="9999ff"/>
                </a:solidFill>
                <a:uFillTx/>
                <a:latin typeface="Arial"/>
                <a:hlinkClick r:id="rId5"/>
              </a:rPr>
              <a:t>dispersiones coloidales</a:t>
            </a:r>
            <a:r>
              <a:rPr b="0" lang="en-US" sz="2000" spc="-1" strike="noStrike" u="sng">
                <a:solidFill>
                  <a:srgbClr val="ffffff"/>
                </a:solidFill>
                <a:uFillTx/>
                <a:latin typeface="Arial"/>
              </a:rPr>
              <a:t>, con características que las diferencian de las disoluciones de moléculas más pequeñ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t>
            </a:r>
            <a:r>
              <a:rPr b="0" lang="en-US" sz="2000" spc="-1" strike="noStrike" u="sng">
                <a:solidFill>
                  <a:srgbClr val="9999ff"/>
                </a:solidFill>
                <a:uFillTx/>
                <a:latin typeface="Arial"/>
                <a:hlinkClick r:id="rId7"/>
              </a:rPr>
              <a:t>hidrólisis</a:t>
            </a:r>
            <a:r>
              <a:rPr b="0" lang="en-US" sz="2000" spc="-1" strike="noStrike" u="sng">
                <a:solidFill>
                  <a:srgbClr val="ffffff"/>
                </a:solidFill>
                <a:uFillTx/>
                <a:latin typeface="Arial"/>
              </a:rPr>
              <a:t>, las moléculas de proteína se escinden en numerosos compuestos relativamente simples, de masa pequeña, que son las unidades fundamentales constituyentes de la macromolécula. Estas unidades son los aminoácidos, de los cuales existen veinte especies diferentes y que se unen entre sí mediante enlaces peptídicos. Cientos y miles de estos aminoácidos pueden participar en la formación de la gran molécula polimérica de una prote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Funciones de las proteínas en nuestro organismo</a:t>
            </a:r>
            <a:br>
              <a:rPr sz="4000"/>
            </a:br>
            <a:endParaRPr b="0" lang="en-US" sz="40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el componente nitrogenado mayoritario de la dieta y el organismo, tienen una función meramente estructural o plástica, esto quiere decir que nos ayudan a construir y regenerar nuestros tejidos, no pudiendo ser reemplazadas por los carbohidratos o las grasas por no contener nitrógeno.</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además de esta función, también se caracterizan por:</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 reguladoras, Son materia prima para la formación de los jugos digestivos, hormonas, proteínas plasmáticas, hemoglobina, vitaminas y enzimas que llevan a cabo las reacciones químicas que se realizan en el organism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defensivas, en la formación de anticuerpos y factores de regulación que actúan contra infecciones o agentes extr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transporte, proteínas transportadoras de oxígeno en sangre como la hemoglobina.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ecesidad también cumplen una función energética aportando 4 kcal. por gramo de energía al organismo. </a:t>
            </a:r>
            <a:endParaRPr b="0" lang="en-US" sz="2000" spc="-1" strike="noStrike">
              <a:solidFill>
                <a:srgbClr val="ffffff"/>
              </a:solidFill>
              <a:latin typeface="Arial"/>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onan como amortiguadores, ayudando a mantener la reacción de diversos medios como el plasma. </a:t>
            </a:r>
            <a:endParaRPr b="0" lang="en-US" sz="2000" spc="-1" strike="noStrike">
              <a:solidFill>
                <a:srgbClr val="ffffff"/>
              </a:solidFill>
              <a:latin typeface="Arial"/>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proteínas actúan como catalizadores biológicos: son enzimas que aceleran la velocidad de las reacciones químicas del metabolismo.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ón La contracción muscular se realiza a través de la miosina y actina, proteínas contráctiles que permiten el movimiento celular. </a:t>
            </a:r>
            <a:endParaRPr b="0" lang="en-US" sz="2000" spc="-1" strike="noStrike">
              <a:solidFill>
                <a:srgbClr val="ffffff"/>
              </a:solidFill>
              <a:latin typeface="Arial"/>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resistencia. Formación de la estructura del organismo y de tejidos de sostén y relleno como el conjuntivo, colágeno, elastina y reticulin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ción La contracción muscular se realiza a través de la miosina y actina, proteínas contráctiles que permiten el movimiento celu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resistencia. Formación de la estructura del organismo y de tejidos de sostén y relleno como el conjuntivo, colágeno, elastina y reticulin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
          <p:cNvSpPr/>
          <p:nvPr/>
        </p:nvSpPr>
        <p:spPr>
          <a:xfrm>
            <a:off x="32432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Consumo de proteínas</a:t>
            </a:r>
            <a:br>
              <a:rPr sz="4000"/>
            </a:br>
            <a:endParaRPr b="0" lang="en-US" sz="40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todas las funciones que realizan, los alimentos proteicos son imprescindibles en nuestra dieta de todos los días. Los requerimientos proteicos diarios para un adulto se sitúan entre 0,8-1 gramo por cada kilo de peso corporal. Por ejemplo, en el caso de una persona de 65 kilos, el consumo recomendado sería entre 52 y 65 gramos, mientras que otra de 80 kilos, entre 64 y 80 gramos al día.</a:t>
            </a:r>
            <a:br>
              <a:rPr sz="2800"/>
            </a:br>
            <a:r>
              <a:rPr b="0" lang="en-US" sz="2800" spc="-1" strike="noStrike">
                <a:solidFill>
                  <a:srgbClr val="ffffff"/>
                </a:solidFill>
                <a:latin typeface="Arial"/>
              </a:rPr>
              <a:t>Como regla general, se recomienda que los adultos consuman entre 45 y 65 gramos de proteínas diarias, dependiendo de su peso (a mayor peso, mayores requerimient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1:00:39Z</dcterms:created>
  <dc:creator>jl</dc:creator>
  <dc:description/>
  <dc:language>en-US</dc:language>
  <cp:lastModifiedBy>jl</cp:lastModifiedBy>
  <dcterms:modified xsi:type="dcterms:W3CDTF">2009-10-14T01:01:51Z</dcterms:modified>
  <cp:revision>2</cp:revision>
  <dc:subject/>
  <dc:title>LAS PROTEINAS</dc:title>
</cp:coreProperties>
</file>