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A0F-457B-46DB-9379-F9CE52F0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864-6529-47CD-A4F4-CCEBBE7D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59E-954B-4D8D-8204-8D32D25B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F80-D802-4F8B-B4DE-76AB6B87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A5C-8AA7-47A5-98BF-B03607B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712-6E4C-4FF9-9D72-0F9B3982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C5D-AA47-4A4D-BDE1-F13C0C1B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C78-A086-435D-99B7-53A0DDC0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D31-A0FB-474B-ADBE-8FDC6BD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637-73FA-40AD-A67A-EDEB6CF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C55-4FCA-4FD8-98AA-5A0E438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CFD-DDAB-4F26-881D-3670476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D7FE-FFFB-41B1-84E0-5340177BF2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1476360" y="1125360"/>
            <a:ext cx="1295280" cy="432000"/>
          </a:xfrm>
          <a:custGeom>
            <a:avLst/>
            <a:gdLst>
              <a:gd name="textAreaLeft" fmla="*/ 27720 w 1295280"/>
              <a:gd name="textAreaRight" fmla="*/ 1267560 w 1295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6588000" y="1125360"/>
            <a:ext cx="1295640" cy="35892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7916" h="21600">
                <a:moveTo>
                  <a:pt x="0" y="0"/>
                </a:moveTo>
                <a:lnTo>
                  <a:pt x="77916" y="0"/>
                </a:lnTo>
                <a:lnTo>
                  <a:pt x="77916" y="21600"/>
                </a:lnTo>
                <a:lnTo>
                  <a:pt x="0" y="21600"/>
                </a:lnTo>
                <a:close/>
              </a:path>
              <a:path fill="lightenLess" w="77916" h="21600">
                <a:moveTo>
                  <a:pt x="0" y="0"/>
                </a:moveTo>
                <a:lnTo>
                  <a:pt x="77916" y="0"/>
                </a:lnTo>
                <a:lnTo>
                  <a:pt x="76516" y="1400"/>
                </a:lnTo>
                <a:lnTo>
                  <a:pt x="1400" y="1400"/>
                </a:lnTo>
                <a:close/>
              </a:path>
              <a:path fill="darken" w="77916" h="21600">
                <a:moveTo>
                  <a:pt x="77916" y="0"/>
                </a:moveTo>
                <a:lnTo>
                  <a:pt x="77916" y="21600"/>
                </a:lnTo>
                <a:lnTo>
                  <a:pt x="76516" y="20200"/>
                </a:lnTo>
                <a:lnTo>
                  <a:pt x="76516" y="1400"/>
                </a:lnTo>
                <a:close/>
              </a:path>
              <a:path fill="darkenLess" w="77916" h="21600">
                <a:moveTo>
                  <a:pt x="77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16" y="20200"/>
                </a:lnTo>
                <a:close/>
              </a:path>
              <a:path fill="lighten" w="77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5724360" y="1700280"/>
            <a:ext cx="3168720" cy="1657440"/>
          </a:xfrm>
          <a:custGeom>
            <a:avLst/>
            <a:gdLst>
              <a:gd name="textAreaLeft" fmla="*/ 107280 w 3168720"/>
              <a:gd name="textAreaRight" fmla="*/ 3061440 w 3168720"/>
              <a:gd name="textAreaTop" fmla="*/ 107280 h 1657440"/>
              <a:gd name="textAreaBottom" fmla="*/ 1550160 h 1657440"/>
            </a:gdLst>
            <a:ahLst/>
            <a:rect l="textAreaLeft" t="textAreaTop" r="textAreaRight" b="textAreaBottom"/>
            <a:pathLst>
              <a:path w="41291" h="21600">
                <a:moveTo>
                  <a:pt x="0" y="0"/>
                </a:moveTo>
                <a:lnTo>
                  <a:pt x="41291" y="0"/>
                </a:lnTo>
                <a:lnTo>
                  <a:pt x="41291" y="21600"/>
                </a:lnTo>
                <a:lnTo>
                  <a:pt x="0" y="21600"/>
                </a:lnTo>
                <a:close/>
              </a:path>
              <a:path fill="lightenLess" w="41291" h="21600">
                <a:moveTo>
                  <a:pt x="0" y="0"/>
                </a:moveTo>
                <a:lnTo>
                  <a:pt x="41291" y="0"/>
                </a:lnTo>
                <a:lnTo>
                  <a:pt x="39891" y="1400"/>
                </a:lnTo>
                <a:lnTo>
                  <a:pt x="1400" y="1400"/>
                </a:lnTo>
                <a:close/>
              </a:path>
              <a:path fill="darken" w="41291" h="21600">
                <a:moveTo>
                  <a:pt x="41291" y="0"/>
                </a:moveTo>
                <a:lnTo>
                  <a:pt x="41291" y="21600"/>
                </a:lnTo>
                <a:lnTo>
                  <a:pt x="39891" y="20200"/>
                </a:lnTo>
                <a:lnTo>
                  <a:pt x="39891" y="1400"/>
                </a:lnTo>
                <a:close/>
              </a:path>
              <a:path fill="darkenLess" w="41291" h="21600">
                <a:moveTo>
                  <a:pt x="41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91" y="20200"/>
                </a:lnTo>
                <a:close/>
              </a:path>
              <a:path fill="lighten" w="41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780000" y="220500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539640" y="1773360"/>
            <a:ext cx="3095640" cy="287280"/>
          </a:xfrm>
          <a:custGeom>
            <a:avLst/>
            <a:gdLst>
              <a:gd name="textAreaLeft" fmla="*/ 18360 w 3095640"/>
              <a:gd name="textAreaRight" fmla="*/ 3077280 w 3095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2491" h="21600">
                <a:moveTo>
                  <a:pt x="0" y="0"/>
                </a:moveTo>
                <a:lnTo>
                  <a:pt x="232491" y="0"/>
                </a:lnTo>
                <a:lnTo>
                  <a:pt x="232491" y="21600"/>
                </a:lnTo>
                <a:lnTo>
                  <a:pt x="0" y="21600"/>
                </a:lnTo>
                <a:close/>
              </a:path>
              <a:path fill="lightenLess" w="232491" h="21600">
                <a:moveTo>
                  <a:pt x="0" y="0"/>
                </a:moveTo>
                <a:lnTo>
                  <a:pt x="232491" y="0"/>
                </a:lnTo>
                <a:lnTo>
                  <a:pt x="231091" y="1400"/>
                </a:lnTo>
                <a:lnTo>
                  <a:pt x="1400" y="1400"/>
                </a:lnTo>
                <a:close/>
              </a:path>
              <a:path fill="darken" w="232491" h="21600">
                <a:moveTo>
                  <a:pt x="232491" y="0"/>
                </a:moveTo>
                <a:lnTo>
                  <a:pt x="232491" y="21600"/>
                </a:lnTo>
                <a:lnTo>
                  <a:pt x="231091" y="20200"/>
                </a:lnTo>
                <a:lnTo>
                  <a:pt x="231091" y="1400"/>
                </a:lnTo>
                <a:close/>
              </a:path>
              <a:path fill="darkenLess" w="232491" h="21600">
                <a:moveTo>
                  <a:pt x="23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91" y="20200"/>
                </a:lnTo>
                <a:close/>
              </a:path>
              <a:path fill="lighten" w="23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539640" y="2205000"/>
            <a:ext cx="3095640" cy="287280"/>
          </a:xfrm>
          <a:custGeom>
            <a:avLst/>
            <a:gdLst>
              <a:gd name="textAreaLeft" fmla="*/ 18360 w 3095640"/>
              <a:gd name="textAreaRight" fmla="*/ 3077280 w 3095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32491" h="21600">
                <a:moveTo>
                  <a:pt x="0" y="0"/>
                </a:moveTo>
                <a:lnTo>
                  <a:pt x="232491" y="0"/>
                </a:lnTo>
                <a:lnTo>
                  <a:pt x="232491" y="21600"/>
                </a:lnTo>
                <a:lnTo>
                  <a:pt x="0" y="21600"/>
                </a:lnTo>
                <a:close/>
              </a:path>
              <a:path fill="lightenLess" w="232491" h="21600">
                <a:moveTo>
                  <a:pt x="0" y="0"/>
                </a:moveTo>
                <a:lnTo>
                  <a:pt x="232491" y="0"/>
                </a:lnTo>
                <a:lnTo>
                  <a:pt x="231091" y="1400"/>
                </a:lnTo>
                <a:lnTo>
                  <a:pt x="1400" y="1400"/>
                </a:lnTo>
                <a:close/>
              </a:path>
              <a:path fill="darken" w="232491" h="21600">
                <a:moveTo>
                  <a:pt x="232491" y="0"/>
                </a:moveTo>
                <a:lnTo>
                  <a:pt x="232491" y="21600"/>
                </a:lnTo>
                <a:lnTo>
                  <a:pt x="231091" y="20200"/>
                </a:lnTo>
                <a:lnTo>
                  <a:pt x="231091" y="1400"/>
                </a:lnTo>
                <a:close/>
              </a:path>
              <a:path fill="darkenLess" w="232491" h="21600">
                <a:moveTo>
                  <a:pt x="232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91" y="20200"/>
                </a:lnTo>
                <a:close/>
              </a:path>
              <a:path fill="lighten" w="232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708280"/>
            <a:ext cx="2016000" cy="289080"/>
          </a:xfrm>
          <a:custGeom>
            <a:avLst/>
            <a:gdLst>
              <a:gd name="textAreaLeft" fmla="*/ 18720 w 2016000"/>
              <a:gd name="textAreaRight" fmla="*/ 1997280 w 2016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0475" h="21600">
                <a:moveTo>
                  <a:pt x="0" y="0"/>
                </a:moveTo>
                <a:lnTo>
                  <a:pt x="150475" y="0"/>
                </a:lnTo>
                <a:lnTo>
                  <a:pt x="150475" y="21600"/>
                </a:lnTo>
                <a:lnTo>
                  <a:pt x="0" y="21600"/>
                </a:lnTo>
                <a:close/>
              </a:path>
              <a:path fill="lightenLess" w="150475" h="21600">
                <a:moveTo>
                  <a:pt x="0" y="0"/>
                </a:moveTo>
                <a:lnTo>
                  <a:pt x="150475" y="0"/>
                </a:lnTo>
                <a:lnTo>
                  <a:pt x="149075" y="1400"/>
                </a:lnTo>
                <a:lnTo>
                  <a:pt x="1400" y="1400"/>
                </a:lnTo>
                <a:close/>
              </a:path>
              <a:path fill="darken" w="150475" h="21600">
                <a:moveTo>
                  <a:pt x="150475" y="0"/>
                </a:moveTo>
                <a:lnTo>
                  <a:pt x="150475" y="21600"/>
                </a:lnTo>
                <a:lnTo>
                  <a:pt x="149075" y="20200"/>
                </a:lnTo>
                <a:lnTo>
                  <a:pt x="149075" y="1400"/>
                </a:lnTo>
                <a:close/>
              </a:path>
              <a:path fill="darkenLess" w="150475" h="21600">
                <a:moveTo>
                  <a:pt x="15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075" y="20200"/>
                </a:lnTo>
                <a:close/>
              </a:path>
              <a:path fill="lighten" w="15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645000"/>
            <a:ext cx="1800360" cy="288720"/>
          </a:xfrm>
          <a:custGeom>
            <a:avLst/>
            <a:gdLst>
              <a:gd name="textAreaLeft" fmla="*/ 18720 w 1800360"/>
              <a:gd name="textAreaRight" fmla="*/ 1781640 w 180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34549" h="21600">
                <a:moveTo>
                  <a:pt x="0" y="0"/>
                </a:moveTo>
                <a:lnTo>
                  <a:pt x="134549" y="0"/>
                </a:lnTo>
                <a:lnTo>
                  <a:pt x="134549" y="21600"/>
                </a:lnTo>
                <a:lnTo>
                  <a:pt x="0" y="21600"/>
                </a:lnTo>
                <a:close/>
              </a:path>
              <a:path fill="lightenLess" w="134549" h="21600">
                <a:moveTo>
                  <a:pt x="0" y="0"/>
                </a:moveTo>
                <a:lnTo>
                  <a:pt x="134549" y="0"/>
                </a:lnTo>
                <a:lnTo>
                  <a:pt x="133150" y="1400"/>
                </a:lnTo>
                <a:lnTo>
                  <a:pt x="1400" y="1400"/>
                </a:lnTo>
                <a:close/>
              </a:path>
              <a:path fill="darken" w="134549" h="21600">
                <a:moveTo>
                  <a:pt x="134549" y="0"/>
                </a:moveTo>
                <a:lnTo>
                  <a:pt x="134549" y="21600"/>
                </a:lnTo>
                <a:lnTo>
                  <a:pt x="133150" y="20200"/>
                </a:lnTo>
                <a:lnTo>
                  <a:pt x="133150" y="1400"/>
                </a:lnTo>
                <a:close/>
              </a:path>
              <a:path fill="darkenLess" w="134549" h="21600">
                <a:moveTo>
                  <a:pt x="134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150" y="20200"/>
                </a:lnTo>
                <a:close/>
              </a:path>
              <a:path fill="lighten" w="134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4508640"/>
            <a:ext cx="1657440" cy="361800"/>
          </a:xfrm>
          <a:custGeom>
            <a:avLst/>
            <a:gdLst>
              <a:gd name="textAreaLeft" fmla="*/ 23400 w 1657440"/>
              <a:gd name="textAreaRight" fmla="*/ 1634040 w 16574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98875" h="21600">
                <a:moveTo>
                  <a:pt x="0" y="0"/>
                </a:moveTo>
                <a:lnTo>
                  <a:pt x="98875" y="0"/>
                </a:lnTo>
                <a:lnTo>
                  <a:pt x="98875" y="21600"/>
                </a:lnTo>
                <a:lnTo>
                  <a:pt x="0" y="21600"/>
                </a:lnTo>
                <a:close/>
              </a:path>
              <a:path fill="lightenLess" w="98875" h="21600">
                <a:moveTo>
                  <a:pt x="0" y="0"/>
                </a:moveTo>
                <a:lnTo>
                  <a:pt x="98875" y="0"/>
                </a:lnTo>
                <a:lnTo>
                  <a:pt x="97475" y="1400"/>
                </a:lnTo>
                <a:lnTo>
                  <a:pt x="1400" y="1400"/>
                </a:lnTo>
                <a:close/>
              </a:path>
              <a:path fill="darken" w="98875" h="21600">
                <a:moveTo>
                  <a:pt x="98875" y="0"/>
                </a:moveTo>
                <a:lnTo>
                  <a:pt x="98875" y="21600"/>
                </a:lnTo>
                <a:lnTo>
                  <a:pt x="97475" y="20200"/>
                </a:lnTo>
                <a:lnTo>
                  <a:pt x="97475" y="1400"/>
                </a:lnTo>
                <a:close/>
              </a:path>
              <a:path fill="darkenLess" w="98875" h="21600">
                <a:moveTo>
                  <a:pt x="9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475" y="20200"/>
                </a:lnTo>
                <a:close/>
              </a:path>
              <a:path fill="lighten" w="9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95008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1:00:14Z</dcterms:created>
  <dc:creator>lcastillo</dc:creator>
  <dc:description/>
  <dc:language>en-US</dc:language>
  <cp:lastModifiedBy>aphillips</cp:lastModifiedBy>
  <dcterms:modified xsi:type="dcterms:W3CDTF">2009-05-04T12:59:21Z</dcterms:modified>
  <cp:revision>10</cp:revision>
  <dc:subject/>
  <dc:title>Diapositiva 1</dc:title>
</cp:coreProperties>
</file>