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7DF-2FD6-4CD2-A089-C2A01D45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DCC-EEB4-4FF8-B47A-25522F2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8C2-E627-4B85-90E2-E1E2D4F5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1FC-6F34-4828-94C3-4B26F191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D7D-C385-4AA0-8E25-418988BE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00F-9ED1-4ECC-AF3B-0BD4F1F8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17F-8A8E-4E5D-BAD0-E58A38B7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389-75BB-4D7C-A2FF-2153932C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2D7-92C3-4A9E-8E5B-053191E7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A06-8E7D-4548-92EA-3F51E14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24E-A829-481B-B9B0-7C07463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914-C2F3-420C-8FEA-BD420B44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BF5A-6AE5-4258-BCEF-6534EBA89B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" Target="slide9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1476360" y="1125360"/>
            <a:ext cx="1295280" cy="432000"/>
          </a:xfrm>
          <a:custGeom>
            <a:avLst/>
            <a:gdLst>
              <a:gd name="textAreaLeft" fmla="*/ 27720 w 1295280"/>
              <a:gd name="textAreaRight" fmla="*/ 1267560 w 1295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6588000" y="1125360"/>
            <a:ext cx="1295640" cy="358920"/>
          </a:xfrm>
          <a:custGeom>
            <a:avLst/>
            <a:gdLst>
              <a:gd name="textAreaLeft" fmla="*/ 23040 w 1295640"/>
              <a:gd name="textAreaRight" fmla="*/ 1272600 w 129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77916" h="21600">
                <a:moveTo>
                  <a:pt x="0" y="0"/>
                </a:moveTo>
                <a:lnTo>
                  <a:pt x="77916" y="0"/>
                </a:lnTo>
                <a:lnTo>
                  <a:pt x="77916" y="21600"/>
                </a:lnTo>
                <a:lnTo>
                  <a:pt x="0" y="21600"/>
                </a:lnTo>
                <a:close/>
              </a:path>
              <a:path fill="lightenLess" w="77916" h="21600">
                <a:moveTo>
                  <a:pt x="0" y="0"/>
                </a:moveTo>
                <a:lnTo>
                  <a:pt x="77916" y="0"/>
                </a:lnTo>
                <a:lnTo>
                  <a:pt x="76516" y="1400"/>
                </a:lnTo>
                <a:lnTo>
                  <a:pt x="1400" y="1400"/>
                </a:lnTo>
                <a:close/>
              </a:path>
              <a:path fill="darken" w="77916" h="21600">
                <a:moveTo>
                  <a:pt x="77916" y="0"/>
                </a:moveTo>
                <a:lnTo>
                  <a:pt x="77916" y="21600"/>
                </a:lnTo>
                <a:lnTo>
                  <a:pt x="76516" y="20200"/>
                </a:lnTo>
                <a:lnTo>
                  <a:pt x="76516" y="1400"/>
                </a:lnTo>
                <a:close/>
              </a:path>
              <a:path fill="darkenLess" w="77916" h="21600">
                <a:moveTo>
                  <a:pt x="77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16" y="20200"/>
                </a:lnTo>
                <a:close/>
              </a:path>
              <a:path fill="lighten" w="77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5724360" y="1700280"/>
            <a:ext cx="3168720" cy="1657440"/>
          </a:xfrm>
          <a:custGeom>
            <a:avLst/>
            <a:gdLst>
              <a:gd name="textAreaLeft" fmla="*/ 107280 w 3168720"/>
              <a:gd name="textAreaRight" fmla="*/ 3061440 w 3168720"/>
              <a:gd name="textAreaTop" fmla="*/ 107280 h 1657440"/>
              <a:gd name="textAreaBottom" fmla="*/ 1550160 h 1657440"/>
            </a:gdLst>
            <a:ahLst/>
            <a:rect l="textAreaLeft" t="textAreaTop" r="textAreaRight" b="textAreaBottom"/>
            <a:pathLst>
              <a:path w="41291" h="21600">
                <a:moveTo>
                  <a:pt x="0" y="0"/>
                </a:moveTo>
                <a:lnTo>
                  <a:pt x="41291" y="0"/>
                </a:lnTo>
                <a:lnTo>
                  <a:pt x="41291" y="21600"/>
                </a:lnTo>
                <a:lnTo>
                  <a:pt x="0" y="21600"/>
                </a:lnTo>
                <a:close/>
              </a:path>
              <a:path fill="lightenLess" w="41291" h="21600">
                <a:moveTo>
                  <a:pt x="0" y="0"/>
                </a:moveTo>
                <a:lnTo>
                  <a:pt x="41291" y="0"/>
                </a:lnTo>
                <a:lnTo>
                  <a:pt x="39891" y="1400"/>
                </a:lnTo>
                <a:lnTo>
                  <a:pt x="1400" y="1400"/>
                </a:lnTo>
                <a:close/>
              </a:path>
              <a:path fill="darken" w="41291" h="21600">
                <a:moveTo>
                  <a:pt x="41291" y="0"/>
                </a:moveTo>
                <a:lnTo>
                  <a:pt x="41291" y="21600"/>
                </a:lnTo>
                <a:lnTo>
                  <a:pt x="39891" y="20200"/>
                </a:lnTo>
                <a:lnTo>
                  <a:pt x="39891" y="1400"/>
                </a:lnTo>
                <a:close/>
              </a:path>
              <a:path fill="darkenLess" w="41291" h="21600">
                <a:moveTo>
                  <a:pt x="41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91" y="20200"/>
                </a:lnTo>
                <a:close/>
              </a:path>
              <a:path fill="lighten" w="41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780000" y="2205000"/>
            <a:ext cx="1728720" cy="36036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38" h="21600">
                <a:moveTo>
                  <a:pt x="0" y="0"/>
                </a:moveTo>
                <a:lnTo>
                  <a:pt x="103538" y="0"/>
                </a:lnTo>
                <a:lnTo>
                  <a:pt x="103538" y="21600"/>
                </a:lnTo>
                <a:lnTo>
                  <a:pt x="0" y="21600"/>
                </a:lnTo>
                <a:close/>
              </a:path>
              <a:path fill="lightenLess" w="103538" h="21600">
                <a:moveTo>
                  <a:pt x="0" y="0"/>
                </a:moveTo>
                <a:lnTo>
                  <a:pt x="103538" y="0"/>
                </a:lnTo>
                <a:lnTo>
                  <a:pt x="102138" y="1400"/>
                </a:lnTo>
                <a:lnTo>
                  <a:pt x="1400" y="1400"/>
                </a:lnTo>
                <a:close/>
              </a:path>
              <a:path fill="darken" w="103538" h="21600">
                <a:moveTo>
                  <a:pt x="103538" y="0"/>
                </a:moveTo>
                <a:lnTo>
                  <a:pt x="103538" y="21600"/>
                </a:lnTo>
                <a:lnTo>
                  <a:pt x="102138" y="20200"/>
                </a:lnTo>
                <a:lnTo>
                  <a:pt x="102138" y="1400"/>
                </a:lnTo>
                <a:close/>
              </a:path>
              <a:path fill="darkenLess" w="103538" h="21600">
                <a:moveTo>
                  <a:pt x="10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8" y="20200"/>
                </a:lnTo>
                <a:close/>
              </a:path>
              <a:path fill="lighten" w="10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539640" y="1773360"/>
            <a:ext cx="3095640" cy="287280"/>
          </a:xfrm>
          <a:custGeom>
            <a:avLst/>
            <a:gdLst>
              <a:gd name="textAreaLeft" fmla="*/ 18360 w 3095640"/>
              <a:gd name="textAreaRight" fmla="*/ 3077280 w 3095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2491" h="21600">
                <a:moveTo>
                  <a:pt x="0" y="0"/>
                </a:moveTo>
                <a:lnTo>
                  <a:pt x="232491" y="0"/>
                </a:lnTo>
                <a:lnTo>
                  <a:pt x="232491" y="21600"/>
                </a:lnTo>
                <a:lnTo>
                  <a:pt x="0" y="21600"/>
                </a:lnTo>
                <a:close/>
              </a:path>
              <a:path fill="lightenLess" w="232491" h="21600">
                <a:moveTo>
                  <a:pt x="0" y="0"/>
                </a:moveTo>
                <a:lnTo>
                  <a:pt x="232491" y="0"/>
                </a:lnTo>
                <a:lnTo>
                  <a:pt x="231091" y="1400"/>
                </a:lnTo>
                <a:lnTo>
                  <a:pt x="1400" y="1400"/>
                </a:lnTo>
                <a:close/>
              </a:path>
              <a:path fill="darken" w="232491" h="21600">
                <a:moveTo>
                  <a:pt x="232491" y="0"/>
                </a:moveTo>
                <a:lnTo>
                  <a:pt x="232491" y="21600"/>
                </a:lnTo>
                <a:lnTo>
                  <a:pt x="231091" y="20200"/>
                </a:lnTo>
                <a:lnTo>
                  <a:pt x="231091" y="1400"/>
                </a:lnTo>
                <a:close/>
              </a:path>
              <a:path fill="darkenLess" w="232491" h="21600">
                <a:moveTo>
                  <a:pt x="232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91" y="20200"/>
                </a:lnTo>
                <a:close/>
              </a:path>
              <a:path fill="lighten" w="232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539640" y="2205000"/>
            <a:ext cx="3095640" cy="287280"/>
          </a:xfrm>
          <a:custGeom>
            <a:avLst/>
            <a:gdLst>
              <a:gd name="textAreaLeft" fmla="*/ 18360 w 3095640"/>
              <a:gd name="textAreaRight" fmla="*/ 3077280 w 3095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2491" h="21600">
                <a:moveTo>
                  <a:pt x="0" y="0"/>
                </a:moveTo>
                <a:lnTo>
                  <a:pt x="232491" y="0"/>
                </a:lnTo>
                <a:lnTo>
                  <a:pt x="232491" y="21600"/>
                </a:lnTo>
                <a:lnTo>
                  <a:pt x="0" y="21600"/>
                </a:lnTo>
                <a:close/>
              </a:path>
              <a:path fill="lightenLess" w="232491" h="21600">
                <a:moveTo>
                  <a:pt x="0" y="0"/>
                </a:moveTo>
                <a:lnTo>
                  <a:pt x="232491" y="0"/>
                </a:lnTo>
                <a:lnTo>
                  <a:pt x="231091" y="1400"/>
                </a:lnTo>
                <a:lnTo>
                  <a:pt x="1400" y="1400"/>
                </a:lnTo>
                <a:close/>
              </a:path>
              <a:path fill="darken" w="232491" h="21600">
                <a:moveTo>
                  <a:pt x="232491" y="0"/>
                </a:moveTo>
                <a:lnTo>
                  <a:pt x="232491" y="21600"/>
                </a:lnTo>
                <a:lnTo>
                  <a:pt x="231091" y="20200"/>
                </a:lnTo>
                <a:lnTo>
                  <a:pt x="231091" y="1400"/>
                </a:lnTo>
                <a:close/>
              </a:path>
              <a:path fill="darkenLess" w="232491" h="21600">
                <a:moveTo>
                  <a:pt x="232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91" y="20200"/>
                </a:lnTo>
                <a:close/>
              </a:path>
              <a:path fill="lighten" w="232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708280"/>
            <a:ext cx="2016000" cy="289080"/>
          </a:xfrm>
          <a:custGeom>
            <a:avLst/>
            <a:gdLst>
              <a:gd name="textAreaLeft" fmla="*/ 18720 w 2016000"/>
              <a:gd name="textAreaRight" fmla="*/ 1997280 w 2016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50475" h="21600">
                <a:moveTo>
                  <a:pt x="0" y="0"/>
                </a:moveTo>
                <a:lnTo>
                  <a:pt x="150475" y="0"/>
                </a:lnTo>
                <a:lnTo>
                  <a:pt x="150475" y="21600"/>
                </a:lnTo>
                <a:lnTo>
                  <a:pt x="0" y="21600"/>
                </a:lnTo>
                <a:close/>
              </a:path>
              <a:path fill="lightenLess" w="150475" h="21600">
                <a:moveTo>
                  <a:pt x="0" y="0"/>
                </a:moveTo>
                <a:lnTo>
                  <a:pt x="150475" y="0"/>
                </a:lnTo>
                <a:lnTo>
                  <a:pt x="149075" y="1400"/>
                </a:lnTo>
                <a:lnTo>
                  <a:pt x="1400" y="1400"/>
                </a:lnTo>
                <a:close/>
              </a:path>
              <a:path fill="darken" w="150475" h="21600">
                <a:moveTo>
                  <a:pt x="150475" y="0"/>
                </a:moveTo>
                <a:lnTo>
                  <a:pt x="150475" y="21600"/>
                </a:lnTo>
                <a:lnTo>
                  <a:pt x="149075" y="20200"/>
                </a:lnTo>
                <a:lnTo>
                  <a:pt x="149075" y="1400"/>
                </a:lnTo>
                <a:close/>
              </a:path>
              <a:path fill="darkenLess" w="150475" h="21600">
                <a:moveTo>
                  <a:pt x="150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075" y="20200"/>
                </a:lnTo>
                <a:close/>
              </a:path>
              <a:path fill="lighten" w="150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3645000"/>
            <a:ext cx="1800360" cy="288720"/>
          </a:xfrm>
          <a:custGeom>
            <a:avLst/>
            <a:gdLst>
              <a:gd name="textAreaLeft" fmla="*/ 18720 w 1800360"/>
              <a:gd name="textAreaRight" fmla="*/ 1781640 w 180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34549" h="21600">
                <a:moveTo>
                  <a:pt x="0" y="0"/>
                </a:moveTo>
                <a:lnTo>
                  <a:pt x="134549" y="0"/>
                </a:lnTo>
                <a:lnTo>
                  <a:pt x="134549" y="21600"/>
                </a:lnTo>
                <a:lnTo>
                  <a:pt x="0" y="21600"/>
                </a:lnTo>
                <a:close/>
              </a:path>
              <a:path fill="lightenLess" w="134549" h="21600">
                <a:moveTo>
                  <a:pt x="0" y="0"/>
                </a:moveTo>
                <a:lnTo>
                  <a:pt x="134549" y="0"/>
                </a:lnTo>
                <a:lnTo>
                  <a:pt x="133150" y="1400"/>
                </a:lnTo>
                <a:lnTo>
                  <a:pt x="1400" y="1400"/>
                </a:lnTo>
                <a:close/>
              </a:path>
              <a:path fill="darken" w="134549" h="21600">
                <a:moveTo>
                  <a:pt x="134549" y="0"/>
                </a:moveTo>
                <a:lnTo>
                  <a:pt x="134549" y="21600"/>
                </a:lnTo>
                <a:lnTo>
                  <a:pt x="133150" y="20200"/>
                </a:lnTo>
                <a:lnTo>
                  <a:pt x="133150" y="1400"/>
                </a:lnTo>
                <a:close/>
              </a:path>
              <a:path fill="darkenLess" w="134549" h="21600">
                <a:moveTo>
                  <a:pt x="134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150" y="20200"/>
                </a:lnTo>
                <a:close/>
              </a:path>
              <a:path fill="lighten" w="134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4508640"/>
            <a:ext cx="1657440" cy="361800"/>
          </a:xfrm>
          <a:custGeom>
            <a:avLst/>
            <a:gdLst>
              <a:gd name="textAreaLeft" fmla="*/ 23400 w 1657440"/>
              <a:gd name="textAreaRight" fmla="*/ 1634040 w 16574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98875" h="21600">
                <a:moveTo>
                  <a:pt x="0" y="0"/>
                </a:moveTo>
                <a:lnTo>
                  <a:pt x="98875" y="0"/>
                </a:lnTo>
                <a:lnTo>
                  <a:pt x="98875" y="21600"/>
                </a:lnTo>
                <a:lnTo>
                  <a:pt x="0" y="21600"/>
                </a:lnTo>
                <a:close/>
              </a:path>
              <a:path fill="lightenLess" w="98875" h="21600">
                <a:moveTo>
                  <a:pt x="0" y="0"/>
                </a:moveTo>
                <a:lnTo>
                  <a:pt x="98875" y="0"/>
                </a:lnTo>
                <a:lnTo>
                  <a:pt x="97475" y="1400"/>
                </a:lnTo>
                <a:lnTo>
                  <a:pt x="1400" y="1400"/>
                </a:lnTo>
                <a:close/>
              </a:path>
              <a:path fill="darken" w="98875" h="21600">
                <a:moveTo>
                  <a:pt x="98875" y="0"/>
                </a:moveTo>
                <a:lnTo>
                  <a:pt x="98875" y="21600"/>
                </a:lnTo>
                <a:lnTo>
                  <a:pt x="97475" y="20200"/>
                </a:lnTo>
                <a:lnTo>
                  <a:pt x="97475" y="1400"/>
                </a:lnTo>
                <a:close/>
              </a:path>
              <a:path fill="darkenLess" w="98875" h="21600">
                <a:moveTo>
                  <a:pt x="9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475" y="20200"/>
                </a:lnTo>
                <a:close/>
              </a:path>
              <a:path fill="lighten" w="9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95008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1:00:14Z</dcterms:created>
  <dc:creator>lcastillo</dc:creator>
  <dc:description/>
  <dc:language>en-US</dc:language>
  <cp:lastModifiedBy>aphillips</cp:lastModifiedBy>
  <dcterms:modified xsi:type="dcterms:W3CDTF">2009-05-04T12:59:21Z</dcterms:modified>
  <cp:revision>10</cp:revision>
  <dc:subject/>
  <dc:title>Diapositiva 1</dc:title>
</cp:coreProperties>
</file>