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C675-F7FE-44E3-B938-1E3DB4791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7C0B-C41B-4886-A2FE-4B03ECD1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B955-16FB-4BE4-A118-8464E75FD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4618-4300-451F-A33C-8ED9A5A79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6470-5EF9-44D6-A409-CA69C269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72E5-8F9A-4394-8EA6-6CFEE592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7A28-B425-4672-BDF6-3FBB2D40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82D0-A2D2-40BC-8409-C351714D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D024-9B3F-4DBC-8DE2-F883A3AC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03CB-71F4-46B3-948D-CFC63FBA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4FEC-ED46-4801-9299-2481366C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BCD7-4037-495A-866E-89073EB7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905D-09DF-4EB9-A480-D9546D990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4000" y="1197000"/>
            <a:ext cx="36036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19640" y="2205000"/>
            <a:ext cx="3168360" cy="432000"/>
          </a:xfrm>
          <a:prstGeom prst="wedgeRoundRectCallout">
            <a:avLst>
              <a:gd name="adj1" fmla="val -142736"/>
              <a:gd name="adj2" fmla="val -23051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COLLIR L’OPCIÓ CALEND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995640" y="1125360"/>
            <a:ext cx="3240360" cy="1798920"/>
          </a:xfrm>
          <a:prstGeom prst="wedgeRoundRectCallout">
            <a:avLst>
              <a:gd name="adj1" fmla="val -55782"/>
              <a:gd name="adj2" fmla="val 7842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ERCIO D’UN ESDEVENIMENT CLICANT SOBRE UN DIA AMB EL RATOLÍ, QUAN TENIM VARIS CALENDARIS AMB OPCIONS D’EDICIÓ ES PODEN CREAR ESDEVENIMENTS EN EL CALENDARI ESCOLL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859280" y="692280"/>
            <a:ext cx="3168720" cy="504720"/>
          </a:xfrm>
          <a:prstGeom prst="wedgeRoundRectCallout">
            <a:avLst>
              <a:gd name="adj1" fmla="val 51550"/>
              <a:gd name="adj2" fmla="val 18396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COLLIR LA VISTA DEL CALENDARI  DEJITJ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068640"/>
            <a:ext cx="971640" cy="1584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03280" y="2924280"/>
            <a:ext cx="3097440" cy="720720"/>
          </a:xfrm>
          <a:prstGeom prst="wedgeRoundRectCallout">
            <a:avLst>
              <a:gd name="adj1" fmla="val -68143"/>
              <a:gd name="adj2" fmla="val 7709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LENDARIS DISPONI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780000" y="1413000"/>
            <a:ext cx="3168360" cy="1008000"/>
          </a:xfrm>
          <a:prstGeom prst="wedgeRoundRectCallout">
            <a:avLst>
              <a:gd name="adj1" fmla="val 38328"/>
              <a:gd name="adj2" fmla="val 11519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DEVENIMENTS (CADA COLOR INDICA DEL CALENDARI ON S’HA GENERAT L’ESDEVENI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08720" y="4076640"/>
            <a:ext cx="3168720" cy="289080"/>
          </a:xfrm>
          <a:prstGeom prst="wedgeRoundRectCallout">
            <a:avLst>
              <a:gd name="adj1" fmla="val -59972"/>
              <a:gd name="adj2" fmla="val 8956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ALL D’UN ESDEVI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44640"/>
            <a:ext cx="97164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3168720" cy="1440000"/>
          </a:xfrm>
          <a:prstGeom prst="wedgeRoundRectCallout">
            <a:avLst>
              <a:gd name="adj1" fmla="val -81263"/>
              <a:gd name="adj2" fmla="val -8958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 CREAR UN ESDEVIMENT CLICA SOBRE AQUESTO OPCIIÓ O SITUAT DINS D’UN DIA DEL CALENDARI I CLICA AMB EL BOTÓ ESQUERRA DEL RATOLI DOS COP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427640" y="1197000"/>
            <a:ext cx="3168720" cy="576360"/>
          </a:xfrm>
          <a:prstGeom prst="wedgeRoundRectCallout">
            <a:avLst>
              <a:gd name="adj1" fmla="val -53004"/>
              <a:gd name="adj2" fmla="val 11060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MULARI PER AFEGIR UN ESDEVENI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71640" y="1773360"/>
            <a:ext cx="5113080" cy="2663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56360" y="2060640"/>
            <a:ext cx="2663640" cy="331308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56000" y="4724280"/>
            <a:ext cx="3168360" cy="576360"/>
          </a:xfrm>
          <a:prstGeom prst="wedgeRoundRectCallout">
            <a:avLst>
              <a:gd name="adj1" fmla="val 71041"/>
              <a:gd name="adj2" fmla="val -12575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IONS D’ ESDEVENI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CR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780000" y="1413000"/>
            <a:ext cx="3168360" cy="792000"/>
          </a:xfrm>
          <a:prstGeom prst="wedgeRoundRectCallout">
            <a:avLst>
              <a:gd name="adj1" fmla="val -139430"/>
              <a:gd name="adj2" fmla="val 22655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MPLE DE MOLTS CALENDARIS I ELS SEUS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076640"/>
            <a:ext cx="97164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40360" y="3716280"/>
            <a:ext cx="3744720" cy="1152720"/>
          </a:xfrm>
          <a:prstGeom prst="wedgeRoundRectCallout">
            <a:avLst>
              <a:gd name="adj1" fmla="val -135800"/>
              <a:gd name="adj2" fmla="val -100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CULL L’OPCIÓ CONFIGURACIÓ PER  ESTABLIR O CANVIAR OPCIONS DEL TEUS CALENDARIS I L’OPCIÓ CREA PER CREAR UN NOU CALEND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71640" y="1773360"/>
            <a:ext cx="143964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51280" y="1268280"/>
            <a:ext cx="3168720" cy="576360"/>
          </a:xfrm>
          <a:prstGeom prst="wedgeRoundRectCallout">
            <a:avLst>
              <a:gd name="adj1" fmla="val -98097"/>
              <a:gd name="adj2" fmla="val 7672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IGURACIÓ CALENDARI I LES SEVES PESTAN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2852640"/>
            <a:ext cx="817236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75280" y="1916280"/>
            <a:ext cx="3168720" cy="576000"/>
          </a:xfrm>
          <a:prstGeom prst="wedgeRoundRectCallout">
            <a:avLst>
              <a:gd name="adj1" fmla="val -13374"/>
              <a:gd name="adj2" fmla="val 12493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IGURACIÓ CALENDARI PROP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71640" y="2421000"/>
            <a:ext cx="2376360" cy="2160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42920" y="3500280"/>
            <a:ext cx="2376720" cy="2160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16360" y="5229360"/>
            <a:ext cx="3168720" cy="576000"/>
          </a:xfrm>
          <a:prstGeom prst="wedgeRoundRectCallout">
            <a:avLst>
              <a:gd name="adj1" fmla="val -102953"/>
              <a:gd name="adj2" fmla="val -33512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RES CALENDARIS IMPORTA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71640" y="1773360"/>
            <a:ext cx="14396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51280" y="1268280"/>
            <a:ext cx="3168720" cy="576360"/>
          </a:xfrm>
          <a:prstGeom prst="wedgeRoundRectCallout">
            <a:avLst>
              <a:gd name="adj1" fmla="val -98097"/>
              <a:gd name="adj2" fmla="val 7672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CIÓ D’UN NOU CALEND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42920" y="4508640"/>
            <a:ext cx="7850160" cy="1512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2924280"/>
            <a:ext cx="3168720" cy="1081080"/>
          </a:xfrm>
          <a:prstGeom prst="wedgeRoundRectCallout">
            <a:avLst>
              <a:gd name="adj1" fmla="val -46342"/>
              <a:gd name="adj2" fmla="val 11740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 COMPARTIR EL NOSTRE CALENDARI AMB TOTHOM O BÉ EN PERSONES O GRUPS CONCR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5877000"/>
            <a:ext cx="2268360" cy="865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16360" y="3933720"/>
            <a:ext cx="3168720" cy="935280"/>
          </a:xfrm>
          <a:prstGeom prst="wedgeRoundRectCallout">
            <a:avLst>
              <a:gd name="adj1" fmla="val -139430"/>
              <a:gd name="adj2" fmla="val 18429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 AFEGIR CALENDARIS D’ALTRES COMPANYS CLIQUEU SOBRE AQUESTA OPCI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3205080" y="-2619360"/>
            <a:ext cx="16002000" cy="10001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156360" y="404640"/>
            <a:ext cx="3168720" cy="1081440"/>
          </a:xfrm>
          <a:prstGeom prst="wedgeRoundRectCallout">
            <a:avLst>
              <a:gd name="adj1" fmla="val -55912"/>
              <a:gd name="adj2" fmla="val 16365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EU AQUÍ L’ADREÇA DE CORREU DE LA PERSONA O GRUP QUE VOLEU AFEGIR EL SEU CALEND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84720" y="4365720"/>
            <a:ext cx="3456000" cy="1871640"/>
          </a:xfrm>
          <a:prstGeom prst="wedgeRoundRectCallout">
            <a:avLst>
              <a:gd name="adj1" fmla="val -59185"/>
              <a:gd name="adj2" fmla="val -12845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 RECOMANA AFEGIR ELS CORREUS DE VARIS GRUPS CREATS COM D’ALUMNES, SORTIDES, REUNIONS, PER FER-HO MIREU EL FITXER EXCEL QUE HE COMPARTIT AMB VOSALTRES PEL GOOGLE D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23:44:38Z</dcterms:created>
  <dc:creator>paco_m</dc:creator>
  <dc:description/>
  <dc:language>en-US</dc:language>
  <cp:lastModifiedBy>paco_m</cp:lastModifiedBy>
  <dcterms:modified xsi:type="dcterms:W3CDTF">2010-01-27T00:44:44Z</dcterms:modified>
  <cp:revision>9</cp:revision>
  <dc:subject/>
  <dc:title>Diapositiva 1</dc:title>
</cp:coreProperties>
</file>