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6DC-CFBF-42C2-BEDB-3C60C89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5F5-AECA-452E-A3FF-D638084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B31-E6D4-4F5F-9419-F6FAA53F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1A2-B6B9-41A2-A839-53322F26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ABE-EC5F-4579-A458-2969221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CAE-E6A1-446D-BB34-E348D406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310-EEBC-4C7C-AB98-C5DFBD4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36B-9F5F-4705-A770-3454D32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FD3-D885-40B8-A77E-1B0B8BAE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253-BC3F-40C2-8C5C-D7AAC7B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1CA-8904-4ECE-938D-EF396EB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0CC-DD43-4F44-9BDD-B6DF63D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23B-0D9D-40AD-BBAD-59B227F6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19700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2205000"/>
            <a:ext cx="316836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95640" y="1125360"/>
            <a:ext cx="3240360" cy="1798920"/>
          </a:xfrm>
          <a:prstGeom prst="wedgeRoundRectCallout">
            <a:avLst>
              <a:gd name="adj1" fmla="val -55782"/>
              <a:gd name="adj2" fmla="val 78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CIO D’UN ESDEVENIMENT CLICANT SOBRE UN DIA AMB EL RATOLÍ, QUAN TENIM VARIS CALENDARIS AMB OPCIONS D’EDICIÓ ES PODEN CREAR ESDEVENIMENTS EN EL CALENDARI ESCOL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59280" y="692280"/>
            <a:ext cx="3168720" cy="504720"/>
          </a:xfrm>
          <a:prstGeom prst="wedgeRoundRectCallout">
            <a:avLst>
              <a:gd name="adj1" fmla="val 51550"/>
              <a:gd name="adj2" fmla="val 183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A VISTA DEL CALENDARI  DEJITJ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68640"/>
            <a:ext cx="97164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924280"/>
            <a:ext cx="3097440" cy="720720"/>
          </a:xfrm>
          <a:prstGeom prst="wedgeRoundRectCallout">
            <a:avLst>
              <a:gd name="adj1" fmla="val -68143"/>
              <a:gd name="adj2" fmla="val 77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ENDARI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0000" y="1413000"/>
            <a:ext cx="3168360" cy="1008000"/>
          </a:xfrm>
          <a:prstGeom prst="wedgeRoundRectCallout">
            <a:avLst>
              <a:gd name="adj1" fmla="val 38328"/>
              <a:gd name="adj2" fmla="val 11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DEVENIMENTS (CADA COLOR INDICA DEL CALENDARI ON S’HA GENERAT L’ESDEVENI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076640"/>
            <a:ext cx="3168720" cy="289080"/>
          </a:xfrm>
          <a:prstGeom prst="wedgeRoundRectCallout">
            <a:avLst>
              <a:gd name="adj1" fmla="val -59972"/>
              <a:gd name="adj2" fmla="val 89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L D’UN ESDEV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44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3168720" cy="1440000"/>
          </a:xfrm>
          <a:prstGeom prst="wedgeRoundRectCallout">
            <a:avLst>
              <a:gd name="adj1" fmla="val -81263"/>
              <a:gd name="adj2" fmla="val -895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REAR UN ESDEVIMENT CLICA SOBRE AQUESTO OPCIIÓ O SITUAT DINS D’UN DIA DEL CALENDARI I CLICA AMB EL BOTÓ ESQUERRA DEL RATOLI DOS C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7640" y="1197000"/>
            <a:ext cx="3168720" cy="576360"/>
          </a:xfrm>
          <a:prstGeom prst="wedgeRoundRectCallout">
            <a:avLst>
              <a:gd name="adj1" fmla="val -53004"/>
              <a:gd name="adj2" fmla="val 110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ULARI PER AFEGIR UN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773360"/>
            <a:ext cx="5113080" cy="26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060640"/>
            <a:ext cx="2663640" cy="3313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724280"/>
            <a:ext cx="3168360" cy="576360"/>
          </a:xfrm>
          <a:prstGeom prst="wedgeRoundRectCallout">
            <a:avLst>
              <a:gd name="adj1" fmla="val 71041"/>
              <a:gd name="adj2" fmla="val -125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IONS D’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R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1413000"/>
            <a:ext cx="3168360" cy="792000"/>
          </a:xfrm>
          <a:prstGeom prst="wedgeRoundRectCallout">
            <a:avLst>
              <a:gd name="adj1" fmla="val -139430"/>
              <a:gd name="adj2" fmla="val 226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MPLE DE MOLTS CALENDARIS I ELS SEUS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76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716280"/>
            <a:ext cx="3744720" cy="1152720"/>
          </a:xfrm>
          <a:prstGeom prst="wedgeRoundRectCallout">
            <a:avLst>
              <a:gd name="adj1" fmla="val -135800"/>
              <a:gd name="adj2" fmla="val -10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L’OPCIÓ CONFIGURACIÓ PER  ESTABLIR O CANVIAR OPCIONS DEL TEUS CALENDARIS I L’OPCIÓ CREA PER CREAR 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773360"/>
            <a:ext cx="1439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I LES SEVES PESTAN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852640"/>
            <a:ext cx="8172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5280" y="1916280"/>
            <a:ext cx="3168720" cy="576000"/>
          </a:xfrm>
          <a:prstGeom prst="wedgeRoundRectCallout">
            <a:avLst>
              <a:gd name="adj1" fmla="val -13374"/>
              <a:gd name="adj2" fmla="val 124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PRO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21000"/>
            <a:ext cx="237636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500280"/>
            <a:ext cx="237672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229360"/>
            <a:ext cx="3168720" cy="576000"/>
          </a:xfrm>
          <a:prstGeom prst="wedgeRoundRectCallout">
            <a:avLst>
              <a:gd name="adj1" fmla="val -102953"/>
              <a:gd name="adj2" fmla="val -335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RES CALENDARIS IMPOR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773360"/>
            <a:ext cx="143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CIÓ D’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508640"/>
            <a:ext cx="7850160" cy="151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24280"/>
            <a:ext cx="3168720" cy="1081080"/>
          </a:xfrm>
          <a:prstGeom prst="wedgeRoundRectCallout">
            <a:avLst>
              <a:gd name="adj1" fmla="val -46342"/>
              <a:gd name="adj2" fmla="val 117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MPARTIR EL NOSTRE CALENDARI AMB TOTHOM O BÉ EN PERSONES O GRUPS CONCR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877000"/>
            <a:ext cx="226836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3933720"/>
            <a:ext cx="3168720" cy="935280"/>
          </a:xfrm>
          <a:prstGeom prst="wedgeRoundRectCallout">
            <a:avLst>
              <a:gd name="adj1" fmla="val -139430"/>
              <a:gd name="adj2" fmla="val 184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AFEGIR CALENDARIS D’ALTRES COMPANYS CLIQUEU SOBRE AQUESTA OP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205080" y="-26193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6360" y="404640"/>
            <a:ext cx="3168720" cy="1081440"/>
          </a:xfrm>
          <a:prstGeom prst="wedgeRoundRectCallout">
            <a:avLst>
              <a:gd name="adj1" fmla="val -55912"/>
              <a:gd name="adj2" fmla="val 163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EU AQUÍ L’ADREÇA DE CORREU DE LA PERSONA O GRUP QUE VOLEU AFEGIR EL SE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4365720"/>
            <a:ext cx="3456000" cy="1871640"/>
          </a:xfrm>
          <a:prstGeom prst="wedgeRoundRectCallout">
            <a:avLst>
              <a:gd name="adj1" fmla="val -59185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RECOMANA AFEGIR ELS CORREUS DE VARIS GRUPS CREATS COM D’ALUMNES, SORTIDES, REUNIONS, PER FER-HO MIREU EL FITXER EXCEL QUE HE COMPARTIT AMB VOSALTRES PEL GOOGLE 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44:44Z</dcterms:modified>
  <cp:revision>9</cp:revision>
  <dc:subject/>
  <dc:title>Diapositiva 1</dc:title>
</cp:coreProperties>
</file>