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5FD-F78B-4D9A-B1DF-ABFF912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761-D42F-4BD4-BF42-4E20948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72B-806F-43EA-B826-B992747C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600-A4E0-4543-9184-AF1FD158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984-EF2C-4441-9996-4E6424A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8BF-50A6-4C4F-AC94-3E8A430C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048-F0DA-49ED-8950-E9D4AF3F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B9F-ECBE-4B19-9264-72ACEF83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0B6-0CE5-4AD6-B758-F4707C3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CA4-6D2B-4F37-9470-3D332D4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8AF-3DAC-4C8D-91A3-D00EE2E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F5B-CD49-4128-A276-DCF524E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524-D4DD-4D4A-846B-AC072CD51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403280" y="2420280"/>
            <a:ext cx="576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5084640"/>
            <a:ext cx="3168720" cy="432000"/>
          </a:xfrm>
          <a:prstGeom prst="wedgeRoundRectCallout">
            <a:avLst>
              <a:gd name="adj1" fmla="val -128657"/>
              <a:gd name="adj2" fmla="val -602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GR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1619280" y="2419920"/>
            <a:ext cx="561672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5084640"/>
            <a:ext cx="3168720" cy="432000"/>
          </a:xfrm>
          <a:prstGeom prst="wedgeRoundRectCallout">
            <a:avLst>
              <a:gd name="adj1" fmla="val 48148"/>
              <a:gd name="adj2" fmla="val -284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S MEUS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012000" y="2851920"/>
            <a:ext cx="576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4508640"/>
            <a:ext cx="1908000" cy="1008000"/>
          </a:xfrm>
          <a:prstGeom prst="wedgeRoundRectCallout">
            <a:avLst>
              <a:gd name="adj1" fmla="val -97337"/>
              <a:gd name="adj2" fmla="val -188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708280"/>
            <a:ext cx="3168360" cy="431640"/>
          </a:xfrm>
          <a:prstGeom prst="wedgeRoundRectCallout">
            <a:avLst>
              <a:gd name="adj1" fmla="val 38925"/>
              <a:gd name="adj2" fmla="val 161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ESTRA D’UN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3715560"/>
            <a:ext cx="900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4437000"/>
            <a:ext cx="4321080" cy="1989360"/>
          </a:xfrm>
          <a:prstGeom prst="wedgeRoundRectCallout">
            <a:avLst>
              <a:gd name="adj1" fmla="val -103050"/>
              <a:gd name="adj2" fmla="val -663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ENVIAR UN MISSATGE AL GRUP (ELS MISSATGES SON ENVIATS A TOTS ELS MEMBRES DEL GRUP I MÉS QUEDEN ARXIVATS EN AQUESTA FINESTRA COM SI FOS UN FÒ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042920" y="2564640"/>
            <a:ext cx="9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3500280"/>
            <a:ext cx="3168360" cy="432000"/>
          </a:xfrm>
          <a:prstGeom prst="wedgeRoundRectCallout">
            <a:avLst>
              <a:gd name="adj1" fmla="val -110171"/>
              <a:gd name="adj2" fmla="val -213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27:35Z</dcterms:modified>
  <cp:revision>13</cp:revision>
  <dc:subject/>
  <dc:title>Diapositiva 1</dc:title>
</cp:coreProperties>
</file>