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B40-70A5-45D4-AE67-F69843DA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F59-AAC7-42C7-9350-464B7259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1AE-92F1-476E-97F2-54AC6590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C41-A0DF-4482-94E4-EF53CCB3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C20-A81A-413F-B3D9-3D5A7B19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D7B-75D9-4508-B00F-C450AA24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6E0-992F-4897-884D-5B100A2E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6D4-4D78-4B19-8DB4-5A0524FD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FAA-E7EF-4F09-AE9A-4CA59364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36B-4D06-4613-830C-490565BB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C40-4060-4187-BEE3-CC93568E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B4D-9761-4812-9375-65F66799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E2DE-3B53-4776-A4C4-21E2EE296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403280" y="2420280"/>
            <a:ext cx="576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5084640"/>
            <a:ext cx="3168720" cy="432000"/>
          </a:xfrm>
          <a:prstGeom prst="wedgeRoundRectCallout">
            <a:avLst>
              <a:gd name="adj1" fmla="val -128657"/>
              <a:gd name="adj2" fmla="val -602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GR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1619280" y="2419920"/>
            <a:ext cx="5616720" cy="36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5084640"/>
            <a:ext cx="3168720" cy="432000"/>
          </a:xfrm>
          <a:prstGeom prst="wedgeRoundRectCallout">
            <a:avLst>
              <a:gd name="adj1" fmla="val 48148"/>
              <a:gd name="adj2" fmla="val -284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S MEUS GR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012000" y="2851920"/>
            <a:ext cx="576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6000" y="4508640"/>
            <a:ext cx="1908000" cy="1008000"/>
          </a:xfrm>
          <a:prstGeom prst="wedgeRoundRectCallout">
            <a:avLst>
              <a:gd name="adj1" fmla="val -97337"/>
              <a:gd name="adj2" fmla="val -1887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CREAR UN NOU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95640" y="2708280"/>
            <a:ext cx="3168360" cy="431640"/>
          </a:xfrm>
          <a:prstGeom prst="wedgeRoundRectCallout">
            <a:avLst>
              <a:gd name="adj1" fmla="val 38925"/>
              <a:gd name="adj2" fmla="val 161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NESTRA D’UN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0" y="3715560"/>
            <a:ext cx="900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4437000"/>
            <a:ext cx="4321080" cy="1989360"/>
          </a:xfrm>
          <a:prstGeom prst="wedgeRoundRectCallout">
            <a:avLst>
              <a:gd name="adj1" fmla="val -103050"/>
              <a:gd name="adj2" fmla="val -663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ENVIAR UN MISSATGE AL GRUP (ELS MISSATGES SON ENVIATS A TOTS ELS MEMBRES DEL GRUP I MÉS QUEDEN ARXIVATS EN AQUESTA FINESTRA COM SI FOS UN FÒ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1042920" y="2564640"/>
            <a:ext cx="9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3500280"/>
            <a:ext cx="3168360" cy="432000"/>
          </a:xfrm>
          <a:prstGeom prst="wedgeRoundRectCallout">
            <a:avLst>
              <a:gd name="adj1" fmla="val -110171"/>
              <a:gd name="adj2" fmla="val -213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R UN NOU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1:27:35Z</dcterms:modified>
  <cp:revision>13</cp:revision>
  <dc:subject/>
  <dc:title>Diapositiva 1</dc:title>
</cp:coreProperties>
</file>