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F77-C37C-4E97-BE0E-89EFA356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F6F-261B-44B4-A96F-DB6F708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6A0-F074-46B0-917C-E69E3CE1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C37-E152-4456-B3E3-0C3B865E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8AE-531F-4843-B01E-1474D763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1BD-7880-40B8-B51A-36DF2A5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36B-D53F-401C-BFA0-A58F55A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7A1-5919-423B-A344-7333FD5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DD3-C0F4-4846-A534-C24E470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822-8878-4CBE-9D42-087E7EB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DDF-755A-4630-A1AF-DD71E8F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CE8-EA77-4FEC-890A-DADA920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99EF-3DDC-4FB0-9F4C-4F0E4FCC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12536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2205000"/>
            <a:ext cx="316872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220500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284640"/>
            <a:ext cx="108108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85264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OMPARTIR AMB PERSONES O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51280" y="1916280"/>
            <a:ext cx="3889440" cy="936360"/>
          </a:xfrm>
          <a:prstGeom prst="wedgeRoundRectCallout">
            <a:avLst>
              <a:gd name="adj1" fmla="val -109796"/>
              <a:gd name="adj2" fmla="val 207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SELECCIONAR UN DOCUMENT O MÉS A LA CARPETA DE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933720"/>
            <a:ext cx="3961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653000"/>
            <a:ext cx="792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877000"/>
            <a:ext cx="3168720" cy="647640"/>
          </a:xfrm>
          <a:prstGeom prst="wedgeRoundRectCallout">
            <a:avLst>
              <a:gd name="adj1" fmla="val -32513"/>
              <a:gd name="adj2" fmla="val -191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05:36Z</dcterms:modified>
  <cp:revision>10</cp:revision>
  <dc:subject/>
  <dc:title>Diapositiva 1</dc:title>
</cp:coreProperties>
</file>