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D34-AB61-4740-85DE-8EB2FF7F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83E-41FC-40EE-BEE9-E4B6E4D4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825-1390-4523-ACB8-A2FB0D94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4B5-1A7C-4142-982F-D05DCC63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E75-8642-4068-9F49-DFCE63D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876-DFA1-46ED-B341-0D1A6E0E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10B-A5D8-416B-8495-C98358C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9CE-1A46-4AA8-AAA7-847065E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24B-C990-4769-84A5-6AECE5A1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F9C-09A8-407E-A09A-77CA7A1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AE9-0F61-4CFB-AB22-DBF9661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D2C-0E46-447D-A7B3-1722928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FF66-4AE6-477C-9EEF-65637289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12536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2205000"/>
            <a:ext cx="316872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220500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284640"/>
            <a:ext cx="108108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85264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OMPARTIR AMB PERSONES O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51280" y="1916280"/>
            <a:ext cx="3889440" cy="936360"/>
          </a:xfrm>
          <a:prstGeom prst="wedgeRoundRectCallout">
            <a:avLst>
              <a:gd name="adj1" fmla="val -109796"/>
              <a:gd name="adj2" fmla="val 207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SELECCIONAR UN DOCUMENT O MÉS A LA CARPETA DE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933720"/>
            <a:ext cx="3961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653000"/>
            <a:ext cx="792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877000"/>
            <a:ext cx="3168720" cy="647640"/>
          </a:xfrm>
          <a:prstGeom prst="wedgeRoundRectCallout">
            <a:avLst>
              <a:gd name="adj1" fmla="val -32513"/>
              <a:gd name="adj2" fmla="val -191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05:36Z</dcterms:modified>
  <cp:revision>10</cp:revision>
  <dc:subject/>
  <dc:title>Diapositiva 1</dc:title>
</cp:coreProperties>
</file>