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C0F-844D-4588-A7E5-AFFCC658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932-7B81-4CD2-8A5A-9F533E73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450-404A-4A96-BB11-0B00F70E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F68-5378-48D1-89DC-D9E94043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8DB-3923-4F5F-8B90-8DCB1779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BB5-6935-4CF7-9ADE-BBC56FDC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8A2-3373-4CE4-B3AB-9E79E29B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2797-A71F-4263-9921-45E447CD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FCC-133B-4670-B73D-D776DCBE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2DD-3BF4-4891-8A85-9DD22743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488-F513-421E-97EA-E17B5C11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2795-90F0-4CB1-A8B0-57E166A2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073E-3377-46AE-B838-CDE804F9E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0" y="1773360"/>
            <a:ext cx="4176720" cy="1079280"/>
          </a:xfrm>
          <a:prstGeom prst="wedgeRoundRectCallout">
            <a:avLst>
              <a:gd name="adj1" fmla="val -126018"/>
              <a:gd name="adj2" fmla="val -77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OSSAR COM NOM D’USUARI EL VOSTRE PROPI CORREU (SENSE L’EXTENSIÓ @iespauclaris.org), per exe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0000"/>
                </a:solidFill>
                <a:latin typeface="Arial"/>
              </a:rPr>
              <a:t>francesc.maldo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3357720"/>
            <a:ext cx="4176720" cy="1366560"/>
          </a:xfrm>
          <a:prstGeom prst="wedgeRoundRectCallout">
            <a:avLst>
              <a:gd name="adj1" fmla="val -116930"/>
              <a:gd name="adj2" fmla="val -1070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AR COM CONTRASENYA EL NOM D’USUARI DEL DOMINI SI NO HEU ENTRAT MAI I SI HEU ENTRAT ALGGUNA VEGADA POSSEU LA CONTRASENYA QUE HEU CREAT (ES RECOMANA QUE SIGUI LA MATEIXA QUE LA DEL DOM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32000" y="4005360"/>
            <a:ext cx="4176720" cy="718920"/>
          </a:xfrm>
          <a:prstGeom prst="wedgeRoundRectCallout">
            <a:avLst>
              <a:gd name="adj1" fmla="val -97930"/>
              <a:gd name="adj2" fmla="val -19900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QUEU AL BOTÓ INICIEU LA SESS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1700280"/>
            <a:ext cx="1368360" cy="158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197000"/>
            <a:ext cx="183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88000" y="1197000"/>
            <a:ext cx="2556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2205000"/>
            <a:ext cx="4176720" cy="1655640"/>
          </a:xfrm>
          <a:prstGeom prst="wedgeRoundRectCallout">
            <a:avLst>
              <a:gd name="adj1" fmla="val -116930"/>
              <a:gd name="adj2" fmla="val -970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ER CANVIAR A ALTRES PARTS DE L’APLICACIÓ GOOGLE AP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CALE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DO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M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3:44:38Z</dcterms:created>
  <dc:creator>paco_m</dc:creator>
  <dc:description/>
  <dc:language>en-US</dc:language>
  <cp:lastModifiedBy>paco_m</cp:lastModifiedBy>
  <dcterms:modified xsi:type="dcterms:W3CDTF">2010-01-27T00:08:27Z</dcterms:modified>
  <cp:revision>3</cp:revision>
  <dc:subject/>
  <dc:title>Diapositiva 1</dc:title>
</cp:coreProperties>
</file>