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72E-5F10-4F3A-AB0C-FC7B4FC3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67A-BB99-49EA-9300-19FDD9E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2B5-7126-4E30-91F6-9B23F635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E20-0196-4412-98E8-DC48CE4E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EF-3499-47BC-AF7C-4153055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A26-89E4-419C-B1F6-3D97C219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580-1DF0-4206-8745-EF7F05D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27B-CF9E-482B-989B-13BD5F3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BF3-A1BE-4B2B-9CD5-EB9B6C2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E36-4D9E-4AB0-B661-6A27D55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C4C-88A8-4332-8E67-7F46CBAD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971-2293-4317-9B4D-73FB1D6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FD3-E4EA-4513-A4BD-0A07C84C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1773360"/>
            <a:ext cx="4176720" cy="1079280"/>
          </a:xfrm>
          <a:prstGeom prst="wedgeRoundRectCallout">
            <a:avLst>
              <a:gd name="adj1" fmla="val -126018"/>
              <a:gd name="adj2" fmla="val -7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SAR COM NOM D’USUARI EL VOSTRE PROPI CORREU (SENSE L’EXTENSIÓ @iespauclaris.org), per exe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Arial"/>
              </a:rPr>
              <a:t>francesc.mald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57720"/>
            <a:ext cx="4176720" cy="1366560"/>
          </a:xfrm>
          <a:prstGeom prst="wedgeRoundRectCallout">
            <a:avLst>
              <a:gd name="adj1" fmla="val -116930"/>
              <a:gd name="adj2" fmla="val -107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AR COM CONTRASENYA EL NOM D’USUARI DEL DOMINI SI NO HEU ENTRAT MAI I SI HEU ENTRAT ALGGUNA VEGADA POSSEU LA CONTRASENYA QUE HEU CREAT (ES RECOMANA QUE SIGUI LA MATEIXA QUE LA DEL DOM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4005360"/>
            <a:ext cx="4176720" cy="718920"/>
          </a:xfrm>
          <a:prstGeom prst="wedgeRoundRectCallout">
            <a:avLst>
              <a:gd name="adj1" fmla="val -97930"/>
              <a:gd name="adj2" fmla="val -1990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QUEU AL BOTÓ INICIEU LA SESS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700280"/>
            <a:ext cx="1368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97000"/>
            <a:ext cx="183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197000"/>
            <a:ext cx="2556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4176720" cy="1655640"/>
          </a:xfrm>
          <a:prstGeom prst="wedgeRoundRectCallout">
            <a:avLst>
              <a:gd name="adj1" fmla="val -116930"/>
              <a:gd name="adj2" fmla="val -97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CANVIAR A ALTRES PARTS DE L’APLICACIÓ GOOGLE AP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08:27Z</dcterms:modified>
  <cp:revision>3</cp:revision>
  <dc:subject/>
  <dc:title>Diapositiva 1</dc:title>
</cp:coreProperties>
</file>