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A275-B1E7-41A2-ADDA-37F75CEB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EA9-2B61-40B4-93CF-09986E9E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636-06F2-48B5-86D9-BCFEDC79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21EF-9CF5-44B1-8590-0A848169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F524-FA19-45B8-A26F-80B851CA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F9E-32A8-46B7-B1EB-5E833B89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21D-1F4B-4E05-90B5-8B89494D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6841-020F-4920-BE6E-4C666A3D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740-51E7-4315-BE44-15813AA5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7D61-79AE-4D60-AB3F-968BAAF2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FB2-EFAD-4081-B9C8-8956360A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B85-D037-48E2-B934-488104BF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E10C-5285-4D8B-9ADF-4B2652900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989000"/>
            <a:ext cx="1871640" cy="936720"/>
          </a:xfrm>
          <a:prstGeom prst="wedgeRoundRectCallout">
            <a:avLst>
              <a:gd name="adj1" fmla="val 70782"/>
              <a:gd name="adj2" fmla="val -2072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R SOBRE EL BO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101080" y="333360"/>
            <a:ext cx="503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3357720"/>
            <a:ext cx="424800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NTRA AL TEU COMPTE DE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CORREU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GMAIL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AL QUAL VOLS IMPOR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LTRE CORREU (COM XTEC O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ORREU IES PAU CLAR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908000" y="0"/>
            <a:ext cx="6264360" cy="12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 AL TEU COMPTE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S PAU CLAR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MIRA LA SAFA D’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 HAURÀ UN NOU MISSAT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1484280"/>
            <a:ext cx="2411280" cy="649440"/>
          </a:xfrm>
          <a:prstGeom prst="wedgeRoundRectCallout">
            <a:avLst>
              <a:gd name="adj1" fmla="val -62902"/>
              <a:gd name="adj2" fmla="val 6393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ÒPIA AQUEST CO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133720"/>
            <a:ext cx="503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87640" y="4508640"/>
            <a:ext cx="295272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581360"/>
            <a:ext cx="2411280" cy="649440"/>
          </a:xfrm>
          <a:prstGeom prst="wedgeRoundRectCallout">
            <a:avLst>
              <a:gd name="adj1" fmla="val 16953"/>
              <a:gd name="adj2" fmla="val -48349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GA EL CODI COPI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2421000"/>
            <a:ext cx="2411280" cy="1224000"/>
          </a:xfrm>
          <a:prstGeom prst="wedgeRoundRectCallout">
            <a:avLst>
              <a:gd name="adj1" fmla="val -79888"/>
              <a:gd name="adj2" fmla="val -1132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AQUEST BOTÓ PER ACA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3933720"/>
            <a:ext cx="360036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4941720"/>
            <a:ext cx="2411280" cy="1224000"/>
          </a:xfrm>
          <a:prstGeom prst="wedgeRoundRectCallout">
            <a:avLst>
              <a:gd name="adj1" fmla="val -97796"/>
              <a:gd name="adj2" fmla="val -10162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ULL UNA OPCIÓ D’ADREÇA DE CORREU PER ENVIAR PER DEF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2205000"/>
            <a:ext cx="3025800" cy="1511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765000"/>
            <a:ext cx="2411280" cy="1224000"/>
          </a:xfrm>
          <a:prstGeom prst="wedgeRoundRectCallout">
            <a:avLst>
              <a:gd name="adj1" fmla="val -10236"/>
              <a:gd name="adj2" fmla="val 859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TORNAR A EDITAR, CONVERTIR EN CORREU PREDETERMINAT O SUPRIM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U IMPORTAR PEL MATEIX PROCEDIMENT EL COMPTE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U DE XT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GUANYAREU MOLT EN ESTABILITAT, RAPIDESA I FIABIL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700280"/>
            <a:ext cx="2411280" cy="1008000"/>
          </a:xfrm>
          <a:prstGeom prst="wedgeRoundRectCallout">
            <a:avLst>
              <a:gd name="adj1" fmla="val 36703"/>
              <a:gd name="adj2" fmla="val -865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CIONAR LA PESTANYA COMPTES I IMPORTA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3860640"/>
            <a:ext cx="2411640" cy="1152720"/>
          </a:xfrm>
          <a:prstGeom prst="wedgeRoundRectCallout">
            <a:avLst>
              <a:gd name="adj1" fmla="val 6222"/>
              <a:gd name="adj2" fmla="val 7135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SOBRE AQUEST BOTÓ PER AFEGIR UN COMPTE DE CORREU ELECTRÒ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1916280"/>
            <a:ext cx="316836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2492280"/>
            <a:ext cx="2663640" cy="1511280"/>
          </a:xfrm>
          <a:prstGeom prst="wedgeRoundRectCallout">
            <a:avLst>
              <a:gd name="adj1" fmla="val 17879"/>
              <a:gd name="adj2" fmla="val -1209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RIURE EL CORREU ELECTRÒNIC QUE VOLEM ETIQUETAR A LA SAFATA D’ENTRADA I DE COPIAR A LA CARPETA PERSONALITZ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148360" y="260280"/>
            <a:ext cx="2520720" cy="1224000"/>
          </a:xfrm>
          <a:prstGeom prst="wedgeRoundRectCallout">
            <a:avLst>
              <a:gd name="adj1" fmla="val -177708"/>
              <a:gd name="adj2" fmla="val 308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ER IMPORTAR EL COMPTE DE CORREU iespauclaris.org, ESCRIU AL CAMP NOM D’USUARI EL TEU EMAIL DE L’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1628640"/>
            <a:ext cx="2521080" cy="1081080"/>
          </a:xfrm>
          <a:prstGeom prst="wedgeRoundRectCallout">
            <a:avLst>
              <a:gd name="adj1" fmla="val -127768"/>
              <a:gd name="adj2" fmla="val -5499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RIU AQUESTES DADES AL CAMP SERVIDOR P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2781360"/>
            <a:ext cx="2521080" cy="1081080"/>
          </a:xfrm>
          <a:prstGeom prst="wedgeRoundRectCallout">
            <a:avLst>
              <a:gd name="adj1" fmla="val -75250"/>
              <a:gd name="adj2" fmla="val -11607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ULL EL TEU PROPI CORREU 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28640"/>
            <a:ext cx="215640" cy="79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924280"/>
            <a:ext cx="1476360" cy="1296720"/>
          </a:xfrm>
          <a:prstGeom prst="wedgeRoundRectCallout">
            <a:avLst>
              <a:gd name="adj1" fmla="val -324"/>
              <a:gd name="adj2" fmla="val -118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AR UNICAMENT AQUESTA CAS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5640" y="3860640"/>
            <a:ext cx="1584360" cy="1513080"/>
          </a:xfrm>
          <a:prstGeom prst="wedgeRoundRectCallout">
            <a:avLst>
              <a:gd name="adj1" fmla="val -50902"/>
              <a:gd name="adj2" fmla="val -1392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ÚLTIM CLICAR SOBRE EL BOTÓ DESA ELS CANV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2349360"/>
            <a:ext cx="2411280" cy="1224000"/>
          </a:xfrm>
          <a:prstGeom prst="wedgeRoundRectCallout">
            <a:avLst>
              <a:gd name="adj1" fmla="val 12740"/>
              <a:gd name="adj2" fmla="val 1082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TORNAR A EDITAR O SUPRIM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96360" y="4292640"/>
            <a:ext cx="1152360" cy="158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00360" y="0"/>
            <a:ext cx="4535640" cy="98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 AL TEU COMPTE DE CORR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SPAUCLAR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01080" y="333360"/>
            <a:ext cx="503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00280"/>
            <a:ext cx="2411280" cy="1008000"/>
          </a:xfrm>
          <a:prstGeom prst="wedgeRoundRectCallout">
            <a:avLst>
              <a:gd name="adj1" fmla="val 67773"/>
              <a:gd name="adj2" fmla="val -835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CIONAR LA PESTANYA REENVIAMENT I POP/I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1484280"/>
            <a:ext cx="1008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33360"/>
            <a:ext cx="2411280" cy="1008000"/>
          </a:xfrm>
          <a:prstGeom prst="wedgeRoundRectCallout">
            <a:avLst>
              <a:gd name="adj1" fmla="val 125115"/>
              <a:gd name="adj2" fmla="val 666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CIONA AQUESTA OPCIÓ, ESCRIU EN EL CAMP BUIT LA TEVA ADREÇA G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3213000"/>
            <a:ext cx="2411280" cy="1295640"/>
          </a:xfrm>
          <a:prstGeom prst="wedgeRoundRectCallout">
            <a:avLst>
              <a:gd name="adj1" fmla="val -11685"/>
              <a:gd name="adj2" fmla="val -1452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ESCULL UNA OPCIÓ PER DEIXAR O NO COPIA DEL CORREU AL COMPTE DE L’IES PAU CLA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273640"/>
            <a:ext cx="1584360" cy="1584360"/>
          </a:xfrm>
          <a:prstGeom prst="wedgeRoundRectCallout">
            <a:avLst>
              <a:gd name="adj1" fmla="val 234467"/>
              <a:gd name="adj2" fmla="val -6332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ÚLTIM CLICAR SOBRE EL BOTÓ DESA ELS CANV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1989000"/>
            <a:ext cx="1008000" cy="14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6360" y="3141720"/>
            <a:ext cx="1008000" cy="14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57720"/>
            <a:ext cx="2411280" cy="1008000"/>
          </a:xfrm>
          <a:prstGeom prst="wedgeRoundRectCallout">
            <a:avLst>
              <a:gd name="adj1" fmla="val 75476"/>
              <a:gd name="adj2" fmla="val -173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BILITA EL CORREU POP I EL SERVEI I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2000" y="1989000"/>
            <a:ext cx="1871640" cy="936720"/>
          </a:xfrm>
          <a:prstGeom prst="wedgeRoundRectCallout">
            <a:avLst>
              <a:gd name="adj1" fmla="val 70782"/>
              <a:gd name="adj2" fmla="val -2072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R SOBRE EL BO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101080" y="333360"/>
            <a:ext cx="503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6000" y="3357720"/>
            <a:ext cx="424800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VOLS TAMBÉ PODER ENVI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US 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RI IESPAUCLARIS REALIT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 SEGÜENTS PASOS EN LA TE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TE DE G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700280"/>
            <a:ext cx="2411280" cy="1008000"/>
          </a:xfrm>
          <a:prstGeom prst="wedgeRoundRectCallout">
            <a:avLst>
              <a:gd name="adj1" fmla="val 36703"/>
              <a:gd name="adj2" fmla="val -865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CIONAR LA PESTANYA COMPTES I IMPORTA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3280" y="1773360"/>
            <a:ext cx="2411280" cy="1152360"/>
          </a:xfrm>
          <a:prstGeom prst="wedgeRoundRectCallout">
            <a:avLst>
              <a:gd name="adj1" fmla="val -22481"/>
              <a:gd name="adj2" fmla="val 6212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SOBRE AQUEST BOTÓ PER AFEGIR UN COMPTE DE CORREU ELECTRÒ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3860640"/>
            <a:ext cx="31687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771640" y="4365720"/>
            <a:ext cx="316872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981000"/>
            <a:ext cx="2411280" cy="1152720"/>
          </a:xfrm>
          <a:prstGeom prst="wedgeRoundRectCallout">
            <a:avLst>
              <a:gd name="adj1" fmla="val -120504"/>
              <a:gd name="adj2" fmla="val -4435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A EL NOM QUE VOLS DONAR AL COMPTE DE CORREU EN AQUEST CA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08360" y="2349360"/>
            <a:ext cx="2411280" cy="1152720"/>
          </a:xfrm>
          <a:prstGeom prst="wedgeRoundRectCallout">
            <a:avLst>
              <a:gd name="adj1" fmla="val -117546"/>
              <a:gd name="adj2" fmla="val -14435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A EL COMPTE DE CORREU QUE VOLS PODER UTILITZAR PER ENVIAR CORRE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4508640"/>
            <a:ext cx="2411280" cy="649080"/>
          </a:xfrm>
          <a:prstGeom prst="wedgeRoundRectCallout">
            <a:avLst>
              <a:gd name="adj1" fmla="val 5893"/>
              <a:gd name="adj2" fmla="val -460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AQUEST BOTÓ PER CONTINU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1280" y="4508640"/>
            <a:ext cx="2411280" cy="649080"/>
          </a:xfrm>
          <a:prstGeom prst="wedgeRoundRectCallout">
            <a:avLst>
              <a:gd name="adj1" fmla="val 5893"/>
              <a:gd name="adj2" fmla="val -460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AQUEST BOTÓ PER CONTINU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59280" y="2276640"/>
            <a:ext cx="2952720" cy="345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5761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4005360"/>
            <a:ext cx="2411280" cy="649080"/>
          </a:xfrm>
          <a:prstGeom prst="wedgeRoundRectCallout">
            <a:avLst>
              <a:gd name="adj1" fmla="val 23796"/>
              <a:gd name="adj2" fmla="val -449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AQUEST BOTÓ PER CONTINU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1989000"/>
            <a:ext cx="295272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13:10Z</dcterms:created>
  <dc:creator>paco_m</dc:creator>
  <dc:description/>
  <dc:language>en-US</dc:language>
  <cp:lastModifiedBy>paco_m</cp:lastModifiedBy>
  <dcterms:modified xsi:type="dcterms:W3CDTF">2009-11-20T23:51:04Z</dcterms:modified>
  <cp:revision>10</cp:revision>
  <dc:subject/>
  <dc:title>Diapositiva 1</dc:title>
</cp:coreProperties>
</file>