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2AB-E8F8-450D-AFC2-0B9A3FA4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C1A-3724-4CA2-B313-55F2339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5B0-14B0-4FDD-8888-23B59490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49A-0AAF-4E0D-9821-DAAB41DD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F67-BF1B-4CCD-9F46-5C151863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DA9-CE46-44C0-BFF9-3FDC639B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751-5E43-4D1F-8104-86E7F163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610-AFCF-4BB1-B3D0-FDD7E9D1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E4A-E0BF-4AC7-8FB7-CC5FBAA0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85E-A1E4-44B1-9979-D8C4FC3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075-C940-4B59-B3F5-59446384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13C-9244-4814-B7CB-3117F7BA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B574-9C2A-4FA5-B0ED-88DE82088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MAIL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AL QUAL VOLS IMPOR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LTRE CORREU (COM XTEC 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RREU IES PAU CLA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8000" y="0"/>
            <a:ext cx="626436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 PAU CLAR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MIRA LA SAFA D’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HAURÀ UN NOU MISS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1484280"/>
            <a:ext cx="2411280" cy="649440"/>
          </a:xfrm>
          <a:prstGeom prst="wedgeRoundRectCallout">
            <a:avLst>
              <a:gd name="adj1" fmla="val -62902"/>
              <a:gd name="adj2" fmla="val 639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ÒPIA AQUEST CO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13372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87640" y="4508640"/>
            <a:ext cx="2952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81360"/>
            <a:ext cx="2411280" cy="649440"/>
          </a:xfrm>
          <a:prstGeom prst="wedgeRoundRectCallout">
            <a:avLst>
              <a:gd name="adj1" fmla="val 16953"/>
              <a:gd name="adj2" fmla="val -483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GA EL CODI COP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2421000"/>
            <a:ext cx="2411280" cy="1224000"/>
          </a:xfrm>
          <a:prstGeom prst="wedgeRoundRectCallout">
            <a:avLst>
              <a:gd name="adj1" fmla="val -79888"/>
              <a:gd name="adj2" fmla="val -113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ACA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933720"/>
            <a:ext cx="360036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4941720"/>
            <a:ext cx="2411280" cy="1224000"/>
          </a:xfrm>
          <a:prstGeom prst="wedgeRoundRectCallout">
            <a:avLst>
              <a:gd name="adj1" fmla="val -97796"/>
              <a:gd name="adj2" fmla="val -101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UNA OPCIÓ D’ADREÇA DE CORREU PER ENVIAR PER DEF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205000"/>
            <a:ext cx="3025800" cy="1511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765000"/>
            <a:ext cx="2411280" cy="1224000"/>
          </a:xfrm>
          <a:prstGeom prst="wedgeRoundRectCallout">
            <a:avLst>
              <a:gd name="adj1" fmla="val -10236"/>
              <a:gd name="adj2" fmla="val 85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, CONVERTIR EN CORREU PREDETERMINAT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U IMPORTAR PEL MATEIX PROCEDIMENT EL COMPTE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U DE XT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GUANYAREU MOLT EN ESTABILITAT, RAPIDESA I FIABIL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860640"/>
            <a:ext cx="2411640" cy="1152720"/>
          </a:xfrm>
          <a:prstGeom prst="wedgeRoundRectCallout">
            <a:avLst>
              <a:gd name="adj1" fmla="val 6222"/>
              <a:gd name="adj2" fmla="val 71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1916280"/>
            <a:ext cx="3168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48360" y="260280"/>
            <a:ext cx="2520720" cy="1224000"/>
          </a:xfrm>
          <a:prstGeom prst="wedgeRoundRectCallout">
            <a:avLst>
              <a:gd name="adj1" fmla="val -177708"/>
              <a:gd name="adj2" fmla="val 30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IMPORTAR EL COMPTE DE CORREU iespauclaris.org, ESCRIU AL CAMP NOM D’USUARI EL TEU EMAIL DE L’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628640"/>
            <a:ext cx="2521080" cy="1081080"/>
          </a:xfrm>
          <a:prstGeom prst="wedgeRoundRectCallout">
            <a:avLst>
              <a:gd name="adj1" fmla="val -127768"/>
              <a:gd name="adj2" fmla="val -549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 AQUESTES DADES AL CAMP SERVIDOR 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781360"/>
            <a:ext cx="2521080" cy="1081080"/>
          </a:xfrm>
          <a:prstGeom prst="wedgeRoundRectCallout">
            <a:avLst>
              <a:gd name="adj1" fmla="val -75250"/>
              <a:gd name="adj2" fmla="val -116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EL TEU PROPI CORREU 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28640"/>
            <a:ext cx="215640" cy="79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24280"/>
            <a:ext cx="1476360" cy="1296720"/>
          </a:xfrm>
          <a:prstGeom prst="wedgeRoundRectCallout">
            <a:avLst>
              <a:gd name="adj1" fmla="val -324"/>
              <a:gd name="adj2" fmla="val -118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3860640"/>
            <a:ext cx="1584360" cy="1513080"/>
          </a:xfrm>
          <a:prstGeom prst="wedgeRoundRectCallout">
            <a:avLst>
              <a:gd name="adj1" fmla="val -50902"/>
              <a:gd name="adj2" fmla="val -139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349360"/>
            <a:ext cx="2411280" cy="1224000"/>
          </a:xfrm>
          <a:prstGeom prst="wedgeRoundRectCallout">
            <a:avLst>
              <a:gd name="adj1" fmla="val 12740"/>
              <a:gd name="adj2" fmla="val 10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292640"/>
            <a:ext cx="1152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00360" y="0"/>
            <a:ext cx="4535640" cy="9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 AL TEU COMPTE DE CORR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PAUC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67773"/>
              <a:gd name="adj2" fmla="val -83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REENVIAMENT I POP/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148428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3360"/>
            <a:ext cx="2411280" cy="1008000"/>
          </a:xfrm>
          <a:prstGeom prst="wedgeRoundRectCallout">
            <a:avLst>
              <a:gd name="adj1" fmla="val 125115"/>
              <a:gd name="adj2" fmla="val 66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 AQUESTA OPCIÓ, ESCRIU EN EL CAMP BUIT LA TEVA ADREÇA G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13000"/>
            <a:ext cx="2411280" cy="1295640"/>
          </a:xfrm>
          <a:prstGeom prst="wedgeRoundRectCallout">
            <a:avLst>
              <a:gd name="adj1" fmla="val -11685"/>
              <a:gd name="adj2" fmla="val -145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SCULL UNA OPCIÓ PER DEIXAR O NO COPIA DEL CORREU AL COMPTE DE L’IES PAU CL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273640"/>
            <a:ext cx="1584360" cy="1584360"/>
          </a:xfrm>
          <a:prstGeom prst="wedgeRoundRectCallout">
            <a:avLst>
              <a:gd name="adj1" fmla="val 234467"/>
              <a:gd name="adj2" fmla="val -63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989000"/>
            <a:ext cx="100800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141720"/>
            <a:ext cx="100800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57720"/>
            <a:ext cx="2411280" cy="1008000"/>
          </a:xfrm>
          <a:prstGeom prst="wedgeRoundRectCallout">
            <a:avLst>
              <a:gd name="adj1" fmla="val 75476"/>
              <a:gd name="adj2" fmla="val -17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ILITA EL CORREU POP I EL SERVEI 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VOLS TAMBÉ PODER ENV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US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RI IESPAUCLARIS REALIT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 SEGÜENTS PASOS EN LA T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TE DE G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1773360"/>
            <a:ext cx="2411280" cy="1152360"/>
          </a:xfrm>
          <a:prstGeom prst="wedgeRoundRectCallout">
            <a:avLst>
              <a:gd name="adj1" fmla="val -22481"/>
              <a:gd name="adj2" fmla="val 62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860640"/>
            <a:ext cx="3168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71640" y="4365720"/>
            <a:ext cx="3168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81000"/>
            <a:ext cx="2411280" cy="1152720"/>
          </a:xfrm>
          <a:prstGeom prst="wedgeRoundRectCallout">
            <a:avLst>
              <a:gd name="adj1" fmla="val -120504"/>
              <a:gd name="adj2" fmla="val -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NOM QUE VOLS DONAR AL COMPTE DE CORREU EN AQUEST C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349360"/>
            <a:ext cx="2411280" cy="1152720"/>
          </a:xfrm>
          <a:prstGeom prst="wedgeRoundRectCallout">
            <a:avLst>
              <a:gd name="adj1" fmla="val -117546"/>
              <a:gd name="adj2" fmla="val -1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COMPTE DE CORREU QUE VOLS PODER UTILITZAR PER ENVIAR CORRE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276640"/>
            <a:ext cx="2952720" cy="34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4005360"/>
            <a:ext cx="2411280" cy="649080"/>
          </a:xfrm>
          <a:prstGeom prst="wedgeRoundRectCallout">
            <a:avLst>
              <a:gd name="adj1" fmla="val 23796"/>
              <a:gd name="adj2" fmla="val -449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1989000"/>
            <a:ext cx="29527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0T23:51:04Z</dcterms:modified>
  <cp:revision>10</cp:revision>
  <dc:subject/>
  <dc:title>Diapositiva 1</dc:title>
</cp:coreProperties>
</file>