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320C-E506-4BCA-803A-B32CC6F0A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1EFE-7F85-4346-8736-8A93D3CA6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252F-E83B-4A23-952B-150D94054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53EB-2014-4977-8277-DBBAD3CC2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622E-A891-411F-8FCB-AF4336BAD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1773-621C-40BC-BA19-804684D63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E656-C96C-48C1-9526-E5B127699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A0E1-50F3-4D13-9083-1173D56DD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D725-A2D1-462F-81FE-E39CE8FAD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8BFB-EE88-4394-9EE5-3330FC0B1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6604-A01B-439B-ACE3-DAA554B5E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EFF5-C821-4669-B667-EBFF9CB5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9CEE0-203B-4D8B-B82F-CAC9D7625B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1557360"/>
            <a:ext cx="8964720" cy="5300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989000"/>
            <a:ext cx="1871640" cy="936720"/>
          </a:xfrm>
          <a:prstGeom prst="wedgeRoundRectCallout">
            <a:avLst>
              <a:gd name="adj1" fmla="val 70782"/>
              <a:gd name="adj2" fmla="val -20728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AR SOBRE EL BO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FIGURACI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101080" y="333360"/>
            <a:ext cx="50328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47640" y="2133720"/>
            <a:ext cx="1872000" cy="936360"/>
          </a:xfrm>
          <a:prstGeom prst="wedgeRoundRectCallout">
            <a:avLst>
              <a:gd name="adj1" fmla="val 21925"/>
              <a:gd name="adj2" fmla="val -8135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CIONAR PESTANYA FILT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24000" y="2492280"/>
            <a:ext cx="2663640" cy="1511280"/>
          </a:xfrm>
          <a:prstGeom prst="wedgeRoundRectCallout">
            <a:avLst>
              <a:gd name="adj1" fmla="val 17879"/>
              <a:gd name="adj2" fmla="val -12090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CRIURE EL CORREU ELECTRÒNIC QUE VOLEM ETIQUETAR A LA SAFATA D’ENTRADA I DE COPIAR A LA CARPETA PERSONALITZ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908000" y="2708280"/>
            <a:ext cx="2159280" cy="1297080"/>
          </a:xfrm>
          <a:prstGeom prst="wedgeRoundRectCallout">
            <a:avLst>
              <a:gd name="adj1" fmla="val 52939"/>
              <a:gd name="adj2" fmla="val -10973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PLEGAR FINESTRA I ESCOLLIR CORREU QUE VOLEM FILTR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924280"/>
            <a:ext cx="1547640" cy="1296720"/>
          </a:xfrm>
          <a:prstGeom prst="wedgeRoundRectCallout">
            <a:avLst>
              <a:gd name="adj1" fmla="val 87847"/>
              <a:gd name="adj2" fmla="val -12845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CAR UNICAMENT AQUESTA CASEL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2050920" y="1267560"/>
            <a:ext cx="216000" cy="1297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356000" y="4149720"/>
            <a:ext cx="1584360" cy="1584360"/>
          </a:xfrm>
          <a:prstGeom prst="wedgeRoundRectCallout">
            <a:avLst>
              <a:gd name="adj1" fmla="val 34370"/>
              <a:gd name="adj2" fmla="val -14188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 ÚLTIM CLICAR SOBRE EL BOTÓ ACTUALITZA EL FIL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0T19:13:10Z</dcterms:created>
  <dc:creator>paco_m</dc:creator>
  <dc:description/>
  <dc:language>en-US</dc:language>
  <cp:lastModifiedBy>paco_m</cp:lastModifiedBy>
  <dcterms:modified xsi:type="dcterms:W3CDTF">2009-11-21T22:14:10Z</dcterms:modified>
  <cp:revision>3</cp:revision>
  <dc:subject/>
  <dc:title>Diapositiva 1</dc:title>
</cp:coreProperties>
</file>