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C63C7-574B-46EC-BA30-1CC8B420E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E47FD-29F1-46D1-9195-050BA8D50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6B463-9277-42ED-A3C6-FD9DB747C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7D81F-04DD-4D18-9705-E0BD14144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AEC3F-A41F-4A37-A429-62F8EA8EA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C07E7-B332-4744-B01A-64504C96B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D8980-5FEE-4989-8F22-FDA54FAD5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CB038-2CD8-4844-957F-1A99A4A8A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599AC-0257-4553-923C-A55DE4722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BAB85-AB07-4E93-8FC2-8FD42E4F3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FC849-5B5C-490C-8E5D-EA8F8F128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2EC3E-0BB9-4FC1-A7A1-D323C7AE7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6A3C2-E984-46A0-AF82-639CDFD453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1557360"/>
            <a:ext cx="8964720" cy="5300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989000"/>
            <a:ext cx="1871640" cy="936720"/>
          </a:xfrm>
          <a:prstGeom prst="wedgeRoundRectCallout">
            <a:avLst>
              <a:gd name="adj1" fmla="val 70782"/>
              <a:gd name="adj2" fmla="val -207287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AR SOBRE EL BOT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FIGURACI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101080" y="333360"/>
            <a:ext cx="503280" cy="287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547640" y="2133720"/>
            <a:ext cx="1872000" cy="936360"/>
          </a:xfrm>
          <a:prstGeom prst="wedgeRoundRectCallout">
            <a:avLst>
              <a:gd name="adj1" fmla="val 21925"/>
              <a:gd name="adj2" fmla="val -81356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CIONAR PESTANYA FILT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24000" y="2492280"/>
            <a:ext cx="2663640" cy="1511280"/>
          </a:xfrm>
          <a:prstGeom prst="wedgeRoundRectCallout">
            <a:avLst>
              <a:gd name="adj1" fmla="val 17879"/>
              <a:gd name="adj2" fmla="val -120902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SCRIURE EL CORREU ELECTRÒNIC QUE VOLEM ETIQUETAR A LA SAFATA D’ENTRADA I DE COPIAR A LA CARPETA PERSONALITZA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908000" y="2708280"/>
            <a:ext cx="2159280" cy="1297080"/>
          </a:xfrm>
          <a:prstGeom prst="wedgeRoundRectCallout">
            <a:avLst>
              <a:gd name="adj1" fmla="val 52939"/>
              <a:gd name="adj2" fmla="val -109731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SPLEGAR FINESTRA I ESCOLLIR CORREU QUE VOLEM FILTR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2924280"/>
            <a:ext cx="1547640" cy="1296720"/>
          </a:xfrm>
          <a:prstGeom prst="wedgeRoundRectCallout">
            <a:avLst>
              <a:gd name="adj1" fmla="val 87847"/>
              <a:gd name="adj2" fmla="val -128458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RCAR UNICAMENT AQUESTA CASELL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2050920" y="1267560"/>
            <a:ext cx="216000" cy="12970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356000" y="4149720"/>
            <a:ext cx="1584360" cy="1584360"/>
          </a:xfrm>
          <a:prstGeom prst="wedgeRoundRectCallout">
            <a:avLst>
              <a:gd name="adj1" fmla="val 34370"/>
              <a:gd name="adj2" fmla="val -141884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 ÚLTIM CLICAR SOBRE EL BOTÓ ACTUALITZA EL FILT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0T19:13:10Z</dcterms:created>
  <dc:creator>paco_m</dc:creator>
  <dc:description/>
  <dc:language>en-US</dc:language>
  <cp:lastModifiedBy>paco_m</cp:lastModifiedBy>
  <dcterms:modified xsi:type="dcterms:W3CDTF">2009-11-21T22:14:10Z</dcterms:modified>
  <cp:revision>3</cp:revision>
  <dc:subject/>
  <dc:title>Diapositiva 1</dc:title>
</cp:coreProperties>
</file>