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C38-AD42-4093-9BCE-DC720EF9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E91-7AD9-4F15-BDC1-2DCC91B6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1CA-C688-45E8-BAEB-7DD9EBD2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847-3B11-4999-BF92-7DE0CDBB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CCB-8502-4625-89F5-4B7CF0D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812-2AE7-4DEC-BAFF-1BBA23A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A61-C876-405D-89B0-122B28F3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3FC-038F-472F-9D05-7262CFBC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701-6FF4-4A50-BD00-972FD01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07C-9202-4D51-9018-F3DD921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E6A-F7B6-4DAF-9230-6C57365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9A6-9D5B-4249-A3C1-BD50A70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37F-883D-40E6-8A5B-C6C386EF77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/a/cpanel/iespauclaris.org/Group?groupId=alumnes.batx1@iespauclaris.org" TargetMode="External"/><Relationship Id="rId2" Type="http://schemas.openxmlformats.org/officeDocument/2006/relationships/hyperlink" Target="https://www.google.com/a/cpanel/iespauclaris.org/Group?groupId=alumnes.batx2@iespauclaris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565360"/>
            <a:ext cx="3889080" cy="287280"/>
          </a:xfrm>
          <a:prstGeom prst="wedgeRectCallout">
            <a:avLst>
              <a:gd name="adj1" fmla="val -81634"/>
              <a:gd name="adj2" fmla="val 42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997360"/>
            <a:ext cx="4321080" cy="504720"/>
          </a:xfrm>
          <a:prstGeom prst="wedgeRectCallout">
            <a:avLst>
              <a:gd name="adj1" fmla="val -92981"/>
              <a:gd name="adj2" fmla="val -22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rés es recomana canviar la contras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349360"/>
            <a:ext cx="5689440" cy="1224000"/>
          </a:xfrm>
          <a:prstGeom prst="rect">
            <a:avLst/>
          </a:prstGeom>
          <a:solidFill>
            <a:srgbClr val="bbe0e3">
              <a:alpha val="22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Per  entrar a l’intraweb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076640"/>
            <a:ext cx="5616720" cy="360360"/>
          </a:xfrm>
          <a:prstGeom prst="wedgeRectCallout">
            <a:avLst>
              <a:gd name="adj1" fmla="val -71791"/>
              <a:gd name="adj2" fmla="val 26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( *1)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Pitjar aquí per anar al correu web  google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5157720"/>
            <a:ext cx="5616360" cy="503280"/>
          </a:xfrm>
          <a:prstGeom prst="wedgeRectCallout">
            <a:avLst>
              <a:gd name="adj1" fmla="val -79481"/>
              <a:gd name="adj2" fmla="val 5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* 2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orreu, documents, calendari web google (extensió del domini *@iespauclari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5734080"/>
            <a:ext cx="5616720" cy="287280"/>
          </a:xfrm>
          <a:prstGeom prst="wedgeRectCallout">
            <a:avLst>
              <a:gd name="adj1" fmla="val -81092"/>
              <a:gd name="adj2" fmla="val -27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alendari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r al correu web centre:  quan heu clicat sobre (*1) de la pàgina principal surt aquesta finestra teniu que posar el vostre nou correu del 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484280"/>
            <a:ext cx="7920000" cy="1008000"/>
          </a:xfrm>
          <a:prstGeom prst="wedgeRectCallout">
            <a:avLst>
              <a:gd name="adj1" fmla="val -38736"/>
              <a:gd name="adj2" fmla="val 71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eu la vostra nova adreça de correu del centre (nom.cognom) i sense la part comuna (@iespauclaris.org), la llista de correus la teniu si cliqueu a la pàgina principal al bloc de l’esquerra que es diu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informació del centre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i l’opció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equip docent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(per exemple: francesc.maldon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292640"/>
            <a:ext cx="4967280" cy="936720"/>
          </a:xfrm>
          <a:prstGeom prst="wedgeRectCallout">
            <a:avLst>
              <a:gd name="adj1" fmla="val -28300"/>
              <a:gd name="adj2" fmla="val -196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seu el vostre nou d’usuari xtec (per exemple: fmaldon3) la primera vegada, després us demanarà que la canvieu per al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nestra de correu web del centre un cop obe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005360"/>
            <a:ext cx="2665440" cy="863640"/>
          </a:xfrm>
          <a:prstGeom prst="wedgeRectCallout">
            <a:avLst>
              <a:gd name="adj1" fmla="val -82995"/>
              <a:gd name="adj2" fmla="val -263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eu canviar a les altres aplicacions integrades al google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076640"/>
            <a:ext cx="2665440" cy="863640"/>
          </a:xfrm>
          <a:prstGeom prst="wedgeRectCallout">
            <a:avLst>
              <a:gd name="adj1" fmla="val 63935"/>
              <a:gd name="adj2" fmla="val -28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onfigurar la vostra compte i sortir del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2280"/>
            <a:ext cx="8269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661000"/>
            <a:ext cx="2665440" cy="432000"/>
          </a:xfrm>
          <a:prstGeom prst="wedgeRectCallout">
            <a:avLst>
              <a:gd name="adj1" fmla="val -55657"/>
              <a:gd name="adj2" fmla="val -7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rear un nou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ups de l’IES Pau Cl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han creat grups de treball per poder realitzar tasques:com enviar un correu, compartir un calendari o documents. Es poden definir més grups (m’ho demaneu, detallant quines persones ho formarien), en aquest moment hi ha creats els seguents gr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umnesBATX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1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umnesBATX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2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A: alumnes.eso1a@iespauclaris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B: alumnes.eso1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A: alumnes.eso2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B: alumnes.eso2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A: alumnes.eso3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B:alumnes.eso3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A: alumnes.eso4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B: alumnes.eso4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: alumne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sors: profess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 directiu: secretari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utors: tut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 exemple per enviar un correu a tots els alumnes de 1er de batxillerat, tindreu que posar la següent adreça: alumnes.batx1@iespauclar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ltre correu que tenim disponible i que es possible sigui més global, potent i intuïtiu (hi ha que valorar qual ens quedem), si cliqueu sobre l’opció (*2) de la pàgina principal (bloc menú principal opció google ap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67280" y="2565360"/>
            <a:ext cx="2592360" cy="503280"/>
          </a:xfrm>
          <a:prstGeom prst="wedgeRectCallout">
            <a:avLst>
              <a:gd name="adj1" fmla="val -151101"/>
              <a:gd name="adj2" fmla="val 1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ar el vostre 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3429000"/>
            <a:ext cx="3313080" cy="792000"/>
          </a:xfrm>
          <a:prstGeom prst="wedgeRectCallout">
            <a:avLst>
              <a:gd name="adj1" fmla="val -134953"/>
              <a:gd name="adj2" fmla="val -8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rnar a posar el vostre usuari xtec (per exemple: fmaldon3), convenient canviar la contrasenya posterio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u en l’aplicatiu web google apps que ofereix un entorn de treball colaboratiu (es poden compartir documents, calendari, realitzar xa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378936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vostre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42900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 la vostra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06864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s vostr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349360"/>
            <a:ext cx="2520720" cy="503280"/>
          </a:xfrm>
          <a:prstGeom prst="wedgeRectCallout">
            <a:avLst>
              <a:gd name="adj1" fmla="val 90425"/>
              <a:gd name="adj2" fmla="val 29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onstructor de pàgines web pers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437000"/>
            <a:ext cx="2879640" cy="720720"/>
          </a:xfrm>
          <a:prstGeom prst="wedgeRectCallout">
            <a:avLst>
              <a:gd name="adj1" fmla="val 79990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anal xat entre els membres de la comunitat educ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6:17:23Z</dcterms:created>
  <dc:creator>paco_m</dc:creator>
  <dc:description/>
  <dc:language>en-US</dc:language>
  <cp:lastModifiedBy>paco_m</cp:lastModifiedBy>
  <dcterms:modified xsi:type="dcterms:W3CDTF">2010-02-26T20:41:50Z</dcterms:modified>
  <cp:revision>10</cp:revision>
  <dc:subject/>
  <dc:title>Diapositiva 1</dc:title>
</cp:coreProperties>
</file>