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25F-E5A7-47BC-A955-8413644C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58F-A71A-4A1A-847E-C2FA304D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1C1-8903-4E52-AA8E-E2C9B132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D16-E589-4569-8E14-F6A16F2D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ECE-84DF-48EF-A581-6DCE9ABB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DFC-251F-4942-B665-DA800B78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5A9-27E8-4769-A69E-A982CF06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A6EC-CA40-4835-AB00-2D2C931B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A6D-DF30-466B-8A60-3C72E7C4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BD0-7878-48F0-8F48-5695BCFA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32B-F517-4476-B4AA-19B29404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A5E-EBDD-4BED-AF89-95F47463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74C7-AB1D-44FD-88B8-40C8F65AF8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com/a/cpanel/iespauclaris.org/Group?groupId=alumnes.batx1@iespauclaris.org" TargetMode="External"/><Relationship Id="rId2" Type="http://schemas.openxmlformats.org/officeDocument/2006/relationships/hyperlink" Target="https://www.google.com/a/cpanel/iespauclaris.org/Group?groupId=alumnes.batx2@iespauclaris.org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35280" y="2565360"/>
            <a:ext cx="3889080" cy="287280"/>
          </a:xfrm>
          <a:prstGeom prst="wedgeRectCallout">
            <a:avLst>
              <a:gd name="adj1" fmla="val -81634"/>
              <a:gd name="adj2" fmla="val 42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ar l’usuari Xtec (per exemple: fmaldon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997360"/>
            <a:ext cx="4321080" cy="504720"/>
          </a:xfrm>
          <a:prstGeom prst="wedgeRectCallout">
            <a:avLst>
              <a:gd name="adj1" fmla="val -92981"/>
              <a:gd name="adj2" fmla="val -22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ar l’usuari Xtec (per exemple: fmaldon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prés es recomana canviar la contrasen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2349360"/>
            <a:ext cx="5689440" cy="1224000"/>
          </a:xfrm>
          <a:prstGeom prst="rect">
            <a:avLst/>
          </a:prstGeom>
          <a:solidFill>
            <a:srgbClr val="bbe0e3">
              <a:alpha val="22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2276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Per  entrar a l’intraweb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4076640"/>
            <a:ext cx="5616720" cy="360360"/>
          </a:xfrm>
          <a:prstGeom prst="wedgeRectCallout">
            <a:avLst>
              <a:gd name="adj1" fmla="val -71791"/>
              <a:gd name="adj2" fmla="val 26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ff0000"/>
                </a:solidFill>
                <a:latin typeface="Arial"/>
              </a:rPr>
              <a:t>( *1)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Pitjar aquí per anar al correu web  google del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5157720"/>
            <a:ext cx="5616360" cy="503280"/>
          </a:xfrm>
          <a:prstGeom prst="wedgeRectCallout">
            <a:avLst>
              <a:gd name="adj1" fmla="val -79481"/>
              <a:gd name="adj2" fmla="val 51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* 2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itjar aquí per anar al correu, documents, calendari web google (extensió del domini *@iespauclari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5734080"/>
            <a:ext cx="5616720" cy="287280"/>
          </a:xfrm>
          <a:prstGeom prst="wedgeRectCallout">
            <a:avLst>
              <a:gd name="adj1" fmla="val -81092"/>
              <a:gd name="adj2" fmla="val -27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itjar aquí per anar al calendari del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ar al correu web centre:  quan heu clicat sobre (*1) de la pàgina principal surt aquesta finestra teniu que posar el vostre nou correu del 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217080" cy="57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1484280"/>
            <a:ext cx="7920000" cy="1008000"/>
          </a:xfrm>
          <a:prstGeom prst="wedgeRectCallout">
            <a:avLst>
              <a:gd name="adj1" fmla="val -38736"/>
              <a:gd name="adj2" fmla="val 71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oseu la vostra nova adreça de correu del centre (nom.cognom) i sense la part comuna (@iespauclaris.org), la llista de correus la teniu si cliqueu a la pàgina principal al bloc de l’esquerra que es diu </a:t>
            </a:r>
            <a:r>
              <a:rPr b="0" i="1" lang="ca-ES" sz="1400" spc="-1" strike="noStrike">
                <a:solidFill>
                  <a:srgbClr val="000000"/>
                </a:solidFill>
                <a:latin typeface="Arial"/>
              </a:rPr>
              <a:t>informació del centre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i l’opció </a:t>
            </a:r>
            <a:r>
              <a:rPr b="0" i="1" lang="ca-ES" sz="1400" spc="-1" strike="noStrike">
                <a:solidFill>
                  <a:srgbClr val="000000"/>
                </a:solidFill>
                <a:latin typeface="Arial"/>
              </a:rPr>
              <a:t>equip docent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(per exemple: francesc.maldon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4292640"/>
            <a:ext cx="4967280" cy="936720"/>
          </a:xfrm>
          <a:prstGeom prst="wedgeRectCallout">
            <a:avLst>
              <a:gd name="adj1" fmla="val -28300"/>
              <a:gd name="adj2" fmla="val -196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oseu el vostre nou d’usuari xtec (per exemple: fmaldon3) la primera vegada, després us demanarà que la canvieu per al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inestra de correu web del centre un cop ober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850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916280"/>
            <a:ext cx="147636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4005360"/>
            <a:ext cx="2665440" cy="863640"/>
          </a:xfrm>
          <a:prstGeom prst="wedgeRectCallout">
            <a:avLst>
              <a:gd name="adj1" fmla="val -82995"/>
              <a:gd name="adj2" fmla="val -263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deu canviar a les altres aplicacions integrades al google ap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92720" y="4076640"/>
            <a:ext cx="2665440" cy="863640"/>
          </a:xfrm>
          <a:prstGeom prst="wedgeRectCallout">
            <a:avLst>
              <a:gd name="adj1" fmla="val 63935"/>
              <a:gd name="adj2" fmla="val -280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 configurar la vostra compte i sortir del corr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67640" y="1916280"/>
            <a:ext cx="147636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492280"/>
            <a:ext cx="8269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661000"/>
            <a:ext cx="2665440" cy="432000"/>
          </a:xfrm>
          <a:prstGeom prst="wedgeRectCallout">
            <a:avLst>
              <a:gd name="adj1" fmla="val -55657"/>
              <a:gd name="adj2" fmla="val -744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 crear un nou corr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Grups de l’IES Pau Cla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han creat grups de treball per poder realitzar tasques:com enviar un correu, compartir un calendari o documents. Es poden definir més grups (m’ho demaneu, detallant quines persones ho formarien), en aquest moment hi ha creats els seguents gru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lumnesBATX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alumnes.batx1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umnesBATX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alumnes.batx2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1A: alumnes.eso1a@iespauclaris.or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1B: alumnes.eso1b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2A: alumnes.eso2a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2B: alumnes.eso2b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3A: alumnes.eso3a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3B:alumnes.eso3b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4A: alumnes.eso4a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4B: alumnes.eso4b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: alumnes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sors: professors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quip directiu: secretaria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utors: tutors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 exemple per enviar un correu a tots els alumnes de 1er de batxillerat, tindreu que posar la següent adreça: alumnes.batx1@iespauclari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40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Altre correu que tenim disponible i que es possible sigui més global, potent i intuïtiu (hi ha que valorar qual ens quedem), si cliqueu sobre l’opció (*2) de la pàgina principal (bloc menú principal opció google ap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67280" y="2565360"/>
            <a:ext cx="2592360" cy="503280"/>
          </a:xfrm>
          <a:prstGeom prst="wedgeRectCallout">
            <a:avLst>
              <a:gd name="adj1" fmla="val -151101"/>
              <a:gd name="adj2" fmla="val 18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sar el vostre usuari xtec (per exemple: fmaldon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3429000"/>
            <a:ext cx="3313080" cy="792000"/>
          </a:xfrm>
          <a:prstGeom prst="wedgeRectCallout">
            <a:avLst>
              <a:gd name="adj1" fmla="val -134953"/>
              <a:gd name="adj2" fmla="val -84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ornar a posar el vostre usuari xtec (per exemple: fmaldon3), convenient canviar la contrasenya posterior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u en l’aplicatiu web google apps que ofereix un entorn de treball colaboratiu (es poden compartir documents, calendari, realitzar xa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3789360"/>
            <a:ext cx="2521080" cy="287280"/>
          </a:xfrm>
          <a:prstGeom prst="wedgeRectCallout">
            <a:avLst>
              <a:gd name="adj1" fmla="val 85643"/>
              <a:gd name="adj2" fmla="val -58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l vostre corr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429000"/>
            <a:ext cx="2521080" cy="287280"/>
          </a:xfrm>
          <a:prstGeom prst="wedgeRectCallout">
            <a:avLst>
              <a:gd name="adj1" fmla="val 85643"/>
              <a:gd name="adj2" fmla="val -58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 la vostra ag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068640"/>
            <a:ext cx="2521080" cy="287280"/>
          </a:xfrm>
          <a:prstGeom prst="wedgeRectCallout">
            <a:avLst>
              <a:gd name="adj1" fmla="val 85643"/>
              <a:gd name="adj2" fmla="val -58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ls vostres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2349360"/>
            <a:ext cx="2520720" cy="503280"/>
          </a:xfrm>
          <a:prstGeom prst="wedgeRectCallout">
            <a:avLst>
              <a:gd name="adj1" fmla="val 90425"/>
              <a:gd name="adj2" fmla="val 298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l constructor de pàgines web person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437000"/>
            <a:ext cx="2879640" cy="720720"/>
          </a:xfrm>
          <a:prstGeom prst="wedgeRectCallout">
            <a:avLst>
              <a:gd name="adj1" fmla="val 79990"/>
              <a:gd name="adj2" fmla="val -89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l canal xat entre els membres de la comunitat educ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6:17:23Z</dcterms:created>
  <dc:creator>paco_m</dc:creator>
  <dc:description/>
  <dc:language>en-US</dc:language>
  <cp:lastModifiedBy>paco_m</cp:lastModifiedBy>
  <dcterms:modified xsi:type="dcterms:W3CDTF">2010-02-26T20:41:50Z</dcterms:modified>
  <cp:revision>10</cp:revision>
  <dc:subject/>
  <dc:title>Diapositiva 1</dc:title>
</cp:coreProperties>
</file>