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5D8-50DC-4DBB-8CB9-942A6276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7B7-A0BA-4543-833A-9B76F17E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414-E5FB-42A9-8FE4-523949EF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9E7-46D4-4B4E-A908-DF10D827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6C3-E7EF-4288-898D-20977EB0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595-D16B-4955-86F9-606A4E2C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B39-1398-44A2-B269-8EECB173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334-76B8-4993-A675-EB0B58D0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F71-50E1-4E35-9743-02D94FEF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619-4597-4BBC-BA1E-93967E5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19C-1D92-425D-BBD8-33A87C7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AEC-2865-42C7-8C45-6243DD36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A52C-0452-4256-9A6B-E9A5DD437CAC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tec.cat/audiovisuals/" TargetMode="External"/><Relationship Id="rId3" Type="http://schemas.openxmlformats.org/officeDocument/2006/relationships/hyperlink" Target="http://www.xtec.cat/~mvert2/mp3/mp3crp.swf" TargetMode="External"/><Relationship Id="rId4" Type="http://schemas.openxmlformats.org/officeDocument/2006/relationships/hyperlink" Target="http://www.xtec.cat/~mvert2/truita2.swf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29228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es bàsiques i l’educació en Comunic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4720" y="62373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celona, 26 de novembr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1440" y="62856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JOR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ció en Comunicació i Currículum a deb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antil i Primà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5920" y="2851200"/>
            <a:ext cx="76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ció del nou currículum d’educació primà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hi està representada l’educació en Comunicaci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79912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síntesi, el desenvolupament de la competència lingüística i audiovisual, supo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ferent domini de llengües –oral, escrit-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múltiples suports,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el complement dels llenguatges audiovisuals en varietat de contextos i finalita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 a eina per aprendre a apren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lumnat sigui conscient del procés seg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ui capaç d’usar funcionalment la reflexió, revisant i reformulant les seves producc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petència artística i cul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r cr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parau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el propi c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 tota mena de materials, suports i eines tecnològiques (..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epresentacions i anàlisi de la reali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viure i conviure en soci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5199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una competència interdisciplinària, que cal desenvolupar en les activitats de totes les à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competències metodològiqu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Tractament de la informació i competència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4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ús de diferents supo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zació de les tecnologies de la informació i la comunicació com element essencial 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r-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ndr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r-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32360" y="4002120"/>
            <a:ext cx="41767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ctament de la informació es desenvolup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cer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a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e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ment de la informaci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 l’ús de tècniques i estratègies diverses segons la font i els suports que s’utilitz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è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visu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348000" y="1125360"/>
            <a:ext cx="1841400" cy="1443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300720" y="422100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4581360"/>
            <a:ext cx="1979640" cy="227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3924360" y="4581360"/>
            <a:ext cx="2357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tament de la informació i competènci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reix el domi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lenguatges específics bà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èr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òn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à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eves pautes de decodificació i transferè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plicació en distintes situacions i contextos del coneix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diferents tipus d’informació, fonts, possibilitats i localització dels llenguatges i suports més freqü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02400" y="1341360"/>
            <a:ext cx="22543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147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r la informació en coneix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re-la i integrar-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informació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 coneixements adquir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rar de manera cre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os expressius que incorpo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ossibilitats que ofereix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ecnologies de la informació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unicaci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5300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65800" y="907920"/>
            <a:ext cx="2698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ència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ús reflexiu i competent de les tecn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s clau en el desenvolupa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totes les competè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ir una actitud crítica i reflex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ant de la ideologia que transm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que condiciona la vida individual i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IC com a eina en l’ús de models de proce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àtics, físics, social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r i gestionar adequadament informació abundant i compl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dre probl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ballar en entorns col·laborat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ser competents, s’han de mobilitzar estratè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ir en compte que els textos no són lineals, format multimè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ús de diferents tipus de processos de comprensió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variades estratègies per al seu ús en diferents contextos comunicat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matemà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d’aprendre a apren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ompetències perso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d’autonomia i iniciativa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620640"/>
            <a:ext cx="82296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es específiques centrades en conviure i habitar el m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a en el coneixement i la interacció amb el món fí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strar esperit crí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’observació de la realita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’anàlisi dels missatge informatius i publicita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utilització de valors i criteris ètics associ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ciència i al desenvolupament tecnolò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ència social i ciutad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ències bàs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r els diferents aprenentatges impulsant la transversalitat dels coneix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lumnat integri els seus aprenentat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oni els diferents tipus de conting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 utilitzi de manera efectiva en diferents situacions i contex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re al professor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r continguts i criteris d’avaluació bàsics per a tot l’alumnat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dre decisions relatives al procés d’ensenyament i aprenentat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6760" y="2130480"/>
            <a:ext cx="14428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é enllaços 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udiovisual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del Depar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l 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é u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porta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836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na de les àrees curricu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76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upament de les competències bà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21398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esenvolupament de diferents competè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1052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6560" y="1555920"/>
            <a:ext cx="20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342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na de les competències bà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e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47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365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ssolir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5229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 el treball en distintes à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842920" y="4076640"/>
            <a:ext cx="2808360" cy="12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33992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ències transvers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comunic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comunicativa lingüística i audio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es artística i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metodolò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ament de la informació i competència 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matemà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d’aprendre a apren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etències pers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ència d’autonomia i iniciativ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ències específiques centrades en conviure i habitar el m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en el coneixement i la interacció amb el món fí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ència social i ciuta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142040" y="3500280"/>
            <a:ext cx="1967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competències comunic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sa saber interaccio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escri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 l’ús dels llenguatges audiovis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re a comuni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saber utilitzar diferents llenguatges i tecnologies de la informació i la comunicac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estes tecnologies condicionen la comunicaci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odifiquen la manera de veure el món i de  relacionar-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670800" y="1125360"/>
            <a:ext cx="2438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Competència comunicativa lingüística i audiovis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07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seu desenvolupament és responsabilitat de totes les àrees i matèries del currícul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varietat de tex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766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conten: anècdota, testimoniat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2492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escriuen:    informe d’observacions,               fulletó informatiu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24210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organitzen informació o idees: esquema, mapa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573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iuen com fer:    dossier de sortida de camp, recept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508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xpliquen:     notícia periodística reportat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335772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impliquen interaccions verbals:    entrevista, còmic, conversa, dramatització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5878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erveixen d’eines de referència:    diccionari, banc de dad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8200" y="5373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a convèncer o actuar:    anunci, deba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6067440"/>
            <a:ext cx="8172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s poden presentar amb l’ús de llenguatges audiovis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esentar-los tamb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00360" y="5157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licar emocions, sentiments: textos poètic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nguatges audiovis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n uns codis que cal conèix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n aparèixer en suport paper o dig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n unes formes diferents que s’han de considerar en el procés d’aprenentat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35280" y="5229360"/>
            <a:ext cx="331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5112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petència comunicativa lingüística i audiovisual cal que s’apliqu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16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cerca, selecció i processament de la informació provinent de tot tipus de mitjans, convencionals o digi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comprensió i composició de missatges diferents amb intencions comunicatives o creatives, i en suports dive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6291360"/>
            <a:ext cx="125568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56360" y="4984920"/>
            <a:ext cx="294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10:07Z</dcterms:created>
  <dc:creator>montserrat</dc:creator>
  <dc:description/>
  <dc:language>en-US</dc:language>
  <cp:lastModifiedBy>paco_m</cp:lastModifiedBy>
  <dcterms:modified xsi:type="dcterms:W3CDTF">2010-04-23T23:20:57Z</dcterms:modified>
  <cp:revision>46</cp:revision>
  <dc:subject/>
  <dc:title>Competències bàsiques i l’educació en Comunicació</dc:title>
</cp:coreProperties>
</file>