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FD7E-0F37-4B7C-A2B7-A13805FF1BF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5A2-0941-43A2-92EB-C5E2703C33B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F26-16D7-4264-BA7C-00B783073B7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8D5-9D5F-42E5-8B23-DB6FAB71539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A00A-ABC9-4AA1-91DA-267AE4EE6AE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44A7-1AD0-4A6D-9858-00F243A992D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2317-57A0-4193-A03F-7F5963F01E2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9A8-B2CB-4A6B-9607-282607E3372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E01D-DF56-4897-B353-070F1521B90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E9CF-4863-4C53-93F8-A2D3678F478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F534-AEA4-4C86-A35C-FCC9B6364B1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F71-B268-4972-885A-16F8F8046C0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0081-7FF0-4829-9C57-39937CB4761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9EB0-4855-42F5-BDE8-8BF68C0AA07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4CBF-F71A-44C4-9448-12EE34D13CE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B7F-866D-4F30-90E2-216600B6138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7D1-6B58-48FD-A1F3-E0C251B595B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ED0-9BF1-46A0-891C-0E4F6C668D8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15DD-623C-48FB-9E20-C150D33DE5A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941-C888-4F6C-8D6E-25E100A4B67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C1B7-D45C-4557-BD64-26BD4459642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396E-6F2F-43B8-A287-A8A82BBB88C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9137-7613-4B1A-A33C-D1A5F792F85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BC2E-2B37-49F2-B657-F3A21FF9567B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5EC-BB9B-4BBD-A168-D66AF028EB3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53D2-0C0C-41A3-8EC9-F949F3BCBB6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9F02-8C52-4B3E-A92E-3BDEBA3A4C6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3E95-D23C-475A-8BF9-B9DC57D8EC3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E9FE-2778-4E88-AA8C-A343FB88C30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63B-9C30-44AF-8B28-040A95DBAED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9CBA-B99F-46D1-978C-7E208BF703F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2854-BE68-4A63-87BE-DFB3FC2AE33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8A0-15F3-4BC6-9383-61E397C2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0D6-ED3B-483E-8482-54B3566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287-65D7-4A99-9AF6-795C7000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CA7-EF3C-4CAA-BB85-80A73CF8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1732-5CC3-4256-B8F2-E900F4FB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3A09-ACEF-4A15-9915-57D4842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D8E1-9A94-41EA-9B0B-902CDECF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896-0EC2-4D68-A205-C6309D3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025-4715-4B56-8BC0-9678EE3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B3D6-F2DE-4009-94B4-519C8C8B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9616-3B0C-45CD-A785-4A6C588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47D-1408-425A-B521-38224CA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AEB-4A24-424A-A499-7B3F29B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FFD-A8A7-4086-A8BB-D11E144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ECC7-3724-4F59-ACF2-09919C5F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4DAC-A157-4E54-93CB-3B0C8F6D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320B-B7D8-40F9-B255-58E26AB5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2760-5DCC-45EC-BECF-33D69D56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D490-C41B-4126-A4CA-E08C4D6A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C05D-006C-403A-92A3-A28053A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91F8-2125-45BF-BCCE-946764C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AC14-DE10-4B3D-B295-331C593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82D-7300-4251-932B-99400E02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0B7D-A499-4300-891F-FDCBCE9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8ECC-895C-4405-A003-4641138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8D33-30DE-4ECA-8FE7-CD876A4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9DF6-B552-422E-8849-136AF66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3D85-A3F6-41A1-94A6-314893A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58FD-83C3-4142-8ED4-B385AB7A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5183-20B4-4C73-A8F8-9551F6EC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4137-B5DE-49D8-9947-B564B228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BFD1-BC0E-4181-9F79-43246BAA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688B-B04A-408D-A484-A140347B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1E4-4F42-4804-95B7-3531B1A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5E9D-38DE-400C-9F2C-38E0337B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EA11-F439-4836-BA46-9A1FF94D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63A7-DEA0-4630-9A4F-82E8F46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6417-7BFA-4603-9A9D-C7043B66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A8C1-560C-47E8-A729-7B44B1B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CF5A-8A8C-473C-BF15-D6C3DEA8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3EB50-28A1-408D-A560-3CCFD991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E6D4-C1DF-4D21-ADA7-2F8ED664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8254-B6A9-4B47-A1F8-13019A1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9E75-D705-4CED-93AD-987F2C3D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5A8-CE49-410F-ABC0-88DBE92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C6C18-98E9-4ACE-A2FC-609BC38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18479-54AE-4C76-97E8-1DA5B27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E0B1-2C49-4A8D-98DA-57E829C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F70D-E458-4A93-BB86-03B087E4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6A635-E5CD-4D10-A7CF-16BB76C8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D6EE-F0C7-4147-A6D1-93F720D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B4D0-CCBC-483B-83EF-B6D4D9F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7174-5391-4658-8940-23E147EB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727E8-61F7-40F0-ACBA-CA69CB03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048E-BBBC-4A86-A310-8D32958F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592-38F5-41DF-8A15-543084EF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9B77-9869-45BC-A616-A29093F8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320A0-CD19-4FCE-8DCE-CC1173FC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713C-C315-424B-9E86-D7A946AC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F8A60-FD5A-404A-8840-34BE36BA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1DF4-16AB-488F-9663-392458E4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1290-A25B-443E-93A9-7537CC27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7C48-F1FF-49B3-B0E8-329C6BC2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1786-2559-4A35-9928-0BBA520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E7F8-87DE-4C2F-8D89-4B327D4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4AEA-076E-4AD6-84ED-842DDC9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D22-31D0-4066-B00C-5013AC8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FEAF9-F744-4FE0-94B3-1CA18EF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59EC1-B130-420F-93C0-92551B90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30FC-D772-497E-AAE3-ED94AF73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A2A-2025-4B87-B416-4075FDE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BBC-5009-48D9-832F-9C8D355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4B7-1530-4F8C-BE2A-8B69A5AF36FE}" type="slidenum">
              <a:rPr b="0" lang="es-ES_tradnl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822B-E351-43A3-BF57-F124CE6D6ADB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B9EA-4172-4F89-BEFE-4FD68FF913DC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19F-C09A-47DB-A690-67E7D953EFC8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FE8B-9D6E-4959-BD17-40EE6D0F4946}" type="slidenum">
              <a:rPr b="0" lang="es-ES_tradnl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4641-E56C-4504-BC67-64643A7C20CC}" type="slidenum"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859280" y="242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PROFUNDIMENT- GIRON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l portfolio intermedi: bastimen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isseny d’un projec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ines pel projecte: delicious, igoogle, googledocs, google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-360" y="1882800"/>
            <a:ext cx="88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El portfolio intermedi: bastimentd’un projec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Eines pel projecte: víde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a competència audiovisu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nimoto, moviemaker, screentoast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Xarxes social: llenguatic.ning.co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Presentac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 nadiu digital: tendències EDU +[TIC]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De l’aula Moodle al cloud compu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s portafolis: alumnat i professor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IES Castelló d’Empúrie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rcRect l="5439" t="0" r="5439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Multi-tasque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rcRect l="0" t="25205" r="0" b="25205"/>
          <a:stretch/>
        </p:blipFill>
        <p:spPr>
          <a:xfrm>
            <a:off x="1143000" y="428760"/>
            <a:ext cx="7358040" cy="5486400"/>
          </a:xfrm>
          <a:prstGeom prst="rect">
            <a:avLst/>
          </a:prstGeom>
          <a:ln w="0">
            <a:noFill/>
          </a:ln>
        </p:spPr>
      </p:pic>
      <p:sp>
        <p:nvSpPr>
          <p:cNvPr id="301" name="6 Elipse"/>
          <p:cNvSpPr/>
          <p:nvPr/>
        </p:nvSpPr>
        <p:spPr>
          <a:xfrm>
            <a:off x="857160" y="500040"/>
            <a:ext cx="2143080" cy="13572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Escoltar mú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8 Elipse"/>
          <p:cNvSpPr/>
          <p:nvPr/>
        </p:nvSpPr>
        <p:spPr>
          <a:xfrm>
            <a:off x="1928880" y="3786120"/>
            <a:ext cx="19144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Truc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Fo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9 Elipse"/>
          <p:cNvSpPr/>
          <p:nvPr/>
        </p:nvSpPr>
        <p:spPr>
          <a:xfrm>
            <a:off x="6572160" y="2928960"/>
            <a:ext cx="2000520" cy="11430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Jo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10 Elipse"/>
          <p:cNvSpPr/>
          <p:nvPr/>
        </p:nvSpPr>
        <p:spPr>
          <a:xfrm>
            <a:off x="6643800" y="1000080"/>
            <a:ext cx="16430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De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13796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Pensen i Processen la informació de manera No linea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3"/>
          <a:stretch/>
        </p:blipFill>
        <p:spPr>
          <a:xfrm>
            <a:off x="1214280" y="428760"/>
            <a:ext cx="7000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Actiu, no passiu: aprèn f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Connectat i mòbil: 24/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Participatiu : interactiu i soci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Multi-tas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Jugador: reptes, jo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Ràpid, impacient: recompensa immediat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Visual, iconogràf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Usar l’ordinador no és suficient… si és per fer  el mateix d’abans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www.goldmundus.com/wp-content/web222_01.gif"/>
          <p:cNvPicPr/>
          <p:nvPr/>
        </p:nvPicPr>
        <p:blipFill>
          <a:blip r:embed="rId2"/>
          <a:stretch/>
        </p:blipFill>
        <p:spPr>
          <a:xfrm>
            <a:off x="1357200" y="1857240"/>
            <a:ext cx="60724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17" name="9 Marcador de posición de imagen" descr="web2.3.jpg"/>
          <p:cNvPicPr/>
          <p:nvPr/>
        </p:nvPicPr>
        <p:blipFill>
          <a:blip r:embed="rId3"/>
          <a:srcRect l="6908" t="0" r="6908" b="0"/>
          <a:stretch/>
        </p:blipFill>
        <p:spPr>
          <a:xfrm>
            <a:off x="571680" y="1857240"/>
            <a:ext cx="79293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Presentac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 nadiu digital: tendències EDU +[TIC]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De l’aula Moodle al cloud compu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s portafolis: alumnat i professor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Aula virtual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trencant barreres d’espai i  temps : MOOD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07f09"/>
                </a:solidFill>
                <a:latin typeface="Calibri"/>
              </a:rPr>
              <a:t>phobos.xtec.net/comunitatdellengua/aul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ES_tradnl" sz="3000" spc="-1" strike="noStrike">
                <a:solidFill>
                  <a:srgbClr val="6b9f25"/>
                </a:solidFill>
                <a:latin typeface="Century Gothic"/>
              </a:rPr>
              <a:t>Usuari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mail fins @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ES_tradnl" sz="3000" spc="-1" strike="noStrike">
                <a:solidFill>
                  <a:srgbClr val="6b9f25"/>
                </a:solidFill>
                <a:latin typeface="Calibri"/>
              </a:rPr>
              <a:t>Contrasenya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:mail fins @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ES_tradnl" sz="3000" spc="-1" strike="noStrike">
                <a:solidFill>
                  <a:srgbClr val="6b9f25"/>
                </a:solidFill>
                <a:latin typeface="Calibri"/>
              </a:rPr>
              <a:t>CLAU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: Giro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1" name="2 Subtítulo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3" name="2 Subtítulo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2 i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l fòrum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es xarxes social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s al fòrum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Retorn sessió 4 i fòrum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a competència oral: què fem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Podcasting: què é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udacity i servidors w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Inici&gt;IES programes especifics&gt;musica&gt;audac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Fem un podcast i pensem-hi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ins a quin punt aixó del facebook no s'acabarà carregant les antigues comunitats d'amistat, professionals, etc... i acabarem globalitzant fins i tot una cosa tant personal i íntima com les relacions humanes que cadascú té!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no ha fet res més que banalitzar el sentit de les relacions humanes i fer-les menys comprometedores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Han dit els meus fills es un espai nostre, els profes no hi heu d’entrar a fer res!!!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no m’agrada. M’agrada sortir,parlar, veure i abraçar als meus amics. De que serveix tenir milersd’amics si són “virtuals”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No ho entenc, a mi no m'interessen les fotos -de les vacances- de gent que no conec.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mbla molt addictiu, hi ha gent molt enganxada.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” 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el xafardebook fa mooolta por! “ m'esborro perquè fa poooorrrrrr!!!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És una bona manera de mantenir l'amistat entre nosaltres. Heu de pensar que tots érem de llocs diferents i de llengües diverses. Ara ens comuniquem en alemany i a més tenim un espai virtual en comú. Ho he trobat interessant i molt útil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Coincideixo amb l'opinió de que el facebook és pura xafarderia. Sóc una xafardera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paper decisiu dels mitjans digitals a la campanya de Barack Obama: mobilització dels votants joves, ús de les platafomes de manera col·lectiva, implicació ciutadan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tot i això hi sóc, amb restriccions, no s'han de tancar mai totes les portes però s'han de tenir tancades les que no volem obrir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És cert que tota innovació tecnològica al principi ens provoca por, fòbia o qualsevol mena de reacció en contra. Però el cert és que tota cosa desconeguda ens ho provoca.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anteriors i podcast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ídeo : tecnologia i metodologi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Wiki i wikipèdi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: què fem amb wiki treball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Wiki-dub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ideo : Punset i Schank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ceres del treso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: què cacem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2d050"/>
                </a:solidFill>
                <a:latin typeface="Calibri"/>
              </a:rPr>
              <a:t>Competència digit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Implica desenvolupar metodologies de treball que afavoreixi que els nois i les noies puguin esdevenir persones autònomes, eficaces, responsables, crítiques i reflexives en la selecció, tractament i utilització de la informació i les seves fonts, en diferents suports i tecnologie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OGC n. 4915 p. 2188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ATIUS DIGITA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37960" y="374760"/>
            <a:ext cx="7334280" cy="5486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1214280" y="500040"/>
            <a:ext cx="7286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2d050"/>
                </a:solidFill>
                <a:latin typeface="Calibri"/>
              </a:rPr>
              <a:t>Competència digit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_tradnl" sz="2400" spc="-1" strike="noStrike">
                <a:solidFill>
                  <a:srgbClr val="ffc000"/>
                </a:solidFill>
                <a:latin typeface="Calibri"/>
              </a:rPr>
              <a:t>Transformar la informació en coneixement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xigeix el domini de les  destreses relacionades amb el raonament per organitzar-la, relacionar-la, analitzar-la, sintetitzar-la i fer inferències  i deduccions de distint nivell de complexitat;  en definitiva, </a:t>
            </a: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comprendre-la i integrar-la en els esquemes previs de coneixe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Significa, així mateix, </a:t>
            </a: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comunicar la informació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i els coneixements adquirits, emprant, de manera creativa, recursos expressius  que incorporin, no solament diferents llenguatges i tècniques específiques, sino també les possibilitats que ofereixen les TIC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alibri"/>
              </a:rPr>
              <a:t>DOGC n. 4915 p. 21879-80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ça-dub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ideo : marcadors social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Geota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lamins/chuches/candi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Preparant presentació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99640" y="537336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</a:rPr>
              <a:t>TENDÈNCIES D’EDUCACIÓ [+TIC]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90792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1- Mòbils i aprenentat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2- CLOUD computing: ordinadors al núv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3- 1:1  Un ordinador per alumn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4- Aprenentatge UBIQU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</a:rPr>
              <a:t>TENDÈNCIES D’EDUCACIÓ [+TIC]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907920"/>
            <a:ext cx="88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5- Redefinició d’espais d’aprenentat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6- Avaluació amb portafol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7- Continguts oberts (dels llibres de text a material digital personalitza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8- Personalització de l’aprenen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Objectiu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1- Actualització d'eines i nous recursos per a aprendre llengua al s.XXI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2- Dissenyar, implementar i compartir un projecte d'aula [+TIC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’estat dels projec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Microblo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07f09"/>
                </a:solidFill>
                <a:latin typeface="Calibri"/>
              </a:rPr>
              <a:t>Twitter: què estàs fent?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 5 estadi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1- quina xorrada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2- em dono d’alt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3- hi penjo co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4- hi trobo gent per a conver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5- informació útil+discuss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’estat dels projec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Microblo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0:02:06Z</dcterms:created>
  <dc:creator>Sònia</dc:creator>
  <dc:description/>
  <dc:language>en-US</dc:language>
  <cp:lastModifiedBy>IES Montilivi</cp:lastModifiedBy>
  <dcterms:modified xsi:type="dcterms:W3CDTF">2010-04-07T16:48:51Z</dcterms:modified>
  <cp:revision>43</cp:revision>
  <dc:subject/>
  <dc:title>Llengües  [+TIC]</dc:title>
</cp:coreProperties>
</file>