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CBFE-E1D7-4052-91D4-95BAFE035A19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9E96-AF81-4875-9BF6-F173920243B9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52E5-9382-4918-BEED-1F556A3FCF56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9CFB-C0EB-4185-8D9E-6713EC9C6C31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0DB3-5D3E-4851-9FC6-FC034CD24F93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7896-7EC0-441E-9DD3-09D3C5D1A5B7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A1E6-B094-41BF-9091-093F8248EDB7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4263-D738-4731-B273-1E4B207C57C7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B3B9-9823-44A1-A28D-5704770F89EB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BE2E-5E92-46C7-ABE8-28F767ABB286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3B8B-C0BB-4987-A672-CE2BF9EA5A75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B7C6-5078-487F-8798-9C21D76B16EF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40B4-098D-419F-9B7E-1C4B5B0E1363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5EB1-CD81-44E3-9A6B-33DA4F7AB72C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45CA-95A9-4CCB-9151-CEFD09045BD7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A6A6-B1DA-46B0-BF4E-5C3C0133B3CB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1111-B868-416C-B7FD-26E72C436E32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9AF2-E2F3-42D3-86C0-81FC96050319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D9C3-8966-48BD-A0F0-A9C025FF31A0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0760-036E-4DE0-9092-09DD783D844A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94AE-344F-451A-8907-C7910A6BF641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30A7-B960-4C0B-A84B-B799545D30B9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A0F1-2D17-451B-876A-23B3ECEBEAA7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21EB-8EC4-406C-840B-7DBFB7434B42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2503-80FF-4A9A-B58E-190A76F3F9CC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51BD-0EA8-4A0B-AEAC-F97543B297C0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E7E7-90FF-4C2C-9153-C26803D94EB5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EB19-A797-49DE-835E-173F735E5B81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7A48-844F-425B-B63A-B82675F0664A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8857-9C3C-42E8-9670-984FD67ED72B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AF51-605F-40D2-898A-0A86189F18FA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93B9-4690-4880-AD4B-29A2BFFE1563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51C2-919C-4A49-8FB1-EEDD6486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6BFD-BBBC-4290-AAE5-525AB741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04A-6A52-44F5-A52B-BC37DD32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2D1-2F1A-4AF7-B32A-FEDABF34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0117-B32B-48AB-8F2E-BF2B444F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EFDA-2290-416A-951F-7BB7BDBB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572B-45A4-4C9C-BE68-A52281C6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93F5-856E-48C2-AE7E-88E141BB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0A7D-D769-47F0-BADF-B97D2864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16B5-A3C6-429C-B219-0F4D95F2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F93B-1AD7-4BC1-911F-F211F347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A9B-187A-470C-835D-C80866BB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F99C-2902-478E-AD0B-094EF87D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F7DB-7804-43E9-B07D-BD875340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7313-8103-489B-A4E4-FCFAD389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3D44-5F25-456C-86CC-7570BF4E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694C-E343-4C4C-96F8-08EC33FB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9512D-8E3C-410E-A9CE-6AAB99A9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34CAB-9711-4380-9205-227CA121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FE8A3-F0B4-42D1-8053-90C5BB67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F20B8-4CF0-40F1-B876-30C0A353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94DF5-82E5-414F-B4EA-339DCE9C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BA6-2A01-4122-A105-A14DD60C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5328F-6B37-4F32-99A8-3391F2F8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98E9F-4B97-450A-B917-A1101635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F268B-4994-4C21-B327-89CD2C55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199A5-356B-43AF-A0B7-C8BC2F54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78CAF-7DC9-4E33-AA48-B4C52552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EBFE-684A-4AEB-A598-94C7FA02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41EF9-70F3-4D59-92A4-5D2FA0B6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EA392-80FE-4521-AEEE-889B2A52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64103-B3D8-4959-84D2-6753304D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EB9E0-2362-4FA1-95C7-67D8B4EC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4F8-9776-4B86-A5A8-DB922EAF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151D9-EF13-458F-9837-F4E6E855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82E98-4FFE-4DF1-A220-8866BFA1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6CB5A-8250-4B98-B813-A5BC6C0F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2CE27-80E1-4E63-9482-C6B9DD0A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2C2D5-D5F6-4454-BB22-8A86D25C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A0CC8-49AD-4D4D-955E-B0A7CE3A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6ABF7-DA01-4A24-BCE8-8A3EEFE0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69D06-7B6B-4E2C-ACB6-516A662B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FA0B2-FB78-4C16-BB8C-1E9C8269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2B8C0-11AD-45F5-AAD1-F6E40124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A11-E4D6-4DE0-902A-B9F3BCDB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BB4B9-93F1-4CA6-95D4-5026BC13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CFEB4-E009-4A9E-A80C-3CD68D7D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CF187-0199-4FCA-BC7F-38D9FDE2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D7F8F-478E-4EE4-B5F0-FBD74E74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6DA59-12F5-4A25-9E58-AE06510B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E6197-17EC-4861-ACCA-5D83B89E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6D791-669B-4111-BB46-7B6F4371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3B444-2936-42A9-B0C5-5E42C225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E7528-8187-4268-B321-56FAB24A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73D68-353A-4C4F-AE2C-1D9E3EFA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791-F8F8-46E6-A5A7-41A831EB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8A030-48DC-4A31-9C95-5A0A8F6B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3EFB5-2EE9-405D-A540-B0E92A5E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D70F1-18B2-4344-8752-2D62AF58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9FABC-1EEF-459C-BD93-69AAF210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F16C6-0629-41C6-ADED-370B48E4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FFE91-CF35-4C30-9024-D647905B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5C368-CBCF-428F-B78C-17AAF4D1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2F87E-BDBF-4802-9D47-2D4C5071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B2D1C-BA35-4D86-9FBD-9A179A71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C134C-ED19-4F70-9F0F-61E90064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1E2-3472-453E-A9D7-506D9E6E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2B293-E742-4C25-967A-01C47E6E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3237B-D7FF-4CA5-AD85-1565E910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5D032-82DC-45E1-B1B4-42B3B28E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961-41D1-4457-9C72-A4D5AB04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F0B-45DD-4747-A0F9-A15E1156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CA40-6A47-4982-8691-7F03CAEFF326}" type="slidenum">
              <a:rPr b="0" lang="es-ES_tradnl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6BC3-9133-4B55-99B3-48A30DE90D11}" type="slidenum"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12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14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F638-83A3-4C0A-8737-25AC8A767800}" type="slidenum"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15B4-1B21-4FE5-8B3F-41FF562AB544}" type="slidenum"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7112-3D20-4268-9DA4-68037E99C4D8}" type="slidenum">
              <a:rPr b="0" lang="es-ES_tradnl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DA15-2197-49FF-A2CF-191305C08953}" type="slidenum">
              <a:rPr b="0" lang="es-ES_tradnl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1 Título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859280" y="2421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APROFUNDIMENT- GIRONA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El portfolio intermedi: bastimen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Disseny d’un project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Eines pel projecte: delicious, igoogle, googledocs, googlesi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Xarxes social: llengua i tic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-360" y="1882800"/>
            <a:ext cx="8893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b9f25"/>
                </a:solidFill>
                <a:latin typeface="Calibri"/>
              </a:rPr>
              <a:t>El portfolio intermedi: bastimentd’un project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b9f25"/>
                </a:solidFill>
                <a:latin typeface="Calibri"/>
              </a:rPr>
              <a:t>Eines pel projecte: víde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a competència audiovisual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nimoto, moviemaker, screentoaste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b9f25"/>
                </a:solidFill>
                <a:latin typeface="Calibri"/>
              </a:rPr>
              <a:t>Xarxes social: llenguatic.ning.co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Presentac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El nadiu digital: tendències EDU +[TIC]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De l’aula Moodle al cloud comput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Els portafolis: alumnat i professor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1 Título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07f09">
              <a:alpha val="15000"/>
            </a:srgbClr>
          </a:solidFill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entury Gothic"/>
              </a:rPr>
              <a:t>IES Castelló d’Empúrie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2"/>
          <a:srcRect l="5439" t="0" r="5439" b="0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1 Título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07f09">
              <a:alpha val="15000"/>
            </a:srgbClr>
          </a:solidFill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entury Gothic"/>
              </a:rPr>
              <a:t>Multi-tasque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2"/>
          <a:srcRect l="0" t="25205" r="0" b="25205"/>
          <a:stretch/>
        </p:blipFill>
        <p:spPr>
          <a:xfrm>
            <a:off x="1143000" y="428760"/>
            <a:ext cx="7358040" cy="5486400"/>
          </a:xfrm>
          <a:prstGeom prst="rect">
            <a:avLst/>
          </a:prstGeom>
          <a:ln w="0">
            <a:noFill/>
          </a:ln>
        </p:spPr>
      </p:pic>
      <p:sp>
        <p:nvSpPr>
          <p:cNvPr id="301" name="6 Elipse"/>
          <p:cNvSpPr/>
          <p:nvPr/>
        </p:nvSpPr>
        <p:spPr>
          <a:xfrm>
            <a:off x="857160" y="500040"/>
            <a:ext cx="2143080" cy="13572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Escoltar mú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8 Elipse"/>
          <p:cNvSpPr/>
          <p:nvPr/>
        </p:nvSpPr>
        <p:spPr>
          <a:xfrm>
            <a:off x="1928880" y="3786120"/>
            <a:ext cx="191448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Truc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Fo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9 Elipse"/>
          <p:cNvSpPr/>
          <p:nvPr/>
        </p:nvSpPr>
        <p:spPr>
          <a:xfrm>
            <a:off x="6572160" y="2928960"/>
            <a:ext cx="2000520" cy="11430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C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Jo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10 Elipse"/>
          <p:cNvSpPr/>
          <p:nvPr/>
        </p:nvSpPr>
        <p:spPr>
          <a:xfrm>
            <a:off x="6643800" y="1000080"/>
            <a:ext cx="164304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De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137960" y="374760"/>
            <a:ext cx="7334280" cy="54864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07f09">
              <a:alpha val="15000"/>
            </a:srgbClr>
          </a:solidFill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entury Gothic"/>
              </a:rPr>
              <a:t>Pensen i Processen la informació de manera No linea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3"/>
          <a:stretch/>
        </p:blipFill>
        <p:spPr>
          <a:xfrm>
            <a:off x="1214280" y="428760"/>
            <a:ext cx="70009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1 Título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8828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Actiu, no passiu: aprèn fe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000"/>
                </a:solidFill>
                <a:latin typeface="Century Gothic"/>
              </a:rPr>
              <a:t>Connectat i mòbil: 24/7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Participatiu : interactiu i soci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000"/>
                </a:solidFill>
                <a:latin typeface="Century Gothic"/>
              </a:rPr>
              <a:t>Multi-tasqu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Jugador: reptes, jo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000"/>
                </a:solidFill>
                <a:latin typeface="Century Gothic"/>
              </a:rPr>
              <a:t>Ràpid, impacient: recompensa immediat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Visual, iconogràfic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Usar l’ordinador no és suficient… si és per fer  el mateix d’abans</a:t>
            </a: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http://www.goldmundus.com/wp-content/web222_01.gif"/>
          <p:cNvPicPr/>
          <p:nvPr/>
        </p:nvPicPr>
        <p:blipFill>
          <a:blip r:embed="rId2"/>
          <a:stretch/>
        </p:blipFill>
        <p:spPr>
          <a:xfrm>
            <a:off x="1357200" y="1857240"/>
            <a:ext cx="60724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17" name="9 Marcador de posición de imagen" descr="web2.3.jpg"/>
          <p:cNvPicPr/>
          <p:nvPr/>
        </p:nvPicPr>
        <p:blipFill>
          <a:blip r:embed="rId3"/>
          <a:srcRect l="6908" t="0" r="6908" b="0"/>
          <a:stretch/>
        </p:blipFill>
        <p:spPr>
          <a:xfrm>
            <a:off x="571680" y="1857240"/>
            <a:ext cx="792936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Presentac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El nadiu digital: tendències EDU +[TIC]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De l’aula Moodle al cloud comput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Els portafolis: alumnat i professor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1 Título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Aula virtual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trencant barreres d’espai i  temps : MOOD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07f09"/>
                </a:solidFill>
                <a:latin typeface="Calibri"/>
              </a:rPr>
              <a:t>phobos.xtec.net/comunitatdellengua/aul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s-ES_tradnl" sz="3000" spc="-1" strike="noStrike">
                <a:solidFill>
                  <a:srgbClr val="6b9f25"/>
                </a:solidFill>
                <a:latin typeface="Century Gothic"/>
              </a:rPr>
              <a:t>Usuari</a:t>
            </a: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: </a:t>
            </a: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mail fins @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s-ES_tradnl" sz="3000" spc="-1" strike="noStrike">
                <a:solidFill>
                  <a:srgbClr val="6b9f25"/>
                </a:solidFill>
                <a:latin typeface="Calibri"/>
              </a:rPr>
              <a:t>Contrasenya</a:t>
            </a: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:mail fins @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ES_tradnl" sz="3000" spc="-1" strike="noStrike">
                <a:solidFill>
                  <a:srgbClr val="6b9f25"/>
                </a:solidFill>
                <a:latin typeface="Calibri"/>
              </a:rPr>
              <a:t>CLAU</a:t>
            </a: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: Giron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1 Título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21" name="2 Subtítulo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1 Título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23" name="2 Subtítulo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Dubtes i qüestions sessió 2 i 3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El fòrum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es xarxes social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ctivitats al fòrum 4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Retorn sessió 4 i fòrum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a competència oral: què fem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Podcasting: què é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udacity i servidors we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Inici&gt;IES programes especifics&gt;musica&gt;audac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Fem un podcast i pensem-hi!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fins a quin punt aixó del facebook no s'acabarà carregant les antigues comunitats d'amistat, professionals, etc... i acabarem globalitzant fins i tot una cosa tant personal i íntima com les relacions humanes que cadascú té! “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no ha fet res més que banalitzar el sentit de les relacions humanes i fer-les menys comprometedores “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Han dit els meus fills es un espai nostre, els profes no hi heu d’entrar a fer res!!!!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no m’agrada. M’agrada sortir,parlar, veure i abraçar als meus amics. De que serveix tenir milersd’amics si són “virtuals”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No ho entenc, a mi no m'interessen les fotos -de les vacances- de gent que no conec. “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mbla molt addictiu, hi ha gent molt enganxada.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” </a:t>
            </a: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el xafardebook fa mooolta por! “ m'esborro perquè fa poooorrrrrr!!! “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95280" y="1196640"/>
            <a:ext cx="8569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És una bona manera de mantenir l'amistat entre nosaltres. Heu de pensar que tots érem de llocs diferents i de llengües diverses. Ara ens comuniquem en alemany i a més tenim un espai virtual en comú. Ho he trobat interessant i molt útil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“</a:t>
            </a: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Coincideixo amb l'opinió de que el facebook és pura xafarderia. Sóc una xafardera!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l paper decisiu dels mitjans digitals a la campanya de Barack Obama: mobilització dels votants joves, ús de les platafomes de manera col·lectiva, implicació ciutadans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tot i això hi sóc, amb restriccions, no s'han de tancar mai totes les portes però s'han de tenir tancades les que no volem obrir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És cert que tota innovació tecnològica al principi ens provoca por, fòbia o qualsevol mena de reacció en contra. Però el cert és que tota cosa desconeguda ens ho provoca. “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Dubtes anteriors i podcasting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Vídeo : tecnologia i metodologia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Wiki i wikipèdia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ctivitat: què fem amb wiki treball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Wiki-dub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Video : Punset i Schank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Caceres del treso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ctivitat: què cacem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2d050"/>
                </a:solidFill>
                <a:latin typeface="Calibri"/>
              </a:rPr>
              <a:t>Competència digital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Implica desenvolupar metodologies de treball que afavoreixi que els nois i les noies puguin esdevenir persones autònomes, eficaces, responsables, crítiques i reflexives en la selecció, tractament i utilització de la informació i les seves fonts, en diferents suports i tecnologies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OGC n. 4915 p. 2188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1 Título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07f09">
              <a:alpha val="15000"/>
            </a:srgbClr>
          </a:solidFill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NATIUS DIGITAL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137960" y="374760"/>
            <a:ext cx="7334280" cy="5486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3"/>
          <a:stretch/>
        </p:blipFill>
        <p:spPr>
          <a:xfrm>
            <a:off x="1214280" y="500040"/>
            <a:ext cx="72867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2876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2d050"/>
                </a:solidFill>
                <a:latin typeface="Calibri"/>
              </a:rPr>
              <a:t>Competència digital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s-ES_tradnl" sz="2400" spc="-1" strike="noStrike">
                <a:solidFill>
                  <a:srgbClr val="ffc000"/>
                </a:solidFill>
                <a:latin typeface="Calibri"/>
              </a:rPr>
              <a:t>Transformar la informació en coneixement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xigeix el domini de les  destreses relacionades amb el raonament per organitzar-la, relacionar-la, analitzar-la, sintetitzar-la i fer inferències  i deduccions de distint nivell de complexitat;  en definitiva, </a:t>
            </a:r>
            <a:r>
              <a:rPr b="0" lang="es-ES_tradnl" sz="2400" spc="-1" strike="noStrike">
                <a:solidFill>
                  <a:srgbClr val="ffff00"/>
                </a:solidFill>
                <a:latin typeface="Calibri"/>
              </a:rPr>
              <a:t>comprendre-la i integrar-la en els esquemes previs de coneixemen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Significa, així mateix, </a:t>
            </a:r>
            <a:r>
              <a:rPr b="0" lang="es-ES_tradnl" sz="2400" spc="-1" strike="noStrike">
                <a:solidFill>
                  <a:srgbClr val="ffff00"/>
                </a:solidFill>
                <a:latin typeface="Calibri"/>
              </a:rPr>
              <a:t>comunicar la informació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i els coneixements adquirits, emprant, de manera creativa, recursos expressius  que incorporin, no solament diferents llenguatges i tècniques específiques, sino també les possibilitats que ofereixen les TIC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Calibri"/>
              </a:rPr>
              <a:t>DOGC n. 4915 p. 21879-80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Caça-dub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Video : marcadors social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Geotagging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lamins/chuches/candi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Preparant presentació TIC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99640" y="5373360"/>
            <a:ext cx="7334280" cy="685800"/>
          </a:xfrm>
          <a:prstGeom prst="rect">
            <a:avLst/>
          </a:prstGeom>
          <a:solidFill>
            <a:srgbClr val="f07f09">
              <a:alpha val="15000"/>
            </a:srgbClr>
          </a:solidFill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entury Gothic"/>
              </a:rPr>
              <a:t>TENDÈNCIES D’EDUCACIÓ [+TIC]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907920"/>
            <a:ext cx="8820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07f09"/>
                </a:solidFill>
                <a:latin typeface="Arial"/>
              </a:rPr>
              <a:t>1- Mòbils i aprenentat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fffff"/>
                </a:solidFill>
                <a:latin typeface="Arial"/>
              </a:rPr>
              <a:t>2- CLOUD computing: ordinadors al núv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07f09"/>
                </a:solidFill>
                <a:latin typeface="Arial"/>
              </a:rPr>
              <a:t>3- 1:1  Un ordinador per alumn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fffff"/>
                </a:solidFill>
                <a:latin typeface="Arial"/>
              </a:rPr>
              <a:t>4- Aprenentatge UBIQU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07f09">
              <a:alpha val="15000"/>
            </a:srgbClr>
          </a:solidFill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entury Gothic"/>
              </a:rPr>
              <a:t>TENDÈNCIES D’EDUCACIÓ [+TIC]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907920"/>
            <a:ext cx="8820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fffff"/>
                </a:solidFill>
                <a:latin typeface="Arial"/>
              </a:rPr>
              <a:t>5- Redefinició d’espais d’aprenentat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07f09"/>
                </a:solidFill>
                <a:latin typeface="Arial"/>
              </a:rPr>
              <a:t>6- Avaluació amb portafol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fffff"/>
                </a:solidFill>
                <a:latin typeface="Arial"/>
              </a:rPr>
              <a:t>7- Continguts oberts (dels llibres de text a material digital personalitza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07f09"/>
                </a:solidFill>
                <a:latin typeface="Arial"/>
              </a:rPr>
              <a:t>8- Personalització de l’aprenent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Objectiu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1- Actualització d'eines i nous recursos per a aprendre llengua al s.XXI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2- Dissenyar, implementar i compartir un projecte d'aula [+TIC]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Dubtes i qüestions sessió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’estat dels projec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Microblogging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Xarxes social: llengua i tic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07f09"/>
                </a:solidFill>
                <a:latin typeface="Calibri"/>
              </a:rPr>
              <a:t>Twitter: què estàs fent?</a:t>
            </a: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 5 estadi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1- quina xorrada!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2- em dono d’alta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3- hi penjo cos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4- hi trobo gent per a convers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5- informació útil+discussion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Dubtes i qüestions sessió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’estat dels projec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Microblogging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Xarxes social: llengua i tic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0:02:06Z</dcterms:created>
  <dc:creator>Sònia</dc:creator>
  <dc:description/>
  <dc:language>en-US</dc:language>
  <cp:lastModifiedBy>IES Montilivi</cp:lastModifiedBy>
  <dcterms:modified xsi:type="dcterms:W3CDTF">2010-04-07T16:48:51Z</dcterms:modified>
  <cp:revision>43</cp:revision>
  <dc:subject/>
  <dc:title>Llengües  [+TIC]</dc:title>
</cp:coreProperties>
</file>