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5816-550C-46AC-91EC-AD3CCB12B80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C66C-97E1-41B4-8815-8E2F1CE2E3B6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A90E-752B-4A47-9DBD-D11779F3EA8D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F9C5-A857-40E4-A24D-1B41EC354E20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EF5A-A50A-4E72-8195-B78B9330CAA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931F-297B-4802-91D5-BA09725031D6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658E-2439-4B25-AD0B-86D48331226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69CE-9B50-4CFD-82AE-9AE2C982EAE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BD90-C070-46CF-9323-02C0717605A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E7AA-3344-43A2-8031-06424B32AB68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CEE3-7773-46BD-B7D8-E51D081A0B6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15B2-A518-4D6E-9F3E-211B969AF156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DD18-1879-4645-B88F-B429F6495518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788F-D785-4266-BF69-4459E2FF8E0E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75DC-942B-4663-A3E8-BACA1DDD5135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883A-974E-4236-B544-8A34478A736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5C08-FA25-4841-BADD-1884B82A030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CB33-7A5E-47AB-A5BA-F456A5466C94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9575-E564-4CE4-B6E9-EEFBFA6A8AF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8D99-64DA-493E-8FC6-6853BA7156D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2B9F-02D8-4583-9A44-A3E9BB73386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E81A-D5E0-4489-9A0B-02FB6C51BAB2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B02D-621D-4B30-AFBD-623F176E4158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2826-E0F4-4EE0-9467-2D3B59C8A26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F5A4-A6B8-42B0-B514-5C44C18B38A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1156-2019-4DDB-A1E1-946CB0EF0B1D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8119-A337-484B-9043-36461B1E96F6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8BBB-C752-4219-8946-62D51EE29638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7130-3C86-4C5A-81CB-3FA748AAD73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7BCD-9F94-47A1-9E03-5FA008C042A4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D272-761C-4F4B-B439-2746FE73C46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8EA6-4002-4A50-A7A0-1A832C3EE2F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BA3-2BC6-4328-88E0-9086967F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2EA-C6CD-4156-8890-28A562D9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4CE-9E2C-48AD-BD80-F8FEC56B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8F3-FA53-4A43-9687-B320A4D7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9175-E191-48FC-8E77-52A12E5F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872B-CF16-40DC-A60C-59250831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1436-9CE8-4511-8F2B-842C3571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ACF7-D1CD-4E14-B544-A9F76DF1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6504-91B7-4838-B9AF-CD4EFD92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480D-EBA3-4382-94B2-740A8643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F924-74B9-4EB7-BAF8-5FA1A1B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152-F770-4371-A757-7AE00471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B244-452C-41C0-B570-CD455C26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6612-4C3D-4BA9-BA12-95EF8774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A057-ECD6-466A-8839-EE4BC1A2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09EB-CEBB-42C6-AD92-158A1F5B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5348-B031-4060-856A-54256DBF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336F-773C-4E9A-85E4-D86BF508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F76E-0B05-462A-BF0F-82D77EB5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36E0-EBFF-435A-8A7B-895CEC59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44E68-E0A9-4E62-83A7-7F004A56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6840-2FC0-4BA4-9CCB-2F05C5A6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62B-DAE6-45D0-A312-464EEC72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24DB-2EA7-4B4F-AF58-D5AD5ABA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96A9-AC56-4820-9349-701ECD02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8866-29EA-4278-AD6D-71973367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A7183-1833-4D63-9607-DCD4B79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3D63-26BB-4058-A7B8-6A67A9FF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19498-3078-4466-8220-B93E00B6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B70B-4B3C-4E4B-B4FA-6DA903A8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A1C38-4E2E-4148-A667-1FF1BC9C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83CD-4A78-40AF-BE79-9DAB7B7B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0A358-4B21-470F-9198-D37BF68F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96B-A002-45CE-AFDB-CFBD1387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D87DB-CD44-4ED7-8CFF-FF3BFD1F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AD510-19AB-484B-9B51-BF0672A3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595D-FEA3-4DF5-ADBD-E0557DFF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9E493-08DC-488A-A756-D22E569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B113B-2131-489F-AE2B-36FBA6DC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0BFD-9801-4972-A1CD-6BF8AA0C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EA6E-BAD8-491B-AE7F-BAC105AF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33FB6-2F77-426D-97C2-48702090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6D492-5465-41B4-8731-9371EC28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C7EA0-27D0-47A2-B28E-594AA833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D3C-5DDA-4A42-B1A4-F1493AA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28015-BE2B-4FF1-85FE-8300E3F2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81B53-0CC1-4F2F-8D23-34E269EC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E3BD0-9BBE-4ADC-86F6-2D1A9DD6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5E9E2-7FF4-4538-82E5-736C16B9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EF4FA-300D-4E1C-94FB-387F9366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DD8BA-155C-4468-8059-A7BCD1C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98EC6-B161-44E2-A6E3-94DC6045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C5EFB-936B-47EF-8EC5-B851BE1D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66EA9-CE67-4501-B139-A3E57BB2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8C956-E321-4712-B093-2802FBB4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1DD-CC95-404B-96EE-3F1B932A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167F7-2951-4757-BCD3-2D31E13E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03E8F-A757-4F55-A489-623F1D42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85F65-09C3-4D36-95F0-563242D8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F71A4-40FB-4A54-AF32-31B331F8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9FD59-A22A-4249-AB66-F225DA1A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29538-3CED-4ABD-A644-CB87DE33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D1FFB-BD60-47BD-B626-A5F71910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3A2A6-6664-417C-BD31-7C5B7587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DC001-7383-4D50-8645-4EFD3639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03062-A91C-4D36-ADCA-DBB2454D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148-A29E-4AA9-96CF-BB1C8585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F8019-50BE-42A0-B0C0-1E9B21F8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DFBB4-720C-4C2D-BB21-E56711D1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06EF6-9695-4097-9919-BD46D1F5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847-0FAE-4E6D-AAE4-6E2871C0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0DC-D866-488F-ADCC-6A8C5D0F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03DE-97E9-41BC-8B36-739763032213}" type="slidenum">
              <a:rPr b="0" lang="es-ES_tradnl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507A-65D1-47A3-9974-2EA464C69394}" type="slidenum"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6E37-E8B6-4F2E-9F56-FEF4792DDEE3}" type="slidenum"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580E-1C34-4CDF-BBA8-56385723678B}" type="slidenum"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05E3-6AB1-4F4B-862E-1D5FFD10C9BA}" type="slidenum">
              <a:rPr b="0" lang="es-ES_tradnl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CCAF-70AB-4EF1-B2E2-F7393DDB9143}" type="slidenum">
              <a:rPr b="0" lang="es-ES_tradnl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1 Título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859280" y="2421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APROFUNDIMENT- GIRON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l portfolio intermedi: bastimen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isseny d’un project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ines pel projecte: delicious, igoogle, googledocs, googlesi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Xarxes social: llengua i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-360" y="1882800"/>
            <a:ext cx="889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b9f25"/>
                </a:solidFill>
                <a:latin typeface="Calibri"/>
              </a:rPr>
              <a:t>El portfolio intermedi: bastimentd’un project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b9f25"/>
                </a:solidFill>
                <a:latin typeface="Calibri"/>
              </a:rPr>
              <a:t>Eines pel projecte: víde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a competència audiovisual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nimoto, moviemaker, screentoast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b9f25"/>
                </a:solidFill>
                <a:latin typeface="Calibri"/>
              </a:rPr>
              <a:t>Xarxes social: llenguatic.ning.co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Presentac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 nadiu digital: tendències EDU +[TIC]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De l’aula Moodle al cloud compu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s portafolis: alumnat i professor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entury Gothic"/>
              </a:rPr>
              <a:t>IES Castelló d’Empúrie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2"/>
          <a:srcRect l="5439" t="0" r="5439" b="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entury Gothic"/>
              </a:rPr>
              <a:t>Multi-tasque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2"/>
          <a:srcRect l="0" t="25205" r="0" b="25205"/>
          <a:stretch/>
        </p:blipFill>
        <p:spPr>
          <a:xfrm>
            <a:off x="1143000" y="428760"/>
            <a:ext cx="7358040" cy="5486400"/>
          </a:xfrm>
          <a:prstGeom prst="rect">
            <a:avLst/>
          </a:prstGeom>
          <a:ln w="0">
            <a:noFill/>
          </a:ln>
        </p:spPr>
      </p:pic>
      <p:sp>
        <p:nvSpPr>
          <p:cNvPr id="301" name="6 Elipse"/>
          <p:cNvSpPr/>
          <p:nvPr/>
        </p:nvSpPr>
        <p:spPr>
          <a:xfrm>
            <a:off x="857160" y="500040"/>
            <a:ext cx="2143080" cy="13572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Escoltar mú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8 Elipse"/>
          <p:cNvSpPr/>
          <p:nvPr/>
        </p:nvSpPr>
        <p:spPr>
          <a:xfrm>
            <a:off x="1928880" y="3786120"/>
            <a:ext cx="19144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Truc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Fo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9 Elipse"/>
          <p:cNvSpPr/>
          <p:nvPr/>
        </p:nvSpPr>
        <p:spPr>
          <a:xfrm>
            <a:off x="6572160" y="2928960"/>
            <a:ext cx="2000520" cy="11430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C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Jo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10 Elipse"/>
          <p:cNvSpPr/>
          <p:nvPr/>
        </p:nvSpPr>
        <p:spPr>
          <a:xfrm>
            <a:off x="6643800" y="1000080"/>
            <a:ext cx="16430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entury Gothic"/>
              </a:rPr>
              <a:t>De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137960" y="374760"/>
            <a:ext cx="7334280" cy="54864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entury Gothic"/>
              </a:rPr>
              <a:t>Pensen i Processen la informació de manera No linea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3"/>
          <a:stretch/>
        </p:blipFill>
        <p:spPr>
          <a:xfrm>
            <a:off x="1214280" y="428760"/>
            <a:ext cx="70009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1 Título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Actiu, no passiu: aprèn fe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000"/>
                </a:solidFill>
                <a:latin typeface="Century Gothic"/>
              </a:rPr>
              <a:t>Connectat i mòbil: 24/7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Participatiu : interactiu i soci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000"/>
                </a:solidFill>
                <a:latin typeface="Century Gothic"/>
              </a:rPr>
              <a:t>Multi-tasqu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Jugador: reptes, jo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000"/>
                </a:solidFill>
                <a:latin typeface="Century Gothic"/>
              </a:rPr>
              <a:t>Ràpid, impacient: recompensa immediat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Visual, iconogràfi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Usar l’ordinador no és suficient… si és per fer  el mateix d’abans</a:t>
            </a: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http://www.goldmundus.com/wp-content/web222_01.gif"/>
          <p:cNvPicPr/>
          <p:nvPr/>
        </p:nvPicPr>
        <p:blipFill>
          <a:blip r:embed="rId2"/>
          <a:stretch/>
        </p:blipFill>
        <p:spPr>
          <a:xfrm>
            <a:off x="1357200" y="1857240"/>
            <a:ext cx="60724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17" name="9 Marcador de posición de imagen" descr="web2.3.jpg"/>
          <p:cNvPicPr/>
          <p:nvPr/>
        </p:nvPicPr>
        <p:blipFill>
          <a:blip r:embed="rId3"/>
          <a:srcRect l="6908" t="0" r="6908" b="0"/>
          <a:stretch/>
        </p:blipFill>
        <p:spPr>
          <a:xfrm>
            <a:off x="571680" y="1857240"/>
            <a:ext cx="79293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Presentac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 nadiu digital: tendències EDU +[TIC]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De l’aula Moodle al cloud compu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Els portafolis: alumnat i professor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1 Título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Aula virtual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trencant barreres d’espai i  temps : MOOD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07f09"/>
                </a:solidFill>
                <a:latin typeface="Calibri"/>
              </a:rPr>
              <a:t>phobos.xtec.net/comunitatdellengua/aul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s-ES_tradnl" sz="3000" spc="-1" strike="noStrike">
                <a:solidFill>
                  <a:srgbClr val="6b9f25"/>
                </a:solidFill>
                <a:latin typeface="Century Gothic"/>
              </a:rPr>
              <a:t>Usuari</a:t>
            </a: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: 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mail fins @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s-ES_tradnl" sz="3000" spc="-1" strike="noStrike">
                <a:solidFill>
                  <a:srgbClr val="6b9f25"/>
                </a:solidFill>
                <a:latin typeface="Calibri"/>
              </a:rPr>
              <a:t>Contrasenya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:mail fins @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ES_tradnl" sz="3000" spc="-1" strike="noStrike">
                <a:solidFill>
                  <a:srgbClr val="6b9f25"/>
                </a:solidFill>
                <a:latin typeface="Calibri"/>
              </a:rPr>
              <a:t>CLAU</a:t>
            </a: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: Giron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1 Título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21" name="2 Subtítulo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1 Título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23" name="2 Subtítulo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i qüestions sessió 2 i 3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l fòrum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es xarxes social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ctivitats al fòrum 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Retorn sessió 4 i fòrum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a competència oral: què fem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Podcasting: què é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udacity i servidors w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Inici&gt;IES programes especifics&gt;musica&gt;audac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Fem un podcast i pensem-hi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fins a quin punt aixó del facebook no s'acabarà carregant les antigues comunitats d'amistat, professionals, etc... i acabarem globalitzant fins i tot una cosa tant personal i íntima com les relacions humanes que cadascú té!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no ha fet res més que banalitzar el sentit de les relacions humanes i fer-les menys comprometedores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Han dit els meus fills es un espai nostre, els profes no hi heu d’entrar a fer res!!!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no m’agrada. M’agrada sortir,parlar, veure i abraçar als meus amics. De que serveix tenir milersd’amics si són “virtuals”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No ho entenc, a mi no m'interessen les fotos -de les vacances- de gent que no conec.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mbla molt addictiu, hi ha gent molt enganxada.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” 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el xafardebook fa mooolta por! “ m'esborro perquè fa poooorrrrrr!!!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És una bona manera de mantenir l'amistat entre nosaltres. Heu de pensar que tots érem de llocs diferents i de llengües diverses. Ara ens comuniquem en alemany i a més tenim un espai virtual en comú. Ho he trobat interessant i molt útil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Coincideixo amb l'opinió de que el facebook és pura xafarderia. Sóc una xafardera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l paper decisiu dels mitjans digitals a la campanya de Barack Obama: mobilització dels votants joves, ús de les platafomes de manera col·lectiva, implicació ciutadans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07f09"/>
                </a:solidFill>
                <a:latin typeface="Calibri"/>
              </a:rPr>
              <a:t>tot i això hi sóc, amb restriccions, no s'han de tancar mai totes les portes però s'han de tenir tancades les que no volem obrir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És cert que tota innovació tecnològica al principi ens provoca por, fòbia o qualsevol mena de reacció en contra. Però el cert és que tota cosa desconeguda ens ho provoca. “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anteriors i podcast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Vídeo : tecnologia i metodologi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Wiki i wikipèdi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ctivitat: què fem amb wiki treball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Wiki-dub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Video : Punset i Schank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aceres del treso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ctivitat: què cacem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2d050"/>
                </a:solidFill>
                <a:latin typeface="Calibri"/>
              </a:rPr>
              <a:t>Competència digital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Implica desenvolupar metodologies de treball que afavoreixi que els nois i les noies puguin esdevenir persones autònomes, eficaces, responsables, crítiques i reflexives en la selecció, tractament i utilització de la informació i les seves fonts, en diferents suports i tecnologie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OGC n. 4915 p. 2188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1 Título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NATIUS DIGITAL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137960" y="374760"/>
            <a:ext cx="7334280" cy="5486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3"/>
          <a:stretch/>
        </p:blipFill>
        <p:spPr>
          <a:xfrm>
            <a:off x="1214280" y="500040"/>
            <a:ext cx="7286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2876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2d050"/>
                </a:solidFill>
                <a:latin typeface="Calibri"/>
              </a:rPr>
              <a:t>Competència digital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s-ES_tradnl" sz="2400" spc="-1" strike="noStrike">
                <a:solidFill>
                  <a:srgbClr val="ffc000"/>
                </a:solidFill>
                <a:latin typeface="Calibri"/>
              </a:rPr>
              <a:t>Transformar la informació en coneixement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xigeix el domini de les  destreses relacionades amb el raonament per organitzar-la, relacionar-la, analitzar-la, sintetitzar-la i fer inferències  i deduccions de distint nivell de complexitat;  en definitiva, </a:t>
            </a:r>
            <a:r>
              <a:rPr b="0" lang="es-ES_tradnl" sz="2400" spc="-1" strike="noStrike">
                <a:solidFill>
                  <a:srgbClr val="ffff00"/>
                </a:solidFill>
                <a:latin typeface="Calibri"/>
              </a:rPr>
              <a:t>comprendre-la i integrar-la en els esquemes previs de coneixe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Significa, així mateix, </a:t>
            </a:r>
            <a:r>
              <a:rPr b="0" lang="es-ES_tradnl" sz="2400" spc="-1" strike="noStrike">
                <a:solidFill>
                  <a:srgbClr val="ffff00"/>
                </a:solidFill>
                <a:latin typeface="Calibri"/>
              </a:rPr>
              <a:t>comunicar la informació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i els coneixements adquirits, emprant, de manera creativa, recursos expressius  que incorporin, no solament diferents llenguatges i tècniques específiques, sino també les possibilitats que ofereixen les TIC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Calibri"/>
              </a:rPr>
              <a:t>DOGC n. 4915 p. 21879-80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aça-dub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Video : marcadors social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Geotagg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lamins/chuches/candi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Preparant presentació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99640" y="537336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entury Gothic"/>
              </a:rPr>
              <a:t>TENDÈNCIES D’EDUCACIÓ [+TIC]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907920"/>
            <a:ext cx="882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1- Mòbils i aprenentat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2- CLOUD computing: ordinadors al núv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3- 1:1  Un ordinador per alumn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4- Aprenentatge UBIQU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07f09">
              <a:alpha val="15000"/>
            </a:srgbClr>
          </a:solidFill>
          <a:ln w="936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entury Gothic"/>
              </a:rPr>
              <a:t>TENDÈNCIES D’EDUCACIÓ [+TIC]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907920"/>
            <a:ext cx="8820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5- Redefinició d’espais d’aprenentat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6- Avaluació amb portafol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ffff"/>
                </a:solidFill>
                <a:latin typeface="Arial"/>
              </a:rPr>
              <a:t>7- Continguts oberts (dels llibres de text a material digital personalitza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07f09"/>
                </a:solidFill>
                <a:latin typeface="Arial"/>
              </a:rPr>
              <a:t>8- Personalització de l’aprenent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alibri"/>
              </a:rPr>
              <a:t>Objectiu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1- Actualització d'eines i nous recursos per a aprendre llengua al s.XXI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entury Gothic"/>
              </a:rPr>
              <a:t>2- Dissenyar, implementar i compartir un projecte d'aula [+TIC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i qüestions sessió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’estat dels projec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Microblogg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Xarxes social: llengua i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07f09"/>
                </a:solidFill>
                <a:latin typeface="Calibri"/>
              </a:rPr>
              <a:t>Twitter: què estàs fent?</a:t>
            </a: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 5 estadi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1- quina xorrada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2- em dono d’alt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3- hi penjo cos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4- hi trobo gent per a conver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5- informació útil+discussion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1 Título" descr=""/>
          <p:cNvPicPr/>
          <p:nvPr/>
        </p:nvPicPr>
        <p:blipFill>
          <a:blip r:embed="rId1"/>
          <a:srcRect l="32531" t="0" r="0" b="0"/>
          <a:stretch/>
        </p:blipFill>
        <p:spPr>
          <a:xfrm>
            <a:off x="3132000" y="262080"/>
            <a:ext cx="5561280" cy="1407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Dubtes i qüestions sessió 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’estat dels projec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Microbloggin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Xarxes social: llengua i ti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932360" y="54936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6b9f25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0:02:06Z</dcterms:created>
  <dc:creator>Sònia</dc:creator>
  <dc:description/>
  <dc:language>en-US</dc:language>
  <cp:lastModifiedBy>IES Montilivi</cp:lastModifiedBy>
  <dcterms:modified xsi:type="dcterms:W3CDTF">2010-04-07T16:48:51Z</dcterms:modified>
  <cp:revision>43</cp:revision>
  <dc:subject/>
  <dc:title>Llengües  [+TIC]</dc:title>
</cp:coreProperties>
</file>