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C6A4B5-F017-462A-800F-CC89956B9DD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ntarios. ¿Y si me insult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carios prec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ttp://becariaenabc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todas las casas cuecen habas: experiencia en la Un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ntencia alumno IES Arganda del 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ídeos, Youtube, happyslapp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CEF. Código de autorregulación en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DD7-A642-43E2-8276-57332BAC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E6C-0EE3-4361-8E52-76B3EDE6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1E7-A863-42BA-BE74-DBA8BFCA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A44-2C55-4615-9CCD-48EA3180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F681-63D5-40A5-8096-A32089F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5268-D71F-48DD-89D7-12ECC84C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EC91-E3E3-492A-B7F7-EBB63DB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37A8-877D-49F8-90E0-09ECFC5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854C-09DF-4A91-8B04-A750A460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392A-B8FB-490C-BA4E-5521204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9A97-5CCA-4C6C-89F3-136E891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62C-C36A-4484-8E37-07477DAB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2472-5CEB-4908-99F5-AD1971B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075-B2A7-4A1E-9BC0-4B5A445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9147-4933-4115-89A6-D6DA4C84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F58C-2A04-4654-868D-34C25080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CC2D-C6B0-4938-8AB0-E84539C7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537-1EFA-461E-AA98-00B7EA4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C54-0D0C-4841-866D-08F5219F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171-63C4-4ECB-9705-7144C31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7BF-70BC-459B-9D1A-BF541DC7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BFB-2CC6-443E-BA98-31ECE36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024-85E1-4DAD-A409-685C4C0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D45-B29C-4611-8490-1057C80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DC1-C554-4D74-B9D8-8A687A34B34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842A-27B9-4868-8126-A8D2E5B8E25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33347/0/blog/alumno/expediente/" TargetMode="External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hyperlink" Target="http://www.culturalibre.org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blogs.com/" TargetMode="External"/><Relationship Id="rId2" Type="http://schemas.openxmlformats.org/officeDocument/2006/relationships/hyperlink" Target="http://www.edublogs.org/" TargetMode="External"/><Relationship Id="rId3" Type="http://schemas.openxmlformats.org/officeDocument/2006/relationships/hyperlink" Target="http://blogs.law.harvard.edu/home/" TargetMode="External"/><Relationship Id="rId4" Type="http://schemas.openxmlformats.org/officeDocument/2006/relationships/hyperlink" Target="http://blogs.law.harvard.edu/home/" TargetMode="External"/><Relationship Id="rId5" Type="http://schemas.openxmlformats.org/officeDocument/2006/relationships/hyperlink" Target="http://blogs.law.harvard.edu/home/" TargetMode="External"/><Relationship Id="rId6" Type="http://schemas.openxmlformats.org/officeDocument/2006/relationships/hyperlink" Target="http://blogs.law.harvard.edu/home/" TargetMode="External"/><Relationship Id="rId7" Type="http://schemas.openxmlformats.org/officeDocument/2006/relationships/hyperlink" Target="http://blogs.law.harvard.edu/home/" TargetMode="External"/><Relationship Id="rId8" Type="http://schemas.openxmlformats.org/officeDocument/2006/relationships/hyperlink" Target="http://blogs.law.harvard.edu/home/" TargetMode="External"/><Relationship Id="rId9" Type="http://schemas.openxmlformats.org/officeDocument/2006/relationships/hyperlink" Target="http://www.incsub.org/awards/" TargetMode="External"/><Relationship Id="rId10" Type="http://schemas.openxmlformats.org/officeDocument/2006/relationships/hyperlink" Target="http://www.incsub.org/awards/" TargetMode="External"/><Relationship Id="rId11" Type="http://schemas.openxmlformats.org/officeDocument/2006/relationships/hyperlink" Target="http://www.incsub.org/awards/" TargetMode="External"/><Relationship Id="rId12" Type="http://schemas.openxmlformats.org/officeDocument/2006/relationships/hyperlink" Target="http://www.incsub.org/awards/" TargetMode="External"/><Relationship Id="rId13" Type="http://schemas.openxmlformats.org/officeDocument/2006/relationships/hyperlink" Target="http://www.tinglado.net/encuentro/" TargetMode="External"/><Relationship Id="rId14" Type="http://schemas.openxmlformats.org/officeDocument/2006/relationships/hyperlink" Target="http://www.tinglado.net/encuentro/" TargetMode="External"/><Relationship Id="rId15" Type="http://schemas.openxmlformats.org/officeDocument/2006/relationships/hyperlink" Target="http://www.tinglado.net/encuentro/" TargetMode="External"/><Relationship Id="rId16" Type="http://schemas.openxmlformats.org/officeDocument/2006/relationships/hyperlink" Target="http://www.tinglado.net/encuentro/" TargetMode="External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blog.com/planeta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nglado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zayas.com/tic/blogs_aula/mis_blogs.html" TargetMode="External"/><Relationship Id="rId2" Type="http://schemas.openxmlformats.org/officeDocument/2006/relationships/hyperlink" Target="http://www.fzayas.com/tic/blogs_aula/mis_blogs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126792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Uso educativo </a:t>
            </a:r>
            <a:br>
              <a:rPr sz="8000"/>
            </a:b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de los blogs 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99"/>
                </a:solidFill>
                <a:latin typeface="Trebuchet MS"/>
              </a:rPr>
              <a:t>Tíscar L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niversidad de Le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13 de Jul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2356" t="29114" r="63140" b="54929"/>
          <a:stretch/>
        </p:blipFill>
        <p:spPr>
          <a:xfrm>
            <a:off x="4572000" y="4365720"/>
            <a:ext cx="2700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1224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tipos según autoría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560" y="1933560"/>
            <a:ext cx="8190000" cy="4519800"/>
            <a:chOff x="439560" y="1933560"/>
            <a:chExt cx="8190000" cy="4519800"/>
          </a:xfrm>
        </p:grpSpPr>
        <p:sp>
          <p:nvSpPr>
            <p:cNvPr id="185" name="_s149509"/>
            <p:cNvSpPr/>
            <p:nvPr/>
          </p:nvSpPr>
          <p:spPr>
            <a:xfrm>
              <a:off x="3554280" y="1933560"/>
              <a:ext cx="4402440" cy="440208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49510"/>
            <p:cNvSpPr/>
            <p:nvPr/>
          </p:nvSpPr>
          <p:spPr>
            <a:xfrm>
              <a:off x="6691320" y="4230720"/>
              <a:ext cx="193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9511"/>
            <p:cNvSpPr/>
            <p:nvPr/>
          </p:nvSpPr>
          <p:spPr>
            <a:xfrm>
              <a:off x="439560" y="4230720"/>
              <a:ext cx="193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49512"/>
            <p:cNvSpPr/>
            <p:nvPr/>
          </p:nvSpPr>
          <p:spPr>
            <a:xfrm>
              <a:off x="1609560" y="2941560"/>
              <a:ext cx="3511800" cy="3511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6688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de 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4280" y="36608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GRUPAL, profesor/es + alum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19640" y="2852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LOGS de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373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tradicional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83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innovador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tutor o g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mi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00"/>
                </a:solidFill>
                <a:latin typeface="Trebuchet MS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xige más trabajo por anticipa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tener unos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objetivos clar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para diseñar la actividad y el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recorrido de 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a través del blo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edicar con el ejempl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habe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experimentado previament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las 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Nuevos modelos de evaluación.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Valora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qué se ha aprendi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a través del blog.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No imponer criteri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temas, extensión, etc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mplicación de los modelos abierto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tir de un modelo de Análisis-Producción-Evalu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conocer otros blogs, desarrollar un blog y reflexionar sobre los aprendizajes de la activ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fini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yectos integral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onde tenga sentido la incorporación del blog dentro de la práctica docente. Integr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un medio de aprendizaj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no como un fin en sí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Orientar sobr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fórmulas correcta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citado, hiperenlaces, licencias, identificació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Especific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uáles van a ser los criteri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evaluación a lo largo de l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Tom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medio personal del alumno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 y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vitar una excesiva direc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por parte del profes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No imponer el tema ni el ritmo de public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. Su presencia ha de ser tan natural como un cuaderno de apuntes.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entrarse en la actividad alrededor/con el blog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sarroll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del profesor como un eslabón má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ntro de la red de blogs del grupo. Crear redes entre todos los blogs (mediante blogrolling, RSS, planets, etc.)</a:t>
            </a:r>
            <a:r>
              <a:rPr b="0" lang="es-ES" sz="20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Práctica de Creación de Blog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Escoger servidor y tema de interé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(se puede suger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 del profe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como referencia. Escribir en los comentarios URL, tema, nomb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Post de análisis de blog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similares enlazados (se investiga, se sintetiza y se articula un argumen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roll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del grupo de trabajo y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lectura R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Integración de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ntador de visitas y búsqueda de referencias 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(dimensión universa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mentarios del profesor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en los blogs de alum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Analizar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impresiones y sens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91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El blog </a:t>
            </a:r>
            <a:r>
              <a:rPr b="1" lang="es-ES_tradnl" sz="3000" spc="-1" strike="noStrike">
                <a:solidFill>
                  <a:srgbClr val="330066"/>
                </a:solidFill>
                <a:latin typeface="Trebuchet MS"/>
              </a:rPr>
              <a:t>aporta valores</a:t>
            </a: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 positivos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identidad /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colaboración / generosidad / so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del conocimiento / humi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transparencia /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Pluralismo de voces / horizontalidad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BLOGS Y VALORES</a:t>
            </a:r>
            <a:br>
              <a:rPr sz="35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ás ÉTICA en la ESTÉTICA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0440" y="2781360"/>
            <a:ext cx="187704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non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7560" y="4076640"/>
            <a:ext cx="1125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la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4986360"/>
            <a:ext cx="3181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uplantación (F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5851440"/>
            <a:ext cx="192276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f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920" y="2227320"/>
            <a:ext cx="5837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Pero también 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traval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iedo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a y 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límite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de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MIEDOS o FALTA DE AUTOCRÍTIC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Comentarios abiertos: ¿Y si me insulta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Documentos del aula en redes P2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PLAG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Tan fácil es copiar como detectar la copia (ej. Caso Bitacoras.or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DERECHOS DE AU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Límites a la creación col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cc00"/>
                </a:solidFill>
                <a:latin typeface="Trebuchet MS"/>
              </a:rPr>
              <a:t>¿Y cuando me insultan en otros blogs…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ANONIMATO como arma de difam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Las intrigas palaciegas llevadas al blo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Becarios precarios http://becariaenabc.blogspot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uici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a un </a:t>
            </a: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alumn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de Bachillerato por las críticas en su blog a la práctica docente de su profes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86064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15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7926" t="14564" r="16032" b="12586"/>
          <a:stretch/>
        </p:blipFill>
        <p:spPr>
          <a:xfrm>
            <a:off x="0" y="0"/>
            <a:ext cx="4824360" cy="346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18997" t="17512" r="36720" b="10636"/>
          <a:stretch/>
        </p:blipFill>
        <p:spPr>
          <a:xfrm>
            <a:off x="4500720" y="1341360"/>
            <a:ext cx="4319280" cy="525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88600" y="3645000"/>
            <a:ext cx="3538080" cy="302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Quiénes y cuáles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utore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mentarios de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rvicio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Jurisd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PROTECCIÓN DEL DERECHO AL HONOR Y A LA PROPIA IM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Integración multimedia (youtube p.ej.) + Facilidad de publicación y acceso:  ej. happysl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TODOS SOMOS PERIODISTAS? Está por ver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Sentencia bloggers/periodistas e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En Españ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Todos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ciudadano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enemos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derecho a la informac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libertad de expres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. Pero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periodista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ienen protegido el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secreto profesional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la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cláusula de conci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cc00"/>
                </a:solidFill>
                <a:latin typeface="Trebuchet MS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¿¿¿Autorregulación (ej. Código IQUA) + Ética </a:t>
            </a:r>
            <a:r>
              <a:rPr b="0" lang="es-ES" sz="2400" spc="-1" strike="noStrike">
                <a:solidFill>
                  <a:srgbClr val="cccc00"/>
                </a:solidFill>
                <a:latin typeface="Trebuchet MS"/>
              </a:rPr>
              <a:t>Vs.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Prohibición 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miedos a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límites de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NUESTRO RETO COMO EDUCADORES, CIUDADANOS, APRENDICE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421000"/>
            <a:ext cx="7632720" cy="4115880"/>
          </a:xfrm>
          <a:prstGeom prst="rect">
            <a:avLst/>
          </a:prstGeom>
          <a:solidFill>
            <a:srgbClr val="cccc00"/>
          </a:solidFill>
          <a:ln w="38160">
            <a:solidFill>
              <a:srgbClr val="33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Cómo seremos capaces de prom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l </a:t>
            </a:r>
            <a:r>
              <a:rPr b="1" lang="es-ES_tradnl" sz="4400" spc="-1" strike="noStrike">
                <a:solidFill>
                  <a:srgbClr val="330066"/>
                </a:solidFill>
                <a:latin typeface="Trebuchet MS"/>
              </a:rPr>
              <a:t>uso libre y responsable</a:t>
            </a: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 del ciberespa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definició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odríamos entender los </a:t>
            </a:r>
            <a:r>
              <a:rPr b="1" lang="es-ES" sz="3600" spc="-1" strike="noStrike">
                <a:solidFill>
                  <a:srgbClr val="330066"/>
                </a:solidFill>
                <a:latin typeface="Trebuchet MS"/>
              </a:rPr>
              <a:t>edu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como aquellos weblogs cuyo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incipal objetiv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s apoyar u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oceso de enseñanza-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n un contexto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3680" y="3855960"/>
            <a:ext cx="275004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400" y="3860640"/>
            <a:ext cx="156600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67760" y="5084640"/>
            <a:ext cx="3367440" cy="1556280"/>
          </a:xfrm>
          <a:prstGeom prst="rect">
            <a:avLst/>
          </a:prstGeom>
          <a:solidFill>
            <a:srgbClr val="669999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rebuchet MS"/>
              </a:rPr>
              <a:t>PROCESOS</a:t>
            </a: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e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4581360"/>
            <a:ext cx="1152360" cy="10083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164360" y="4292640"/>
            <a:ext cx="216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Nos vemos en los blogs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3800" y="4381560"/>
            <a:ext cx="6506640" cy="1008360"/>
          </a:xfrm>
          <a:prstGeom prst="rect">
            <a:avLst/>
          </a:prstGeom>
          <a:noFill/>
          <a:ln w="5724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cc00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@</a:t>
            </a:r>
            <a:r>
              <a:rPr b="0" lang="es-ES" sz="6000" spc="-1" strike="noStrike">
                <a:solidFill>
                  <a:srgbClr val="669999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2356" t="27366" r="63140" b="54929"/>
          <a:stretch/>
        </p:blipFill>
        <p:spPr>
          <a:xfrm>
            <a:off x="4643280" y="2852640"/>
            <a:ext cx="2700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6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orígen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Natural y espontáneo como el resto de los usos de los blogs: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war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j-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n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HITOS VI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Servidores especializad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schoolblogs.com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sde 2001 (o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edublogs.or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poyos institucionale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at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6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arvard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8"/>
              </a:rPr>
              <a:t>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curs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9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0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Award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 2004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Encuen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 Roa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5"/>
              </a:rPr>
              <a:t>Duer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6"/>
              </a:rPr>
              <a:t> 2006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ventajas del format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719360"/>
            <a:ext cx="43336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Fácil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utoría compar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cceso desde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ualquier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ublicació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grador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 otras herramientas (web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19720" y="1719000"/>
            <a:ext cx="4905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ategoría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tema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nlaces perma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archivo, hemeroteca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g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ractiv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comentarios, track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Sindicación RSS 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distribución y document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gregación RS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lanet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784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USOS EDUCATIVOS de los blog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Organización del discurs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todo se clasifica y es fácilmente recu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Fomento del debat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 través de los comentarios y el track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nstrucción de identidad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como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rea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munidades de aprendizaje 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rof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lumno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cto de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Compromiso con l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Apoyo al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ocument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poyada con R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Alfabetización digital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, crítica y reflexiva. Requiere de metodologías abiertas, que favorezcan la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onstrucción de conocimientos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Mapa conceptual d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ip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aya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-38160" y="1125360"/>
            <a:ext cx="9182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aprender / Long-lif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ccesibilidad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a las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fu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ransformar la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formación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n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Vivimos en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sistemas abierto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es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Nuestro reto es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vivir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 en la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Verificador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/ Sobreabund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odos estamos sometidos al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escrutini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s tiempo de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dar explicacion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(empresas, profesores, periodista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89000"/>
            <a:ext cx="7777440" cy="122400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CONTEXTO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de la Sociedad de la  Infor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rti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e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a qué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y llegar a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qué, cómo y por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Reflexión desde la cre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Buscar, seleccionar, verificar, producir y compartir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información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ducir mensajes multimedia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sde un espíritu crítico-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onocer y experimentar los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valores del ciberespaci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identificar sus riesg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producción colaborativa, cultura libre, copyleft, plagio, anonimato, spam, credibilida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Prácticas orientadas a proyect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aprendizaje instrumental como medio y no como fin. Crear motivaciones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hacer para querer aprende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actuar para querer produci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Énfasis en los proces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Prácticas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abiertas y personale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Aprendizaje lógico-intuitivo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frente a aprendizaje lineal. Aprender a enfrentarse a la tecnología desde l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intuición y la reflexión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Frente a los cursos para “aprender programas”, cursos par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estimular</a:t>
            </a: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 el “qué”, “por qué” y “para qué”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con/de “esos programa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8:58:46Z</dcterms:created>
  <dc:creator>Libra</dc:creator>
  <dc:description/>
  <dc:language>en-US</dc:language>
  <cp:lastModifiedBy>web2cero</cp:lastModifiedBy>
  <dcterms:modified xsi:type="dcterms:W3CDTF">2006-07-13T10:09:36Z</dcterms:modified>
  <cp:revision>168</cp:revision>
  <dc:subject/>
  <dc:title>Weblogs y periodismo participativo</dc:title>
</cp:coreProperties>
</file>