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8210D7-7476-424F-9639-F48ADFC040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7"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22D6D-D028-4338-91F3-8E2293EC1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3"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5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103834-E6E9-408F-9DE9-BAF3F585EB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27EBAB-84E1-4B43-B5C5-69682B69D5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173CB2-6318-4B8E-BB7F-10C053FBB2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5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9F0909-6996-4C83-A1CC-B07F963C1A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6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4"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757687-E013-4846-951D-B20A2697E8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6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8"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E25002-0DD2-44C9-9B2F-84D070F7BC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70"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1"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72F8A7-9C68-4C1B-828F-1D32F403CC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7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4"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6"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0C1C4B-96A6-4588-84F7-6A136BDBEB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78"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9"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0"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1"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2"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3"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713857-A12D-4BFE-AEAF-94598039C1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6299AE3-A1E6-4F21-AE02-B7643AD9B25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0"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8886B2-8C23-47BC-8010-EC3D3709D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92"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AFE1A63-FF2D-4944-B057-0B7C42D2239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94"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DA271A3-F9A5-4F65-BBE3-1221327AC67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96"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9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332C6D0-CAB2-42AB-8CF8-3E4DF9A995A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63A3443-38DE-4C5E-983F-C52297856CD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0E6508F-C756-474C-8627-4A07D6A8276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0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96F275-8670-47D7-83AD-1D2946A08EE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0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7"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A324F9D-AF87-48AA-AC6F-B062317F25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0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1"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9BF5E3-8016-4E86-B0DE-8080F279231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13"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4"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F757EBF-8578-4CEC-AA10-520367C72CF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1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9"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C8DF937-CDC6-482F-AF08-3D2901E2C38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9"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BBB163-3B4C-4F90-A015-F7C0DBD7C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21"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2"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3"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4"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5"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6"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BD81825-782C-464B-824A-8A77C5D88BD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334C34B-F1CF-4D75-9AE2-270366DB9DA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35"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4910366-004B-49F7-9A75-BB0B169FF81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37"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C70D90E-B406-44C7-88F8-2010068EC81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39"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0"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66CA238-3A2B-4FD2-87B0-0823273B7B2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1F20059-B8FF-49DF-9C0B-E2470E5F94F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EC4BE05-0F19-4C87-A23C-0E93BC202B6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4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5"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6"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06DF8A-853D-46C7-8C06-A3D5B8AD2D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4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0"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630CD2-C79C-4122-8C07-E74DA8AFDFF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5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4"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991258-0900-4799-83F9-97D8D5D9F1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18CEF2-F969-442C-A08B-D39A4D1D16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56"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7"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870A9BB-F0D4-442C-8E65-DA1BEBD7249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5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1"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2"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80C7CBD-2687-4856-A3A0-04A38CBBAD7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64"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5"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6"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7"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8"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9"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EC37851-0719-4514-868D-561EA5D940C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410483E-E11A-4EF8-A59E-0DFEBD56A0A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77"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35DD681-10DC-45F7-A7A7-93B5D95EEE6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79"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220172B-439C-4F1D-8EF2-82EC05E7CA1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8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8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D748865-F365-458E-93D6-791D52653C1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0AFB205-9E09-4439-A0B1-8D98825A341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3FA42E4-25B7-4BF3-A2D6-BCD18990422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8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8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8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E8A1E5F-F46E-44BD-B8AB-7EEDC8A8B93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821F92-88DE-475B-8BAF-6D2D967AD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0"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1"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2"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DB8D50A-CE2B-4D1D-8064-B293008321B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6"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CF82543-88F6-4745-BB45-B940BFFE99E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8"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9"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F471EAA-B212-465A-9D0F-256567963AD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0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4"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FDC039A-45E1-42F7-AD89-A7146D53687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06"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7"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8"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9"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10"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11"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B02C735-111C-489D-A02F-E207BB4B993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1BE8168-3CA7-4601-8D67-A015FE53A0C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18"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0E87F82-603D-41FC-8091-200849061E3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20"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70FACE6-E8EA-436A-8E7E-5383CFC8C9D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2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23"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FCD4E48-D63C-467A-AADF-1A50B073E64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1A8C2A0-252D-4A65-889F-DDECB5D0EA2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1"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239D07-834D-4B3E-92BA-E92C2DB093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082F257-8897-4D58-BEC0-BB4DFA424E7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27"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28"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29"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BA51405-3F7D-4DBE-9DD4-CD88E56AAC6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3"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897FED6-43B5-42F6-9738-C83BE99B61B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7"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997AF4B-16EC-40C4-8BA3-02CC4E57D46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9"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0"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4678E5B-8A49-4B38-95CC-75F5B022620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4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4"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5"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3924AA0-B748-4AD4-8E54-59439A591D7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47"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8"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9"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50"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51"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52"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2B4588D-6FEC-4570-8D47-86F102FCA04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EAC6951-4112-4703-A168-A43FE5AACE6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61"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950EC61-54E8-45A9-B520-7A0F05C4C60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63"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2372149-4B6A-40ED-BBDC-116527E2108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DF7383-BB9D-45B4-A29F-E63B43DCF7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6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66"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856A992-DC76-4E75-81C2-A37423077A9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735FE7F-279A-4130-BAD1-6D34B9AFD79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80294CC-E549-436E-8071-63D4445507E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70"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1"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2"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2141F5C-D241-4AFF-A236-77D951D2E16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74"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6"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A08D852-16E6-484A-ACB4-30ADA0D627B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7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0"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9D539FE-4221-477E-8BA6-C14A97C20A8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82"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3"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16F89B0-9982-4094-86FB-882BBF221A1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8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7"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8"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5024D00-EB7E-4BA4-9D44-CAF09290A46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90"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1"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2"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3"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4"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5"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24B84A1-7C90-455F-9A7B-C86351B2B82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F9C37EB-A0D8-4B0C-814B-51362271E5C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8A4032-BF83-4B16-8E38-7EA5FDC307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04"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C3B0A8A-82FC-4FED-8979-14A0FC2CED2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06"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2F55B51-C543-4C7A-B44E-439E632F9F3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0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0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3AEEB11-683B-4200-A6DC-BCF39146835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50B3937-6920-45B4-8B09-39978887E4E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5CCAE44-6508-443E-BA3E-3B62F766138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1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73DEAB0-CFA2-4B7F-9B48-11A014D7D6F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17"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8"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9"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F8BD6F4-748A-4AE6-A2DE-E0FF8F960BB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3"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2AA81FD-8672-4D83-9F6B-CB280F37846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5"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6"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68238D9-B1D7-45C5-915D-2552774B40C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1"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23A2EDD-8ADA-4AE4-8613-9AB45E32DBA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CEB3CA-5649-45BD-9966-F98750649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33"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4"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5"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6"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7"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8"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4E700FC-815A-4B6E-8809-D02CB2C5463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8FC90-5C04-403F-B5DF-B4FC95637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B5E71-FA7C-496F-89C0-B92BCEA3E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4"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16B5D-C463-4AA8-AB48-FE4466375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8"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4D3708-68A6-4486-86AB-4FFCA55D0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70"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1"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885455-AF86-42C8-9F6B-288472397F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7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4"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6"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1EF324-0E85-4908-938D-5518CAF30D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78"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9"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0"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1"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2"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3"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60BE09-F51F-4666-BAA3-E56DFB870E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B3389E-8C27-4790-8F5F-DCE5DFC0F4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92"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8D6509-F1E8-49B9-85FD-A8E70C9F12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94"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701C56-C9B3-4D06-81D1-0EE01701E0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96"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131AF8-39ED-4E15-8A0C-4BA9D144E1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9D5666-809F-41AD-8C74-873DB6F568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8"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0C58C-E5CE-4268-B27F-7D00FACDA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46A363-9294-49C4-AA56-0EBD833258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DF6390-7082-4CAB-A576-7420DF9F80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7"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534B7F-8030-4D56-A2B5-ECC0C1C7F5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1"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E1194D-0231-49D6-BC98-5A8F1D1CD7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13"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4"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4033AF-475E-47A5-8485-F5B7D95D62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1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9"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FFD93C-6B64-4222-8D7E-176B7EB58A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21"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2"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3"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4"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5"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6"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4B79DD-9E9A-4DA1-9D38-DA113E0815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49EDD3-A0B3-44BF-96A7-43F5538E51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35"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2180CB-7E01-428B-84C4-A9C2BE9509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37"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FBB86D-EAA0-46E7-8DD0-26F6955213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F0B7A-E630-4118-B05D-E57DA9665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39"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0"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432317-7250-4259-A110-912AFD6CA9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656DBF-05B5-4503-BFDB-9259C360DD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6C80B0-1BF9-4AA4-A165-2AC3A0D3DA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4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5"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6"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2755EC-41DC-447B-9C19-BBC7BA7167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4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0"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87D7AA-D81B-46DF-A373-7444AC9914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4"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AEE977-C05D-4926-8BF6-4766ABBA1B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6"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7"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0E3493-9836-4E2C-99B4-56D64BA8B0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1"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2"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0197FF-2942-4A8E-86AB-DE9E4E1E95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64"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5"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6"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7"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8"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9"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688D6E-86F8-4ED0-9A24-035C7AB82B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7D142A-9064-4D1A-90D9-A31E3C5BCF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876FD-8B5B-46FA-946B-42FD7ADFD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78"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A27932-5125-48C6-90E0-D5AD13D663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80"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1ED643-A720-4064-96EB-74A6B0FB0B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8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83"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E13EE1-138D-4B0E-A5F9-DAA405EE4A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B4C764-4B92-470C-8F18-EE16A95AC7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A3B874-0FF7-4D5C-8CB7-5551C273CD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87"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88"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89"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CEE826-10CE-4090-A6C4-FC0425C896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3"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8559EA-B90F-48F2-8D6E-18B9F8BAC6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7"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F54DA2-13D7-4B07-B81B-80847EB3B2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9"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0"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E43255-5429-40FB-9241-87D3DA5DB5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0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4"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5"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049343-79EF-456A-9A27-AAD908ED9B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A655B-DF12-4F02-93AD-BC45421D3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07"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8"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9"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0"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1"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2"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CC15D0-F6C4-4419-8131-B6BEC5698C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B9021E-90CA-4C36-BDA4-41053E2815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21"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405193-5CAE-49DD-8CFF-EE56866506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23"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17542C-5E7B-4F90-ABDD-767B525020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2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26"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3D3136-647F-4721-8C4A-9D9E7D26BA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503090-51E8-4087-8C8A-516528A7AB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37C059-687A-4380-B5C4-4DA50A71B8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0"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1"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2"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EBFDAC-A31B-4D1D-A28A-A36CEF707E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4"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6"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0CCF65-E327-4EBD-B1FA-C6BCC0F543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0"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9C06E4-2695-4F9A-A7CD-1D207B699D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7"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4F8F4-0437-4AFB-BF71-FFDBAEA82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42"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3"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80A969-1926-4716-86D0-E4E1ACD29D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4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7"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8"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875536-C121-4CB6-B936-F2951EE246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50"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1"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2"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3"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4"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5"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7A9CEE2-A940-4495-8FA8-AAEC7E3A60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A05ED6-7FA6-43E7-A462-A6712DA2E4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64"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D6C03E-04A7-4262-9845-37CFE8F4B2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66"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942216-C008-4B28-89AC-8A50A34A17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6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6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8591EA-2162-4521-A94C-90021C4E00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7ED2EA-F343-40ED-B3B6-6A63A3E2C9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EF6CB4-591D-4D14-B7AD-A41BF68289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7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5A266E-D8A0-4D2B-B52C-9A324F6F38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F780E-852B-4D73-A819-7B590CD40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77"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8"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9"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4C3B05-5D9A-4AC6-8B78-DAA12EECA7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8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3"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ABFF14-8951-43C4-B8BB-839E84BACA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85"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6"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276F75-D304-45F8-AAF5-8FFE663996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8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1"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4BCD400-0CA2-4AA2-BF4A-21F688DC29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93"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4"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5"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6"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7"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8"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4CD491-78FB-42DC-B2BB-B9BD6554B5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91C5B4-62DB-44B4-B294-B5CE034F17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07"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3BDE56-7512-4A02-9374-3C26CA400D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09"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9D643E-C5D0-4809-8A0E-6D6C833FB0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1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3D1ABC-B3B8-4425-99E6-370E872220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39F6EF-1E0C-4EA4-AA52-21D6C80AF5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E1C17-B6AB-4AE5-8BA6-E1BAC030A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23CEFB-F263-479E-BD3D-8D21C2D9FC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1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2CBF32-948B-4BF9-A6F8-873DD3ED41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20"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1"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2"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8B3401-8D3C-418A-B44D-C9F6968206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2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6"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7524C5-45F1-48D1-AFF6-07629D5B8C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28"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9"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0B438D-0BAE-4680-AB59-C4CA4A0B90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3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4"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DFD9BA-74B8-4139-9BE7-301C7DE488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36"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7"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8"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9"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40"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41"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932796-4438-4BA8-8E85-F02EA952AB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A50479E-6131-41E7-A1C8-5063645A89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49"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9449FE-A6DD-41DC-BAF1-0481106CB9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1"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B3A791-6D46-4B80-B1E0-A8657C6B098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1"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2" name="PlaceHolder 3"/>
          <p:cNvSpPr>
            <a:spLocks noGrp="1"/>
          </p:cNvSpPr>
          <p:nvPr>
            <p:ph type="dt" idx="1"/>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9413AC-0623-4B54-A269-B5C1FC6D36DE}"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 name="PlaceHolder 5"/>
          <p:cNvSpPr>
            <a:spLocks noGrp="1"/>
          </p:cNvSpPr>
          <p:nvPr>
            <p:ph type="sldNum" idx="3"/>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744185-FDF4-44D5-8BC2-72B0681FBD36}"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4" name="Picture 6" descr="Overlay-FullBackground.jpg"/>
          <p:cNvPicPr/>
          <p:nvPr/>
        </p:nvPicPr>
        <p:blipFill>
          <a:blip r:embed="rId3"/>
          <a:srcRect l="50002" t="0" r="0" b="0"/>
          <a:stretch/>
        </p:blipFill>
        <p:spPr>
          <a:xfrm>
            <a:off x="4572000" y="4680"/>
            <a:ext cx="4572000" cy="6858000"/>
          </a:xfrm>
          <a:prstGeom prst="rect">
            <a:avLst/>
          </a:prstGeom>
          <a:ln w="0">
            <a:noFill/>
          </a:ln>
        </p:spPr>
      </p:pic>
      <p:pic>
        <p:nvPicPr>
          <p:cNvPr id="385" name="Picture 7" descr="overlay-ruleShadow.png"/>
          <p:cNvPicPr/>
          <p:nvPr/>
        </p:nvPicPr>
        <p:blipFill>
          <a:blip r:embed="rId4"/>
          <a:srcRect l="0" t="0" r="25032" b="0"/>
          <a:stretch/>
        </p:blipFill>
        <p:spPr>
          <a:xfrm rot="16200000">
            <a:off x="1086480" y="3364200"/>
            <a:ext cx="6854760" cy="125280"/>
          </a:xfrm>
          <a:prstGeom prst="rect">
            <a:avLst/>
          </a:prstGeom>
          <a:ln w="0">
            <a:noFill/>
          </a:ln>
        </p:spPr>
      </p:pic>
      <p:sp>
        <p:nvSpPr>
          <p:cNvPr id="38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387"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388" name="PlaceHolder 3"/>
          <p:cNvSpPr>
            <a:spLocks noGrp="1"/>
          </p:cNvSpPr>
          <p:nvPr>
            <p:ph type="dt" idx="28"/>
          </p:nvPr>
        </p:nvSpPr>
        <p:spPr>
          <a:xfrm>
            <a:off x="2666520" y="6356520"/>
            <a:ext cx="162252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0ADF77-5278-445D-B9E8-473E87236E35}"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389" name="PlaceHolder 4"/>
          <p:cNvSpPr>
            <a:spLocks noGrp="1"/>
          </p:cNvSpPr>
          <p:nvPr>
            <p:ph type="ftr" idx="29"/>
          </p:nvPr>
        </p:nvSpPr>
        <p:spPr>
          <a:xfrm>
            <a:off x="240840" y="6356520"/>
            <a:ext cx="189252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390" name="PlaceHolder 5"/>
          <p:cNvSpPr>
            <a:spLocks noGrp="1"/>
          </p:cNvSpPr>
          <p:nvPr>
            <p:ph type="sldNum" idx="30"/>
          </p:nvPr>
        </p:nvSpPr>
        <p:spPr>
          <a:xfrm>
            <a:off x="1891800" y="5748480"/>
            <a:ext cx="762120" cy="5760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000000"/>
                </a:solidFill>
                <a:latin typeface="Perpetua Titling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0C922B-DEF9-4BC2-B605-37CE17FD3FC7}" type="slidenum">
              <a:rPr b="0" lang="en-US" sz="3600" spc="-1" strike="noStrike">
                <a:solidFill>
                  <a:srgbClr val="000000"/>
                </a:solidFill>
                <a:latin typeface="Perpetua Titling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7" name="Picture 6" descr="Overlay-FullBackground.jpg"/>
          <p:cNvPicPr/>
          <p:nvPr/>
        </p:nvPicPr>
        <p:blipFill>
          <a:blip r:embed="rId3"/>
          <a:srcRect l="50002" t="0" r="0" b="0"/>
          <a:stretch/>
        </p:blipFill>
        <p:spPr>
          <a:xfrm>
            <a:off x="4572000" y="4680"/>
            <a:ext cx="4572000" cy="6858000"/>
          </a:xfrm>
          <a:prstGeom prst="rect">
            <a:avLst/>
          </a:prstGeom>
          <a:ln w="0">
            <a:noFill/>
          </a:ln>
        </p:spPr>
      </p:pic>
      <p:pic>
        <p:nvPicPr>
          <p:cNvPr id="428" name="Picture 7" descr="overlay-ruleShadow.png"/>
          <p:cNvPicPr/>
          <p:nvPr/>
        </p:nvPicPr>
        <p:blipFill>
          <a:blip r:embed="rId4"/>
          <a:srcRect l="0" t="0" r="25032" b="0"/>
          <a:stretch/>
        </p:blipFill>
        <p:spPr>
          <a:xfrm rot="16200000">
            <a:off x="1086480" y="3364200"/>
            <a:ext cx="6854760" cy="125280"/>
          </a:xfrm>
          <a:prstGeom prst="rect">
            <a:avLst/>
          </a:prstGeom>
          <a:ln w="0">
            <a:noFill/>
          </a:ln>
        </p:spPr>
      </p:pic>
      <p:sp>
        <p:nvSpPr>
          <p:cNvPr id="4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430"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431" name="PlaceHolder 3"/>
          <p:cNvSpPr>
            <a:spLocks noGrp="1"/>
          </p:cNvSpPr>
          <p:nvPr>
            <p:ph type="dt" idx="31"/>
          </p:nvPr>
        </p:nvSpPr>
        <p:spPr>
          <a:xfrm>
            <a:off x="2670120" y="6356520"/>
            <a:ext cx="162720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EA2D08-BA5D-49D8-B3B2-748447D8B3A5}"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32" name="PlaceHolder 4"/>
          <p:cNvSpPr>
            <a:spLocks noGrp="1"/>
          </p:cNvSpPr>
          <p:nvPr>
            <p:ph type="ftr" idx="32"/>
          </p:nvPr>
        </p:nvSpPr>
        <p:spPr>
          <a:xfrm>
            <a:off x="240840" y="6356520"/>
            <a:ext cx="189396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33" name="PlaceHolder 5"/>
          <p:cNvSpPr>
            <a:spLocks noGrp="1"/>
          </p:cNvSpPr>
          <p:nvPr>
            <p:ph type="sldNum" idx="33"/>
          </p:nvPr>
        </p:nvSpPr>
        <p:spPr>
          <a:xfrm>
            <a:off x="1892160" y="5738760"/>
            <a:ext cx="758880" cy="574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000000"/>
                </a:solidFill>
                <a:latin typeface="Perpetua Titling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9A38EE-150C-4AD5-A785-468E5C9C51C4}" type="slidenum">
              <a:rPr b="0" lang="en-US" sz="3600" spc="-1" strike="noStrike">
                <a:solidFill>
                  <a:srgbClr val="000000"/>
                </a:solidFill>
                <a:latin typeface="Perpetua Titling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0" name="Picture 6" descr="Overlay-FullBackground.jpg"/>
          <p:cNvPicPr/>
          <p:nvPr/>
        </p:nvPicPr>
        <p:blipFill>
          <a:blip r:embed="rId3"/>
          <a:stretch/>
        </p:blipFill>
        <p:spPr>
          <a:xfrm>
            <a:off x="0" y="4680"/>
            <a:ext cx="9144000" cy="6858000"/>
          </a:xfrm>
          <a:prstGeom prst="rect">
            <a:avLst/>
          </a:prstGeom>
          <a:ln w="0">
            <a:noFill/>
          </a:ln>
        </p:spPr>
      </p:pic>
      <p:sp>
        <p:nvSpPr>
          <p:cNvPr id="47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472"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473" name="PlaceHolder 3"/>
          <p:cNvSpPr>
            <a:spLocks noGrp="1"/>
          </p:cNvSpPr>
          <p:nvPr>
            <p:ph type="dt" idx="34"/>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25E38D-9456-4C9A-B762-16A5BA7ED8D0}"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474" name="PlaceHolder 4"/>
          <p:cNvSpPr>
            <a:spLocks noGrp="1"/>
          </p:cNvSpPr>
          <p:nvPr>
            <p:ph type="ftr" idx="35"/>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75" name="PlaceHolder 5"/>
          <p:cNvSpPr>
            <a:spLocks noGrp="1"/>
          </p:cNvSpPr>
          <p:nvPr>
            <p:ph type="sldNum" idx="36"/>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087BC8-E75A-4D0D-8468-D8B57B567016}"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513"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514" name="PlaceHolder 3"/>
          <p:cNvSpPr>
            <a:spLocks noGrp="1"/>
          </p:cNvSpPr>
          <p:nvPr>
            <p:ph type="dt" idx="37"/>
          </p:nvPr>
        </p:nvSpPr>
        <p:spPr>
          <a:xfrm>
            <a:off x="6732720" y="6356520"/>
            <a:ext cx="213336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28EB40-83BE-45FE-BCA8-249C9774FC75}"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515" name="PlaceHolder 4"/>
          <p:cNvSpPr>
            <a:spLocks noGrp="1"/>
          </p:cNvSpPr>
          <p:nvPr>
            <p:ph type="ftr" idx="38"/>
          </p:nvPr>
        </p:nvSpPr>
        <p:spPr>
          <a:xfrm>
            <a:off x="241200" y="6356520"/>
            <a:ext cx="289584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516" name="PlaceHolder 5"/>
          <p:cNvSpPr>
            <a:spLocks noGrp="1"/>
          </p:cNvSpPr>
          <p:nvPr>
            <p:ph type="sldNum" idx="39"/>
          </p:nvPr>
        </p:nvSpPr>
        <p:spPr>
          <a:xfrm>
            <a:off x="4267080" y="6356520"/>
            <a:ext cx="60984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D0EEBC-8B08-4775-931D-12FA7F9653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53" name="Picture 6" descr="overlay-ruleShadow.png"/>
          <p:cNvPicPr/>
          <p:nvPr/>
        </p:nvPicPr>
        <p:blipFill>
          <a:blip r:embed="rId3"/>
          <a:stretch/>
        </p:blipFill>
        <p:spPr>
          <a:xfrm>
            <a:off x="0" y="1308240"/>
            <a:ext cx="9144000" cy="123840"/>
          </a:xfrm>
          <a:prstGeom prst="rect">
            <a:avLst/>
          </a:prstGeom>
          <a:ln w="0">
            <a:noFill/>
          </a:ln>
        </p:spPr>
      </p:pic>
      <p:pic>
        <p:nvPicPr>
          <p:cNvPr id="554"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5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556"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557" name="PlaceHolder 3"/>
          <p:cNvSpPr>
            <a:spLocks noGrp="1"/>
          </p:cNvSpPr>
          <p:nvPr>
            <p:ph type="dt" idx="40"/>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921DBB-D707-4CA4-B5D3-EEBE1B8DAA90}"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558" name="PlaceHolder 4"/>
          <p:cNvSpPr>
            <a:spLocks noGrp="1"/>
          </p:cNvSpPr>
          <p:nvPr>
            <p:ph type="ftr" idx="41"/>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559" name="PlaceHolder 5"/>
          <p:cNvSpPr>
            <a:spLocks noGrp="1"/>
          </p:cNvSpPr>
          <p:nvPr>
            <p:ph type="sldNum" idx="42"/>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25922A-8D23-4D0F-8C47-CC1A4C1B958A}"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96" name="Picture 6" descr="Overlay-FullBackground.jpg"/>
          <p:cNvPicPr/>
          <p:nvPr/>
        </p:nvPicPr>
        <p:blipFill>
          <a:blip r:embed="rId3"/>
          <a:srcRect l="0" t="0" r="14720" b="0"/>
          <a:stretch/>
        </p:blipFill>
        <p:spPr>
          <a:xfrm>
            <a:off x="0" y="4680"/>
            <a:ext cx="7797960" cy="6858000"/>
          </a:xfrm>
          <a:prstGeom prst="rect">
            <a:avLst/>
          </a:prstGeom>
          <a:ln w="0">
            <a:noFill/>
          </a:ln>
        </p:spPr>
      </p:pic>
      <p:pic>
        <p:nvPicPr>
          <p:cNvPr id="597" name="Picture 7" descr="overlay-ruleShadow.png"/>
          <p:cNvPicPr/>
          <p:nvPr/>
        </p:nvPicPr>
        <p:blipFill>
          <a:blip r:embed="rId4"/>
          <a:srcRect l="0" t="0" r="25032" b="0"/>
          <a:stretch/>
        </p:blipFill>
        <p:spPr>
          <a:xfrm flipH="1" rot="5400000">
            <a:off x="4421880" y="3364200"/>
            <a:ext cx="6854760" cy="125280"/>
          </a:xfrm>
          <a:prstGeom prst="rect">
            <a:avLst/>
          </a:prstGeom>
          <a:ln w="0">
            <a:noFill/>
          </a:ln>
        </p:spPr>
      </p:pic>
      <p:sp>
        <p:nvSpPr>
          <p:cNvPr id="5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599"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600" name="PlaceHolder 3"/>
          <p:cNvSpPr>
            <a:spLocks noGrp="1"/>
          </p:cNvSpPr>
          <p:nvPr>
            <p:ph type="dt" idx="43"/>
          </p:nvPr>
        </p:nvSpPr>
        <p:spPr>
          <a:xfrm>
            <a:off x="7924680" y="6356520"/>
            <a:ext cx="106704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BF0FAA-49EA-463E-957B-C2B37943E623}" type="datetime">
              <a:rPr b="0" lang="en-US" sz="1200" spc="-1" strike="noStrike">
                <a:solidFill>
                  <a:srgbClr val="ffffff"/>
                </a:solidFill>
                <a:latin typeface="Times New Roman"/>
              </a:rPr>
              <a:t>07/31/26</a:t>
            </a:fld>
            <a:endParaRPr b="0" lang="en-US" sz="1200" spc="-1" strike="noStrike">
              <a:solidFill>
                <a:srgbClr val="000000"/>
              </a:solidFill>
              <a:latin typeface="Times New Roman"/>
            </a:endParaRPr>
          </a:p>
        </p:txBody>
      </p:sp>
      <p:sp>
        <p:nvSpPr>
          <p:cNvPr id="601" name="PlaceHolder 4"/>
          <p:cNvSpPr>
            <a:spLocks noGrp="1"/>
          </p:cNvSpPr>
          <p:nvPr>
            <p:ph type="ftr" idx="44"/>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602" name="PlaceHolder 5"/>
          <p:cNvSpPr>
            <a:spLocks noGrp="1"/>
          </p:cNvSpPr>
          <p:nvPr>
            <p:ph type="sldNum" idx="45"/>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5C98FA-9CA7-4FD9-ADB7-761968A6EB11}"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Overlay-FullBackground.jpg"/>
          <p:cNvPicPr/>
          <p:nvPr/>
        </p:nvPicPr>
        <p:blipFill>
          <a:blip r:embed="rId3"/>
          <a:srcRect l="0" t="50005" r="0" b="0"/>
          <a:stretch/>
        </p:blipFill>
        <p:spPr>
          <a:xfrm>
            <a:off x="0" y="3429000"/>
            <a:ext cx="9144000" cy="3429000"/>
          </a:xfrm>
          <a:prstGeom prst="rect">
            <a:avLst/>
          </a:prstGeom>
          <a:ln w="0">
            <a:noFill/>
          </a:ln>
        </p:spPr>
      </p:pic>
      <p:pic>
        <p:nvPicPr>
          <p:cNvPr id="42" name="Picture 7" descr="overlay-ruleShadow.png"/>
          <p:cNvPicPr/>
          <p:nvPr/>
        </p:nvPicPr>
        <p:blipFill>
          <a:blip r:embed="rId4"/>
          <a:stretch/>
        </p:blipFill>
        <p:spPr>
          <a:xfrm>
            <a:off x="0" y="3303720"/>
            <a:ext cx="9144000" cy="125280"/>
          </a:xfrm>
          <a:prstGeom prst="rect">
            <a:avLst/>
          </a:prstGeom>
          <a:ln w="0">
            <a:noFill/>
          </a:ln>
        </p:spPr>
      </p:pic>
      <p:sp>
        <p:nvSpPr>
          <p:cNvPr id="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44"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45" name="PlaceHolder 3"/>
          <p:cNvSpPr>
            <a:spLocks noGrp="1"/>
          </p:cNvSpPr>
          <p:nvPr>
            <p:ph type="dt" idx="4"/>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625C00-EEA2-4961-8A21-C7CBD784F917}"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7" name="PlaceHolder 5"/>
          <p:cNvSpPr>
            <a:spLocks noGrp="1"/>
          </p:cNvSpPr>
          <p:nvPr>
            <p:ph type="sldNum" idx="6"/>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551C1A-A99B-4AB9-8203-B6AE7AF09410}"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Picture 6" descr="overlay-ruleShadow.png"/>
          <p:cNvPicPr/>
          <p:nvPr/>
        </p:nvPicPr>
        <p:blipFill>
          <a:blip r:embed="rId3"/>
          <a:stretch/>
        </p:blipFill>
        <p:spPr>
          <a:xfrm>
            <a:off x="0" y="1308240"/>
            <a:ext cx="9144000" cy="123840"/>
          </a:xfrm>
          <a:prstGeom prst="rect">
            <a:avLst/>
          </a:prstGeom>
          <a:ln w="0">
            <a:noFill/>
          </a:ln>
        </p:spPr>
      </p:pic>
      <p:pic>
        <p:nvPicPr>
          <p:cNvPr id="85"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8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87"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88" name="PlaceHolder 3"/>
          <p:cNvSpPr>
            <a:spLocks noGrp="1"/>
          </p:cNvSpPr>
          <p:nvPr>
            <p:ph type="dt" idx="7"/>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91E12E-EB8B-4F1D-BA13-9FFC2BC7A645}"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90" name="PlaceHolder 5"/>
          <p:cNvSpPr>
            <a:spLocks noGrp="1"/>
          </p:cNvSpPr>
          <p:nvPr>
            <p:ph type="sldNum" idx="9"/>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921B73-3A45-4034-842C-7D1BEC3BA77A}"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7" name="Picture 6" descr="Overlay-FullBackground.jpg"/>
          <p:cNvPicPr/>
          <p:nvPr/>
        </p:nvPicPr>
        <p:blipFill>
          <a:blip r:embed="rId3"/>
          <a:srcRect l="0" t="50005" r="0" b="0"/>
          <a:stretch/>
        </p:blipFill>
        <p:spPr>
          <a:xfrm>
            <a:off x="0" y="3429000"/>
            <a:ext cx="9144000" cy="3429000"/>
          </a:xfrm>
          <a:prstGeom prst="rect">
            <a:avLst/>
          </a:prstGeom>
          <a:ln w="0">
            <a:noFill/>
          </a:ln>
        </p:spPr>
      </p:pic>
      <p:pic>
        <p:nvPicPr>
          <p:cNvPr id="128" name="Picture 7" descr="overlay-ruleShadow.png"/>
          <p:cNvPicPr/>
          <p:nvPr/>
        </p:nvPicPr>
        <p:blipFill>
          <a:blip r:embed="rId4"/>
          <a:stretch/>
        </p:blipFill>
        <p:spPr>
          <a:xfrm>
            <a:off x="0" y="3303720"/>
            <a:ext cx="9144000" cy="125280"/>
          </a:xfrm>
          <a:prstGeom prst="rect">
            <a:avLst/>
          </a:prstGeom>
          <a:ln w="0">
            <a:noFill/>
          </a:ln>
        </p:spPr>
      </p:pic>
      <p:sp>
        <p:nvSpPr>
          <p:cNvPr id="1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130"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131" name="PlaceHolder 3"/>
          <p:cNvSpPr>
            <a:spLocks noGrp="1"/>
          </p:cNvSpPr>
          <p:nvPr>
            <p:ph type="dt" idx="10"/>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A159B3-1389-47C9-9247-64543D19413A}"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133" name="PlaceHolder 5"/>
          <p:cNvSpPr>
            <a:spLocks noGrp="1"/>
          </p:cNvSpPr>
          <p:nvPr>
            <p:ph type="sldNum" idx="12"/>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309D7A-4142-4051-8282-283146806FDA}"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0" name="Picture 6" descr="overlay-ruleShadow.png"/>
          <p:cNvPicPr/>
          <p:nvPr/>
        </p:nvPicPr>
        <p:blipFill>
          <a:blip r:embed="rId3"/>
          <a:stretch/>
        </p:blipFill>
        <p:spPr>
          <a:xfrm>
            <a:off x="0" y="4446720"/>
            <a:ext cx="9144000" cy="125280"/>
          </a:xfrm>
          <a:prstGeom prst="rect">
            <a:avLst/>
          </a:prstGeom>
          <a:ln w="0">
            <a:noFill/>
          </a:ln>
        </p:spPr>
      </p:pic>
      <p:pic>
        <p:nvPicPr>
          <p:cNvPr id="171" name="Picture 7" descr="Overlay-FullBackground.jpg"/>
          <p:cNvPicPr/>
          <p:nvPr/>
        </p:nvPicPr>
        <p:blipFill>
          <a:blip r:embed="rId4"/>
          <a:srcRect l="0" t="66668" r="0" b="0"/>
          <a:stretch/>
        </p:blipFill>
        <p:spPr>
          <a:xfrm>
            <a:off x="0" y="4572000"/>
            <a:ext cx="9144000" cy="2286000"/>
          </a:xfrm>
          <a:prstGeom prst="rect">
            <a:avLst/>
          </a:prstGeom>
          <a:ln w="0">
            <a:noFill/>
          </a:ln>
        </p:spPr>
      </p:pic>
      <p:sp>
        <p:nvSpPr>
          <p:cNvPr id="1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173"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174" name="PlaceHolder 3"/>
          <p:cNvSpPr>
            <a:spLocks noGrp="1"/>
          </p:cNvSpPr>
          <p:nvPr>
            <p:ph type="dt" idx="13"/>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4F61C5-BC88-438B-904B-9181E400EC78}"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175" name="PlaceHolder 4"/>
          <p:cNvSpPr>
            <a:spLocks noGrp="1"/>
          </p:cNvSpPr>
          <p:nvPr>
            <p:ph type="ftr" idx="14"/>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176" name="PlaceHolder 5"/>
          <p:cNvSpPr>
            <a:spLocks noGrp="1"/>
          </p:cNvSpPr>
          <p:nvPr>
            <p:ph type="sldNum" idx="15"/>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A5CC23-C691-4661-BD44-0F723BDA49F5}"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3" name="Picture 6" descr="overlay-ruleShadow.png"/>
          <p:cNvPicPr/>
          <p:nvPr/>
        </p:nvPicPr>
        <p:blipFill>
          <a:blip r:embed="rId3"/>
          <a:stretch/>
        </p:blipFill>
        <p:spPr>
          <a:xfrm>
            <a:off x="0" y="1308240"/>
            <a:ext cx="9144000" cy="123840"/>
          </a:xfrm>
          <a:prstGeom prst="rect">
            <a:avLst/>
          </a:prstGeom>
          <a:ln w="0">
            <a:noFill/>
          </a:ln>
        </p:spPr>
      </p:pic>
      <p:pic>
        <p:nvPicPr>
          <p:cNvPr id="214"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2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216"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217" name="PlaceHolder 3"/>
          <p:cNvSpPr>
            <a:spLocks noGrp="1"/>
          </p:cNvSpPr>
          <p:nvPr>
            <p:ph type="dt" idx="16"/>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00F53E-6EA8-4714-81B0-97F321F00593}"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218" name="PlaceHolder 4"/>
          <p:cNvSpPr>
            <a:spLocks noGrp="1"/>
          </p:cNvSpPr>
          <p:nvPr>
            <p:ph type="ftr" idx="17"/>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219" name="PlaceHolder 5"/>
          <p:cNvSpPr>
            <a:spLocks noGrp="1"/>
          </p:cNvSpPr>
          <p:nvPr>
            <p:ph type="sldNum" idx="18"/>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C20F10-51B6-406C-820D-99D3AFBB2A19}"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6" name="Picture 6" descr="overlay-ruleShadow.png"/>
          <p:cNvPicPr/>
          <p:nvPr/>
        </p:nvPicPr>
        <p:blipFill>
          <a:blip r:embed="rId3"/>
          <a:stretch/>
        </p:blipFill>
        <p:spPr>
          <a:xfrm>
            <a:off x="0" y="1308240"/>
            <a:ext cx="9144000" cy="123840"/>
          </a:xfrm>
          <a:prstGeom prst="rect">
            <a:avLst/>
          </a:prstGeom>
          <a:ln w="0">
            <a:noFill/>
          </a:ln>
        </p:spPr>
      </p:pic>
      <p:pic>
        <p:nvPicPr>
          <p:cNvPr id="257"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25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259"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260" name="PlaceHolder 3"/>
          <p:cNvSpPr>
            <a:spLocks noGrp="1"/>
          </p:cNvSpPr>
          <p:nvPr>
            <p:ph type="dt" idx="19"/>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41BEDC-E2D3-4A22-B217-378CDAF7FD58}"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261" name="PlaceHolder 4"/>
          <p:cNvSpPr>
            <a:spLocks noGrp="1"/>
          </p:cNvSpPr>
          <p:nvPr>
            <p:ph type="ftr" idx="20"/>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262" name="PlaceHolder 5"/>
          <p:cNvSpPr>
            <a:spLocks noGrp="1"/>
          </p:cNvSpPr>
          <p:nvPr>
            <p:ph type="sldNum" idx="21"/>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C0EFE6-1F85-41CB-96D7-7CACD2C18FDB}"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9" name="Picture 6" descr="overlay-ruleShadow.png"/>
          <p:cNvPicPr/>
          <p:nvPr/>
        </p:nvPicPr>
        <p:blipFill>
          <a:blip r:embed="rId3"/>
          <a:stretch/>
        </p:blipFill>
        <p:spPr>
          <a:xfrm>
            <a:off x="0" y="1308240"/>
            <a:ext cx="9144000" cy="123840"/>
          </a:xfrm>
          <a:prstGeom prst="rect">
            <a:avLst/>
          </a:prstGeom>
          <a:ln w="0">
            <a:noFill/>
          </a:ln>
        </p:spPr>
      </p:pic>
      <p:pic>
        <p:nvPicPr>
          <p:cNvPr id="300" name="Picture 7" descr="Overlay-FullBackground.jpg"/>
          <p:cNvPicPr/>
          <p:nvPr/>
        </p:nvPicPr>
        <p:blipFill>
          <a:blip r:embed="rId4"/>
          <a:srcRect l="0" t="21048" r="0" b="0"/>
          <a:stretch/>
        </p:blipFill>
        <p:spPr>
          <a:xfrm>
            <a:off x="0" y="1447920"/>
            <a:ext cx="9144000" cy="5414760"/>
          </a:xfrm>
          <a:prstGeom prst="rect">
            <a:avLst/>
          </a:prstGeom>
          <a:ln w="0">
            <a:noFill/>
          </a:ln>
        </p:spPr>
      </p:pic>
      <p:sp>
        <p:nvSpPr>
          <p:cNvPr id="30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302"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303" name="PlaceHolder 3"/>
          <p:cNvSpPr>
            <a:spLocks noGrp="1"/>
          </p:cNvSpPr>
          <p:nvPr>
            <p:ph type="dt" idx="22"/>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B8A473-585E-4150-9CAD-0DECC6A7014A}"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305" name="PlaceHolder 5"/>
          <p:cNvSpPr>
            <a:spLocks noGrp="1"/>
          </p:cNvSpPr>
          <p:nvPr>
            <p:ph type="sldNum" idx="24"/>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D7C86D-C73E-44CA-8D24-4A28418EB6CD}"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2" name="Picture 6" descr="Overlay-FullBackground.jpg"/>
          <p:cNvPicPr/>
          <p:nvPr/>
        </p:nvPicPr>
        <p:blipFill>
          <a:blip r:embed="rId3"/>
          <a:stretch/>
        </p:blipFill>
        <p:spPr>
          <a:xfrm>
            <a:off x="0" y="4680"/>
            <a:ext cx="9144000" cy="6858000"/>
          </a:xfrm>
          <a:prstGeom prst="rect">
            <a:avLst/>
          </a:prstGeom>
          <a:ln w="0">
            <a:noFill/>
          </a:ln>
        </p:spPr>
      </p:pic>
      <p:sp>
        <p:nvSpPr>
          <p:cNvPr id="3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344"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345" name="PlaceHolder 3"/>
          <p:cNvSpPr>
            <a:spLocks noGrp="1"/>
          </p:cNvSpPr>
          <p:nvPr>
            <p:ph type="dt" idx="25"/>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31FABA-3A48-4B1B-924F-AF78ED669FFE}"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346" name="PlaceHolder 4"/>
          <p:cNvSpPr>
            <a:spLocks noGrp="1"/>
          </p:cNvSpPr>
          <p:nvPr>
            <p:ph type="ftr" idx="26"/>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347" name="PlaceHolder 5"/>
          <p:cNvSpPr>
            <a:spLocks noGrp="1"/>
          </p:cNvSpPr>
          <p:nvPr>
            <p:ph type="sldNum" idx="27"/>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D92B48-5C02-40BB-B541-1A28911755FB}"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779040" y="1917360"/>
            <a:ext cx="7583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Format Writing </a:t>
            </a:r>
            <a:br>
              <a:rPr sz="4800"/>
            </a:br>
            <a:r>
              <a:rPr b="0" lang="en-US" sz="4800" spc="-1" strike="noStrike">
                <a:solidFill>
                  <a:srgbClr val="ffffff"/>
                </a:solidFill>
                <a:latin typeface="Perpetua Titling MT"/>
              </a:rPr>
              <a:t>and </a:t>
            </a:r>
            <a:br>
              <a:rPr sz="4800"/>
            </a:br>
            <a:r>
              <a:rPr b="0" lang="en-US" sz="4800" spc="-1" strike="noStrike">
                <a:solidFill>
                  <a:srgbClr val="ffffff"/>
                </a:solidFill>
                <a:latin typeface="Perpetua Titling MT"/>
              </a:rPr>
              <a:t>Social Studies</a:t>
            </a:r>
            <a:endParaRPr b="0" lang="en-US" sz="4800" spc="-1" strike="noStrike">
              <a:solidFill>
                <a:srgbClr val="ffffff"/>
              </a:solidFill>
              <a:latin typeface="Perpetua Titling MT"/>
            </a:endParaRPr>
          </a:p>
        </p:txBody>
      </p:sp>
      <p:sp>
        <p:nvSpPr>
          <p:cNvPr id="640" name="PlaceHolder 2"/>
          <p:cNvSpPr>
            <a:spLocks noGrp="1"/>
          </p:cNvSpPr>
          <p:nvPr>
            <p:ph type="subTitle"/>
          </p:nvPr>
        </p:nvSpPr>
        <p:spPr>
          <a:xfrm>
            <a:off x="779040" y="3478320"/>
            <a:ext cx="75834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alisto MT"/>
              </a:rPr>
              <a:t>Miss Asher</a:t>
            </a:r>
            <a:endParaRPr b="0" lang="en-US" sz="1800" spc="-1" strike="noStrike">
              <a:solidFill>
                <a:srgbClr val="333333"/>
              </a:solidFill>
              <a:latin typeface="Calisto M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alisto MT"/>
              </a:rPr>
              <a:t>English 100 and 116</a:t>
            </a:r>
            <a:endParaRPr b="0" lang="en-US" sz="18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What needs to be considered</a:t>
            </a:r>
            <a:endParaRPr b="0" lang="en-US" sz="4800" spc="-1" strike="noStrike">
              <a:solidFill>
                <a:srgbClr val="ffffff"/>
              </a:solidFill>
              <a:latin typeface="Perpetua Titling MT"/>
            </a:endParaRPr>
          </a:p>
        </p:txBody>
      </p:sp>
      <p:sp>
        <p:nvSpPr>
          <p:cNvPr id="642" name=""/>
          <p:cNvSpPr txBox="1"/>
          <p:nvPr/>
        </p:nvSpPr>
        <p:spPr>
          <a:xfrm>
            <a:off x="779040" y="1828440"/>
            <a:ext cx="7583400" cy="4297320"/>
          </a:xfrm>
          <a:prstGeom prst="rect">
            <a:avLst/>
          </a:prstGeom>
          <a:noFill/>
          <a:ln w="0">
            <a:noFill/>
          </a:ln>
        </p:spPr>
        <p:txBody>
          <a:bodyPr anchor="t">
            <a:normAutofit fontScale="94000"/>
          </a:bodyPr>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Audience:  Who is your audience?  Are you writing for a teacher or is it a larger population?</a:t>
            </a:r>
            <a:endParaRPr b="0" lang="en-US" sz="2400" spc="-1" strike="noStrike">
              <a:solidFill>
                <a:srgbClr val="333333"/>
              </a:solidFill>
              <a:latin typeface="Calisto MT"/>
            </a:endParaRPr>
          </a:p>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Purpose:  What do you want to accomplish?  There are three purposes for writing- to inform, to entertain, to persuade.</a:t>
            </a:r>
            <a:endParaRPr b="0" lang="en-US" sz="2400" spc="-1" strike="noStrike">
              <a:solidFill>
                <a:srgbClr val="333333"/>
              </a:solidFill>
              <a:latin typeface="Calisto MT"/>
            </a:endParaRPr>
          </a:p>
          <a:p>
            <a:pPr lvl="1" marL="542880" indent="-277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You are writing to inform or persuade!  That means this is FACT based!</a:t>
            </a:r>
            <a:endParaRPr b="0" lang="en-US" sz="2200" spc="-1" strike="noStrike">
              <a:solidFill>
                <a:srgbClr val="333333"/>
              </a:solidFill>
              <a:latin typeface="Calisto MT"/>
            </a:endParaRPr>
          </a:p>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Occasion: What are you writing?  Is this an essay, test question, or project?</a:t>
            </a:r>
            <a:endParaRPr b="0" lang="en-US" sz="2400" spc="-1" strike="noStrike">
              <a:solidFill>
                <a:srgbClr val="333333"/>
              </a:solidFill>
              <a:latin typeface="Calisto MT"/>
            </a:endParaRPr>
          </a:p>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Topic Sentence</a:t>
            </a:r>
            <a:endParaRPr b="0" lang="en-US" sz="4800" spc="-1" strike="noStrike">
              <a:solidFill>
                <a:srgbClr val="ffffff"/>
              </a:solidFill>
              <a:latin typeface="Perpetua Titling MT"/>
            </a:endParaRPr>
          </a:p>
        </p:txBody>
      </p:sp>
      <p:sp>
        <p:nvSpPr>
          <p:cNvPr id="644" name=""/>
          <p:cNvSpPr txBox="1"/>
          <p:nvPr/>
        </p:nvSpPr>
        <p:spPr>
          <a:xfrm>
            <a:off x="779040" y="1828440"/>
            <a:ext cx="7583400" cy="4297320"/>
          </a:xfrm>
          <a:prstGeom prst="rect">
            <a:avLst/>
          </a:prstGeom>
          <a:noFill/>
          <a:ln w="0">
            <a:noFill/>
          </a:ln>
        </p:spPr>
        <p:txBody>
          <a:bodyPr anchor="t">
            <a:normAutofit fontScale="88000"/>
          </a:bodyPr>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Just like all other format paragraphs your topic sentence should contain your subject and “opinion”.</a:t>
            </a:r>
            <a:endParaRPr b="0" lang="en-US" sz="2400" spc="-1" strike="noStrike">
              <a:solidFill>
                <a:srgbClr val="333333"/>
              </a:solidFill>
              <a:latin typeface="Calisto MT"/>
            </a:endParaRPr>
          </a:p>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a:t>
            </a:r>
            <a:r>
              <a:rPr b="0" lang="en-US" sz="2400" spc="-1" strike="noStrike">
                <a:solidFill>
                  <a:srgbClr val="333333"/>
                </a:solidFill>
                <a:latin typeface="Calisto MT"/>
              </a:rPr>
              <a:t>Opinion” is misleading-this is already provided for you</a:t>
            </a:r>
            <a:endParaRPr b="0" lang="en-US" sz="2400" spc="-1" strike="noStrike">
              <a:solidFill>
                <a:srgbClr val="333333"/>
              </a:solidFill>
              <a:latin typeface="Calisto MT"/>
            </a:endParaRPr>
          </a:p>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If you are answering a question, simply restate the question as your topic sentence.</a:t>
            </a:r>
            <a:endParaRPr b="0" lang="en-US" sz="2400" spc="-1" strike="noStrike">
              <a:solidFill>
                <a:srgbClr val="333333"/>
              </a:solidFill>
              <a:latin typeface="Calisto MT"/>
            </a:endParaRPr>
          </a:p>
          <a:p>
            <a:pPr lvl="2" marL="757080" indent="-24840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Your “opinion” should be a given</a:t>
            </a:r>
            <a:endParaRPr b="0" lang="en-US" sz="2000" spc="-1" strike="noStrike">
              <a:solidFill>
                <a:srgbClr val="333333"/>
              </a:solidFill>
              <a:latin typeface="Calisto MT"/>
            </a:endParaRPr>
          </a:p>
          <a:p>
            <a:pPr lvl="2" marL="75708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alisto MT"/>
            </a:endParaRPr>
          </a:p>
          <a:p>
            <a:pPr lvl="2" marL="75708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Example: TS Early scientists advanced knowledge in biology and chemistry.</a:t>
            </a:r>
            <a:endParaRPr b="0" lang="en-US" sz="2000" spc="-1" strike="noStrike">
              <a:solidFill>
                <a:srgbClr val="333333"/>
              </a:solidFill>
              <a:latin typeface="Calisto MT"/>
            </a:endParaRPr>
          </a:p>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oncrete Detail</a:t>
            </a:r>
            <a:endParaRPr b="0" lang="en-US" sz="4800" spc="-1" strike="noStrike">
              <a:solidFill>
                <a:srgbClr val="ffffff"/>
              </a:solidFill>
              <a:latin typeface="Perpetua Titling MT"/>
            </a:endParaRPr>
          </a:p>
        </p:txBody>
      </p:sp>
      <p:sp>
        <p:nvSpPr>
          <p:cNvPr id="646" name=""/>
          <p:cNvSpPr txBox="1"/>
          <p:nvPr/>
        </p:nvSpPr>
        <p:spPr>
          <a:xfrm>
            <a:off x="779040" y="1828440"/>
            <a:ext cx="7583400" cy="4297320"/>
          </a:xfrm>
          <a:prstGeom prst="rect">
            <a:avLst/>
          </a:prstGeom>
          <a:noFill/>
          <a:ln w="0">
            <a:noFill/>
          </a:ln>
        </p:spPr>
        <p:txBody>
          <a:bodyPr anchor="t">
            <a:normAutofit fontScale="90000"/>
          </a:bodyPr>
          <a:p>
            <a:pPr marL="254160" indent="-25416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ese are FACT statements or examples</a:t>
            </a:r>
            <a:endParaRPr b="0" lang="en-US" sz="2400" spc="-1" strike="noStrike">
              <a:solidFill>
                <a:srgbClr val="333333"/>
              </a:solidFill>
              <a:latin typeface="Calisto MT"/>
            </a:endParaRPr>
          </a:p>
          <a:p>
            <a:pPr marL="254160" indent="-2541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a:p>
            <a:pPr marL="254160" indent="-25416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When a question asks your to provide examples (generally two) those examples belong in the concrete detail</a:t>
            </a:r>
            <a:endParaRPr b="0" lang="en-US" sz="2400" spc="-1" strike="noStrike">
              <a:solidFill>
                <a:srgbClr val="333333"/>
              </a:solidFill>
              <a:latin typeface="Calisto MT"/>
            </a:endParaRPr>
          </a:p>
          <a:p>
            <a:pPr marL="254160" indent="-2541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Example: (CD 1) For example, Andreas Vesalius became  known for his work in anatomy.</a:t>
            </a:r>
            <a:endParaRPr b="0" lang="en-US" sz="2400" spc="-1" strike="noStrike">
              <a:solidFill>
                <a:srgbClr val="333333"/>
              </a:solidFill>
              <a:latin typeface="Calisto MT"/>
            </a:endParaRPr>
          </a:p>
          <a:p>
            <a:pPr marL="254160" indent="-2541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D 2) In addition, Robert Boyle was the first chemist to define an element.</a:t>
            </a: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ommentary</a:t>
            </a:r>
            <a:endParaRPr b="0" lang="en-US" sz="4800" spc="-1" strike="noStrike">
              <a:solidFill>
                <a:srgbClr val="ffffff"/>
              </a:solidFill>
              <a:latin typeface="Perpetua Titling MT"/>
            </a:endParaRPr>
          </a:p>
        </p:txBody>
      </p:sp>
      <p:sp>
        <p:nvSpPr>
          <p:cNvPr id="648" name=""/>
          <p:cNvSpPr txBox="1"/>
          <p:nvPr/>
        </p:nvSpPr>
        <p:spPr>
          <a:xfrm>
            <a:off x="779040" y="1828440"/>
            <a:ext cx="7583400" cy="4297320"/>
          </a:xfrm>
          <a:prstGeom prst="rect">
            <a:avLst/>
          </a:prstGeom>
          <a:noFill/>
          <a:ln w="0">
            <a:noFill/>
          </a:ln>
        </p:spPr>
        <p:txBody>
          <a:bodyPr anchor="t">
            <a:normAutofit fontScale="85000"/>
          </a:bodyPr>
          <a:p>
            <a:pPr marL="240120" indent="-2401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In these sentences you will explain your concrete details.</a:t>
            </a:r>
            <a:endParaRPr b="0" lang="en-US" sz="2400" spc="-1" strike="noStrike">
              <a:solidFill>
                <a:srgbClr val="333333"/>
              </a:solidFill>
              <a:latin typeface="Calisto MT"/>
            </a:endParaRPr>
          </a:p>
          <a:p>
            <a:pPr marL="240120" indent="-2401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e explanation is FACT based!  No opinions!</a:t>
            </a:r>
            <a:endParaRPr b="0" lang="en-US" sz="2400" spc="-1" strike="noStrike">
              <a:solidFill>
                <a:srgbClr val="333333"/>
              </a:solidFill>
              <a:latin typeface="Calisto MT"/>
            </a:endParaRPr>
          </a:p>
          <a:p>
            <a:pPr marL="240120" indent="-2401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Remember: our purpose is to inform or persuade</a:t>
            </a:r>
            <a:endParaRPr b="0" lang="en-US" sz="2400" spc="-1" strike="noStrike">
              <a:solidFill>
                <a:srgbClr val="333333"/>
              </a:solidFill>
              <a:latin typeface="Calisto MT"/>
            </a:endParaRPr>
          </a:p>
          <a:p>
            <a:pPr lvl="1" marL="491040" indent="-25092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What does this mean?</a:t>
            </a:r>
            <a:endParaRPr b="0" lang="en-US" sz="2200" spc="-1" strike="noStrike">
              <a:solidFill>
                <a:srgbClr val="333333"/>
              </a:solidFill>
              <a:latin typeface="Calisto MT"/>
            </a:endParaRPr>
          </a:p>
          <a:p>
            <a:pPr lvl="2" marL="731160" indent="-24012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Facts only</a:t>
            </a:r>
            <a:endParaRPr b="0" lang="en-US" sz="2000" spc="-1" strike="noStrike">
              <a:solidFill>
                <a:srgbClr val="333333"/>
              </a:solidFill>
              <a:latin typeface="Calisto MT"/>
            </a:endParaRPr>
          </a:p>
          <a:p>
            <a:pPr lvl="2" marL="731160" indent="-24012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No “flowery” language</a:t>
            </a:r>
            <a:endParaRPr b="0" lang="en-US" sz="2000" spc="-1" strike="noStrike">
              <a:solidFill>
                <a:srgbClr val="333333"/>
              </a:solidFill>
              <a:latin typeface="Calisto MT"/>
            </a:endParaRPr>
          </a:p>
          <a:p>
            <a:pPr lvl="2" marL="731160" indent="-24012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FOCUS on the subject </a:t>
            </a:r>
            <a:endParaRPr b="0" lang="en-US" sz="2000" spc="-1" strike="noStrike">
              <a:solidFill>
                <a:srgbClr val="333333"/>
              </a:solidFill>
              <a:latin typeface="Calisto MT"/>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Examples: </a:t>
            </a:r>
            <a:r>
              <a:rPr b="0" lang="en-US" sz="1800" spc="-1" strike="noStrike">
                <a:solidFill>
                  <a:srgbClr val="333333"/>
                </a:solidFill>
                <a:latin typeface="Calisto MT"/>
              </a:rPr>
              <a:t>(CD 1) </a:t>
            </a:r>
            <a:r>
              <a:rPr b="0" lang="en-US" sz="1600" spc="-1" strike="noStrike">
                <a:solidFill>
                  <a:srgbClr val="333333"/>
                </a:solidFill>
                <a:latin typeface="Calisto MT"/>
              </a:rPr>
              <a:t>In 1539 a judge learned of his work and made bodies of executed criminals available to Vesalius for dissection. Vesalius hired artists to produce accurate drawings of the bodies and then published </a:t>
            </a:r>
            <a:r>
              <a:rPr b="0" lang="en-US" sz="1600" spc="-1" strike="noStrike" u="sng">
                <a:solidFill>
                  <a:srgbClr val="333333"/>
                </a:solidFill>
                <a:uFillTx/>
                <a:latin typeface="Calisto MT"/>
              </a:rPr>
              <a:t>On the Workings of the Human Body</a:t>
            </a:r>
            <a:r>
              <a:rPr b="0" lang="en-US" sz="1600" spc="-1" strike="noStrike">
                <a:solidFill>
                  <a:srgbClr val="333333"/>
                </a:solidFill>
                <a:latin typeface="Calisto MT"/>
              </a:rPr>
              <a:t> in 1953.</a:t>
            </a:r>
            <a:endParaRPr b="0" lang="en-US" sz="16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oncluding Sentence</a:t>
            </a:r>
            <a:endParaRPr b="0" lang="en-US" sz="4800" spc="-1" strike="noStrike">
              <a:solidFill>
                <a:srgbClr val="ffffff"/>
              </a:solidFill>
              <a:latin typeface="Perpetua Titling MT"/>
            </a:endParaRPr>
          </a:p>
        </p:txBody>
      </p:sp>
      <p:sp>
        <p:nvSpPr>
          <p:cNvPr id="650" name=""/>
          <p:cNvSpPr txBox="1"/>
          <p:nvPr/>
        </p:nvSpPr>
        <p:spPr>
          <a:xfrm>
            <a:off x="779040" y="1828440"/>
            <a:ext cx="7583400" cy="4297320"/>
          </a:xfrm>
          <a:prstGeom prst="rect">
            <a:avLst/>
          </a:prstGeom>
          <a:noFill/>
          <a:ln w="0">
            <a:noFill/>
          </a:ln>
        </p:spPr>
        <p:txBody>
          <a:bodyPr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Restate your topic sentence</a:t>
            </a:r>
            <a:endParaRPr b="0" lang="en-US" sz="24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Restate means that you need to use different words!</a:t>
            </a:r>
            <a:endParaRPr b="0" lang="en-US" sz="24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Make sure the subject and opinion is very clear!</a:t>
            </a:r>
            <a:endParaRPr b="0" lang="en-US" sz="22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Use a concluding transition</a:t>
            </a:r>
            <a:endParaRPr b="0" lang="en-US" sz="22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Calisto MT"/>
            </a:endParaRPr>
          </a:p>
          <a:p>
            <a:pPr lvl="1" marL="577800" indent="-295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Example: Scientists made great discoveries in the fields of biology and chemistry during the Scientific Revolution.</a:t>
            </a:r>
            <a:endParaRPr b="0" lang="en-US" sz="22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Important Points to remember</a:t>
            </a:r>
            <a:endParaRPr b="0" lang="en-US" sz="4800" spc="-1" strike="noStrike">
              <a:solidFill>
                <a:srgbClr val="ffffff"/>
              </a:solidFill>
              <a:latin typeface="Perpetua Titling MT"/>
            </a:endParaRPr>
          </a:p>
        </p:txBody>
      </p:sp>
      <p:sp>
        <p:nvSpPr>
          <p:cNvPr id="652" name=""/>
          <p:cNvSpPr txBox="1"/>
          <p:nvPr/>
        </p:nvSpPr>
        <p:spPr>
          <a:xfrm>
            <a:off x="779040" y="1828440"/>
            <a:ext cx="7583400" cy="4297320"/>
          </a:xfrm>
          <a:prstGeom prst="rect">
            <a:avLst/>
          </a:prstGeom>
          <a:noFill/>
          <a:ln w="0">
            <a:noFill/>
          </a:ln>
        </p:spPr>
        <p:txBody>
          <a:bodyPr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ACT based writing (purpose to inform or persuade)</a:t>
            </a:r>
            <a:endParaRPr b="0" lang="en-US" sz="24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No “flowery” language</a:t>
            </a:r>
            <a:endParaRPr b="0" lang="en-US" sz="24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Overly complex sentences will distract readers</a:t>
            </a:r>
            <a:endParaRPr b="0" lang="en-US" sz="22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Keep your writing clear and precise</a:t>
            </a:r>
            <a:endParaRPr b="0" lang="en-US" sz="24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You may only use personal pronouns if your purpose is to persuade!  Otherwise leave them out!</a:t>
            </a: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Example</a:t>
            </a:r>
            <a:endParaRPr b="0" lang="en-US" sz="4800" spc="-1" strike="noStrike">
              <a:solidFill>
                <a:srgbClr val="ffffff"/>
              </a:solidFill>
              <a:latin typeface="Perpetua Titling MT"/>
            </a:endParaRPr>
          </a:p>
        </p:txBody>
      </p:sp>
      <p:sp>
        <p:nvSpPr>
          <p:cNvPr id="654"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fontScale="86000"/>
          </a:bodyPr>
          <a:p>
            <a:pPr marL="243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	</a:t>
            </a:r>
            <a:r>
              <a:rPr b="0" lang="en-US" sz="2000" spc="-1" strike="noStrike">
                <a:solidFill>
                  <a:srgbClr val="333333"/>
                </a:solidFill>
                <a:latin typeface="Calisto MT"/>
              </a:rPr>
              <a:t> </a:t>
            </a:r>
            <a:r>
              <a:rPr b="0" lang="en-US" sz="2000" spc="-1" strike="noStrike">
                <a:solidFill>
                  <a:srgbClr val="333333"/>
                </a:solidFill>
                <a:latin typeface="Calisto MT"/>
              </a:rPr>
              <a:t>	</a:t>
            </a:r>
            <a:r>
              <a:rPr b="0" lang="en-US" sz="2000" spc="-1" strike="noStrike">
                <a:solidFill>
                  <a:srgbClr val="333333"/>
                </a:solidFill>
                <a:latin typeface="Calisto MT"/>
              </a:rPr>
              <a:t>Early scientists advanced knowledge in biology and chemistry.</a:t>
            </a:r>
            <a:r>
              <a:rPr b="0" lang="en-US" sz="2000" spc="-1" strike="noStrike">
                <a:solidFill>
                  <a:srgbClr val="333333"/>
                </a:solidFill>
                <a:latin typeface="Calisto MT"/>
              </a:rPr>
              <a:t>  </a:t>
            </a:r>
            <a:r>
              <a:rPr b="0" lang="en-US" sz="2000" spc="-1" strike="noStrike">
                <a:solidFill>
                  <a:srgbClr val="333333"/>
                </a:solidFill>
                <a:latin typeface="Calisto MT"/>
              </a:rPr>
              <a:t>For example, Andreas Vesalius became  known for his work in anatomy. In 1539 a judge learned of his work and made bodies of executed criminals available to Vesalius for dissection. Vesalius hired artists to produce accurate drawings of the bodies and then published </a:t>
            </a:r>
            <a:r>
              <a:rPr b="0" lang="en-US" sz="2000" spc="-1" strike="noStrike" u="sng">
                <a:solidFill>
                  <a:srgbClr val="333333"/>
                </a:solidFill>
                <a:uFillTx/>
                <a:latin typeface="Calisto MT"/>
              </a:rPr>
              <a:t>On the Workings of the Human Body</a:t>
            </a:r>
            <a:r>
              <a:rPr b="0" lang="en-US" sz="2000" spc="-1" strike="noStrike">
                <a:solidFill>
                  <a:srgbClr val="333333"/>
                </a:solidFill>
                <a:latin typeface="Calisto MT"/>
              </a:rPr>
              <a:t> in 1953. In addition, Robert Boyle was the first chemist to define an element. His 1661 work, </a:t>
            </a:r>
            <a:r>
              <a:rPr b="0" lang="en-US" sz="2000" spc="-1" strike="noStrike" u="sng">
                <a:solidFill>
                  <a:srgbClr val="333333"/>
                </a:solidFill>
                <a:uFillTx/>
                <a:latin typeface="Calisto MT"/>
              </a:rPr>
              <a:t>The Scpetical Chemist</a:t>
            </a:r>
            <a:r>
              <a:rPr b="0" lang="en-US" sz="2000" spc="-1" strike="noStrike">
                <a:solidFill>
                  <a:srgbClr val="333333"/>
                </a:solidFill>
                <a:latin typeface="Calisto MT"/>
              </a:rPr>
              <a:t>, described matter as a cluster of tiny particles.  Boyle stated that changes in matter happened when these clusters were rearranged. Scientists, such as Andreas Vesalius and Robert Boyle,  made great discoveries in the fields of biology and chemistry during the Scientific Revolution.</a:t>
            </a:r>
            <a:endParaRPr b="0" lang="en-US" sz="20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2T15:53:36Z</dcterms:created>
  <dc:creator>Monica Asher</dc:creator>
  <dc:description/>
  <dc:language>en-US</dc:language>
  <cp:lastModifiedBy>McCormick Middle School</cp:lastModifiedBy>
  <cp:lastPrinted>2009-08-28T16:36:59Z</cp:lastPrinted>
  <dcterms:modified xsi:type="dcterms:W3CDTF">2009-08-28T17:27:23Z</dcterms:modified>
  <cp:revision>19</cp:revision>
  <dc:subject/>
  <dc:title>Format Writing  and  Social Studies</dc:title>
</cp:coreProperties>
</file>