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8F2-7F41-4CBD-B0C1-B96C5460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887A-E7E9-4EE5-9541-61A02702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FD6-75C1-4091-91A0-BD24E756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AD29-A685-48D4-A4D9-2F1F921D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9910-B92F-43CB-8928-98C64118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9A34-655F-43E0-91D4-B0D2466B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5759-66C1-47D4-9679-B2FC305A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6338-8DEB-476F-B81F-2293B8EF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4FCC-72E0-4171-8911-C7E4637E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4D4E-3040-4DD4-B9E4-CB02A69B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611D-2C3F-49E0-B67C-11554D7E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9FA-9B32-4186-8814-36AEE4C7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3E6F-F12B-4506-A6F0-EA4CCC60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F73E-0E61-400A-856F-AF04F4C5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3CD4-4F8F-47BA-97A8-6D7EE160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B5C2-4304-4D29-9002-9EA4A2EE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B3F0-042D-4C86-BF92-0443C0D8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EC7-DCC3-4D49-8FD5-8A86F36B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578-E993-4436-891E-1536D80A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4C0-CF18-4121-A041-5C4460E2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6AC-891F-47B9-A8C4-45F8313D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713-2E8A-42B8-ADE8-EF422F5E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C4B-15C9-4903-BEF4-6311F114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FA5-3EF6-4E8C-B34E-F146FFE0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07E5-BEED-40A2-A757-C6071270838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7AF7-A388-4F7C-B400-FCE7BDFF106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Verdana"/>
              </a:rPr>
              <a:t>LA COMUNICACIÓ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es posible la no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sponsabilidad de la comunicación es siempre del em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nos comunicamo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lenguaje utiliz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forma de comunicación (tono, velocidad, timbre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comunicación no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Los componentes de la conducta verbal son todos aquellos que hacen referencia al contenido verbal del mensa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ARACTERÍSTICAS DESEABLES EN EL LENGUAJE OR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Planific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que se ajuste a un esquema pre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atural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al alcance del alu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stimulante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introduciendo de manera gradual puntos de dificul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Derech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vitando vulgarismos que desvirtúen el 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men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con ejemplos, anécdotas o experiencias que ayuden a contra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Gramaticalmente cor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arente de elementos de distracción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muletillas, tics, palabras sin sentido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nvincente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apoyado por el entusia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ntrol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mediante una evaluación constante de las reacciones de los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ARACTERÍSTICAS NO DESEABLES DEL LENGUAJE OR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Falta de precisión en l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masiado elab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fusión en el lenguaje entre formador-alu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l vocabul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ramaticalmente incor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casa incenti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mpleo excesivo de elementos de dis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co veraz, falto de e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la organización, falta de claridad en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SIGNIFICADOS DE LA 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36" name="Organization Chart 5"/>
          <p:cNvGrpSpPr/>
          <p:nvPr/>
        </p:nvGrpSpPr>
        <p:grpSpPr>
          <a:xfrm>
            <a:off x="1193760" y="2354040"/>
            <a:ext cx="6756480" cy="2946600"/>
            <a:chOff x="1193760" y="2354040"/>
            <a:chExt cx="6756480" cy="29466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>
              <a:off x="6318360" y="375048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42" idx="2"/>
            </p:cNvCxnSpPr>
            <p:nvPr/>
          </p:nvCxnSpPr>
          <p:spPr>
            <a:xfrm flipV="1">
              <a:off x="2825280" y="3750480"/>
              <a:ext cx="252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30"/>
            <p:cNvCxnSpPr>
              <a:stCxn id="139" idx="0"/>
              <a:endCxn id="144" idx="2"/>
            </p:cNvCxnSpPr>
            <p:nvPr/>
          </p:nvCxnSpPr>
          <p:spPr>
            <a:xfrm flipV="1" rot="16200000">
              <a:off x="5330160" y="2051640"/>
              <a:ext cx="229320" cy="1747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031"/>
            <p:cNvCxnSpPr>
              <a:stCxn id="142" idx="0"/>
              <a:endCxn id="144" idx="2"/>
            </p:cNvCxnSpPr>
            <p:nvPr/>
          </p:nvCxnSpPr>
          <p:spPr>
            <a:xfrm flipH="1" flipV="1" rot="5400000">
              <a:off x="3584160" y="2051640"/>
              <a:ext cx="229320" cy="1747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4" name="_s1032"/>
            <p:cNvSpPr/>
            <p:nvPr/>
          </p:nvSpPr>
          <p:spPr>
            <a:xfrm>
              <a:off x="3886200" y="235404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75e8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NSA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1628640" y="3039840"/>
              <a:ext cx="2394000" cy="711360"/>
            </a:xfrm>
            <a:prstGeom prst="roundRect">
              <a:avLst>
                <a:gd name="adj" fmla="val 16667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TID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VEN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5121360" y="3039840"/>
              <a:ext cx="2394000" cy="711360"/>
            </a:xfrm>
            <a:prstGeom prst="roundRect">
              <a:avLst>
                <a:gd name="adj" fmla="val 16667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TIDO EMO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 VIVEN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1193760" y="3979800"/>
              <a:ext cx="3263760" cy="13208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 el sentido concr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ribuido por un gru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cial a una determin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lab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4686120" y="3979800"/>
              <a:ext cx="3264120" cy="13208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s lo que la palabra sugie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 cada persona o lo qu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uede evocar en un 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termin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tido convenciona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utiliza para mensajes instructivos o expositivos (la capital de Galicia es Santi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tido emotiv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utiliza en aquellas situaciones en que queremos influir en alguna actitud (“carroza” puede ser coche grande, persona mayor,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NO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varias fun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Diagram 5"/>
          <p:cNvGrpSpPr/>
          <p:nvPr/>
        </p:nvGrpSpPr>
        <p:grpSpPr>
          <a:xfrm>
            <a:off x="4648320" y="1993320"/>
            <a:ext cx="4038480" cy="3497760"/>
            <a:chOff x="4648320" y="1993320"/>
            <a:chExt cx="4038480" cy="3497760"/>
          </a:xfrm>
        </p:grpSpPr>
        <p:sp>
          <p:nvSpPr>
            <p:cNvPr id="151" name="_s2052"/>
            <p:cNvSpPr/>
            <p:nvPr/>
          </p:nvSpPr>
          <p:spPr>
            <a:xfrm flipV="1">
              <a:off x="6264360" y="1992960"/>
              <a:ext cx="806400" cy="700200"/>
            </a:xfrm>
            <a:custGeom>
              <a:avLst/>
              <a:gdLst>
                <a:gd name="textAreaLeft" fmla="*/ 289440 w 806400"/>
                <a:gd name="textAreaRight" fmla="*/ 516960 w 806400"/>
                <a:gd name="textAreaTop" fmla="*/ 251280 h 700200"/>
                <a:gd name="textAreaBottom" fmla="*/ 44892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ustituy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 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alab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53"/>
            <p:cNvSpPr/>
            <p:nvPr/>
          </p:nvSpPr>
          <p:spPr>
            <a:xfrm flipV="1">
              <a:off x="5859360" y="2693880"/>
              <a:ext cx="1616400" cy="698400"/>
            </a:xfrm>
            <a:custGeom>
              <a:avLst/>
              <a:gdLst>
                <a:gd name="textAreaLeft" fmla="*/ 355320 w 1616400"/>
                <a:gd name="textAreaRight" fmla="*/ 1261080 w 1616400"/>
                <a:gd name="textAreaTop" fmla="*/ 153360 h 698400"/>
                <a:gd name="textAreaBottom" fmla="*/ 54504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dica l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ntimi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54"/>
            <p:cNvSpPr/>
            <p:nvPr/>
          </p:nvSpPr>
          <p:spPr>
            <a:xfrm flipV="1">
              <a:off x="5456160" y="3391560"/>
              <a:ext cx="2422800" cy="700200"/>
            </a:xfrm>
            <a:custGeom>
              <a:avLst/>
              <a:gdLst>
                <a:gd name="textAreaLeft" fmla="*/ 420480 w 2422800"/>
                <a:gd name="textAreaRight" fmla="*/ 2002320 w 2422800"/>
                <a:gd name="textAreaTop" fmla="*/ 121320 h 700200"/>
                <a:gd name="textAreaBottom" fmla="*/ 57888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egula 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a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055"/>
            <p:cNvSpPr/>
            <p:nvPr/>
          </p:nvSpPr>
          <p:spPr>
            <a:xfrm flipV="1">
              <a:off x="5051520" y="4091760"/>
              <a:ext cx="3232080" cy="700200"/>
            </a:xfrm>
            <a:custGeom>
              <a:avLst/>
              <a:gdLst>
                <a:gd name="textAreaLeft" fmla="*/ 486360 w 3232080"/>
                <a:gd name="textAreaRight" fmla="*/ 2745720 w 3232080"/>
                <a:gd name="textAreaTop" fmla="*/ 105120 h 700200"/>
                <a:gd name="textAreaBottom" fmla="*/ 59508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nfatiza el comport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erb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2056"/>
            <p:cNvSpPr/>
            <p:nvPr/>
          </p:nvSpPr>
          <p:spPr>
            <a:xfrm flipV="1">
              <a:off x="4648320" y="4792680"/>
              <a:ext cx="4038480" cy="698400"/>
            </a:xfrm>
            <a:custGeom>
              <a:avLst/>
              <a:gdLst>
                <a:gd name="textAreaLeft" fmla="*/ 551520 w 4038480"/>
                <a:gd name="textAreaRight" fmla="*/ 3486960 w 4038480"/>
                <a:gd name="textAreaTop" fmla="*/ 95400 h 698400"/>
                <a:gd name="textAreaBottom" fmla="*/ 60300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rienta la forma en qu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 interpretará el comport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erb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DIMENSIONES O ELEMENTOSDEL COMPORTAMIENTO NO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resión fa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i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ostura corp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Gestos con las 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ntacto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is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parienci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ementos lingüís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La escucha ac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UP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ar atentos a lo que nos dicen y cómo nos lo dic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mostrar al alumno que lo escuchamos, hacerle sentir que lo escucha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RVE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tectar sus neces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render sus pet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frecerle soluciones que se adapten a sus neces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Ventajas de la escucha ac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muestra que consideramos al alumno como persona significativa y digna de resp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imula al alumno a dar más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 escuchamos, probablemente seremos escuch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mite llegar al fondo de los probl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laja y neutraliza conflictos y host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acilita feedback al emisor mejorando la comun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Objetiv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bajar los distintos elementos que intervienen en el proceso comunic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ocer las barreras que pueden dificultar la comun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ocer las características de la comunicación verbal y no verbal y su influencia en el proceso de enseñanza-aprendiz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render a utilizar la escucha activa como elemento fundamental de una buena comunicación en el a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quema de la comunic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"/>
          <p:cNvSpPr/>
          <p:nvPr/>
        </p:nvSpPr>
        <p:spPr>
          <a:xfrm>
            <a:off x="3419640" y="3213000"/>
            <a:ext cx="194436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55640" y="3573360"/>
            <a:ext cx="1584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300720" y="3573360"/>
            <a:ext cx="1727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987640" y="249228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32000" y="5084640"/>
            <a:ext cx="2808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147636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1476360" y="2708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5724360" y="27082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709308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70930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5940360" y="5300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1403280" y="537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 flipV="1">
            <a:off x="1403280" y="4076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5940360" y="2421000"/>
            <a:ext cx="136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763640" y="4437000"/>
            <a:ext cx="144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ód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6084720" y="5589720"/>
            <a:ext cx="19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0"/>
          <p:cNvSpPr/>
          <p:nvPr/>
        </p:nvSpPr>
        <p:spPr>
          <a:xfrm>
            <a:off x="1692360" y="2924280"/>
            <a:ext cx="1646280" cy="30456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037" h="192">
                <a:moveTo>
                  <a:pt x="0" y="19"/>
                </a:moveTo>
                <a:cubicBezTo>
                  <a:pt x="44" y="34"/>
                  <a:pt x="58" y="48"/>
                  <a:pt x="86" y="86"/>
                </a:cubicBezTo>
                <a:cubicBezTo>
                  <a:pt x="111" y="62"/>
                  <a:pt x="134" y="54"/>
                  <a:pt x="163" y="38"/>
                </a:cubicBezTo>
                <a:cubicBezTo>
                  <a:pt x="183" y="27"/>
                  <a:pt x="221" y="0"/>
                  <a:pt x="221" y="0"/>
                </a:cubicBezTo>
                <a:cubicBezTo>
                  <a:pt x="279" y="18"/>
                  <a:pt x="304" y="83"/>
                  <a:pt x="346" y="125"/>
                </a:cubicBezTo>
                <a:cubicBezTo>
                  <a:pt x="352" y="118"/>
                  <a:pt x="361" y="113"/>
                  <a:pt x="365" y="105"/>
                </a:cubicBezTo>
                <a:cubicBezTo>
                  <a:pt x="374" y="87"/>
                  <a:pt x="384" y="48"/>
                  <a:pt x="384" y="48"/>
                </a:cubicBezTo>
                <a:cubicBezTo>
                  <a:pt x="407" y="118"/>
                  <a:pt x="398" y="86"/>
                  <a:pt x="413" y="144"/>
                </a:cubicBezTo>
                <a:cubicBezTo>
                  <a:pt x="439" y="105"/>
                  <a:pt x="452" y="111"/>
                  <a:pt x="490" y="86"/>
                </a:cubicBezTo>
                <a:cubicBezTo>
                  <a:pt x="513" y="133"/>
                  <a:pt x="532" y="163"/>
                  <a:pt x="576" y="192"/>
                </a:cubicBezTo>
                <a:cubicBezTo>
                  <a:pt x="586" y="182"/>
                  <a:pt x="594" y="171"/>
                  <a:pt x="605" y="163"/>
                </a:cubicBezTo>
                <a:cubicBezTo>
                  <a:pt x="623" y="149"/>
                  <a:pt x="662" y="125"/>
                  <a:pt x="662" y="125"/>
                </a:cubicBezTo>
                <a:cubicBezTo>
                  <a:pt x="686" y="54"/>
                  <a:pt x="656" y="124"/>
                  <a:pt x="682" y="134"/>
                </a:cubicBezTo>
                <a:cubicBezTo>
                  <a:pt x="700" y="141"/>
                  <a:pt x="741" y="94"/>
                  <a:pt x="749" y="86"/>
                </a:cubicBezTo>
                <a:cubicBezTo>
                  <a:pt x="759" y="92"/>
                  <a:pt x="770" y="96"/>
                  <a:pt x="778" y="105"/>
                </a:cubicBezTo>
                <a:cubicBezTo>
                  <a:pt x="793" y="122"/>
                  <a:pt x="816" y="163"/>
                  <a:pt x="816" y="163"/>
                </a:cubicBezTo>
                <a:cubicBezTo>
                  <a:pt x="881" y="98"/>
                  <a:pt x="855" y="85"/>
                  <a:pt x="893" y="125"/>
                </a:cubicBezTo>
                <a:cubicBezTo>
                  <a:pt x="896" y="135"/>
                  <a:pt x="908" y="180"/>
                  <a:pt x="922" y="182"/>
                </a:cubicBezTo>
                <a:cubicBezTo>
                  <a:pt x="942" y="185"/>
                  <a:pt x="979" y="163"/>
                  <a:pt x="979" y="163"/>
                </a:cubicBezTo>
                <a:cubicBezTo>
                  <a:pt x="989" y="153"/>
                  <a:pt x="997" y="141"/>
                  <a:pt x="1008" y="134"/>
                </a:cubicBezTo>
                <a:cubicBezTo>
                  <a:pt x="1016" y="128"/>
                  <a:pt x="1037" y="125"/>
                  <a:pt x="1037" y="1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1908000" y="3141720"/>
            <a:ext cx="1656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idos y barr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ndiciones idóneas de los mensaj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lar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rev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sist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lustr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ción compl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ción de retor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Para qué nos sirve el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rregir err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forzar conductas posi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imular el desarrollo de hábitos posi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dar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pondiendo de forma especí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firiéndonos a hech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clarando puntos de vis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freciendo conductas alternativas posi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rando y hablando directamente al interlocu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recibir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cuchando y tomando no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idiendo más información cuando la necesite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entando obtener información concr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vitando justificarnos o defender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o interrumpie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umiendo la información para asegurarnos de la compren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Fines de la comunicación en el au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ORM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MENT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ERSUAD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067280" y="4149720"/>
            <a:ext cx="453708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tegoría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 de 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 de presentar el men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 del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ones entre receptor y e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332000" y="486900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971640" y="378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313200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971640" y="501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Barreras de la comunic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Estereotip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iltraciones durante la transmisión por causas materi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Actitudes defensiv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Mensaje incomple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alta o deficiencia de feedbac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alta o deficiencia de empat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Defensas psicológica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: negar la veracidad, restar importancia al asunto, evitando cualquier información que provoque un sentimiento negati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Proyec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Tendencia a evalu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8:22:03Z</dcterms:created>
  <dc:creator>ELVA</dc:creator>
  <dc:description/>
  <dc:language>en-US</dc:language>
  <cp:lastModifiedBy>alumno</cp:lastModifiedBy>
  <dcterms:modified xsi:type="dcterms:W3CDTF">2011-05-26T17:33:16Z</dcterms:modified>
  <cp:revision>10</cp:revision>
  <dc:subject/>
  <dc:title>LA COMUNICACIÓN VERBAL</dc:title>
</cp:coreProperties>
</file>