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0F3-E21F-4D55-A5E9-7A328CCC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9A9-B4A2-44A4-B37A-DDA5019A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8E3-38E5-4D29-A184-D145A790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C52-1116-4599-BB4D-F1F2C177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1FA9-7DA5-456A-AB3B-572B06E6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F737-6996-41D3-8308-E9F29573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C461-C681-4436-96A6-3D006853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B6B8-24C2-49DA-87BD-18513B7F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F08C-299E-457F-8DA7-84836820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1661-2631-4E05-809B-EAE80BA5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F4D3-3D58-4EDC-BCF3-DB41C55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53B-23AF-4D7E-A6C1-F424B574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5285-457A-46E3-8EF2-10C4A338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CB2D-000B-4BF3-B54D-60704A1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840E-4D78-4867-ADAD-012831F0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E6DD-E485-4DD9-9716-5EA1B62E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80D9-C07A-42AE-9D7F-3654CC53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792-88B5-4172-B00B-88551AE9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C57-D175-4E41-8966-35B71B1A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646-DBBA-41CB-8B13-C4EAF399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EFF-22CE-48DE-B9D2-CE4773E0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575-DA9F-4612-A5B8-1D0E6802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525-2E97-4800-B111-FCFB16EF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280-1DE2-4DB7-B6E8-7DC6848C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028-C0E0-43C9-BA60-CCE84D242F7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280E-9DAF-4B3D-B3AA-2A9A5A17C13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Verdana"/>
              </a:rPr>
              <a:t>LA COMUNICACIÓ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s posible la no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ponsabilidad de la comunicación es siempre del em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nos comunicamo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lenguaje utiliz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forma de comunicación (tono, velocidad, timbr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municación no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Los componentes de la conducta verbal son todos aquellos que hacen referencia al contenido verbal del mens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DESEABLES EN 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lanific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que se ajuste a un esquema pre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atural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l alcance del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timula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introduciendo de manera gradual puntos de difi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rech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vitando vulgarismos que desvirtúen el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men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con ejemplos, anécdotas o experiencias que ayuden a contra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Gramaticalmente 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arente de elementos de distracción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uletillas, tics, palabras sin sentido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vince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poyado por el entusia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tro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ediante una evaluación constante de las reaccione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NO DESEABLES D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Falta de precisión en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masiado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usión en el lenguaje entre formador-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 vocabul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ramaticalmente in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asa incenti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mpleo excesivo de elementos de dis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co veraz, falto de e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a organización, falta de claridad e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SIGNIFICADOS DE LA 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6" name="Organization Chart 5"/>
          <p:cNvGrpSpPr/>
          <p:nvPr/>
        </p:nvGrpSpPr>
        <p:grpSpPr>
          <a:xfrm>
            <a:off x="1193760" y="2354040"/>
            <a:ext cx="6756480" cy="2946600"/>
            <a:chOff x="1193760" y="2354040"/>
            <a:chExt cx="6756480" cy="29466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>
              <a:off x="6318360" y="375048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42" idx="2"/>
            </p:cNvCxnSpPr>
            <p:nvPr/>
          </p:nvCxnSpPr>
          <p:spPr>
            <a:xfrm flipV="1">
              <a:off x="2825280" y="3750480"/>
              <a:ext cx="252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39" idx="0"/>
              <a:endCxn id="144" idx="2"/>
            </p:cNvCxnSpPr>
            <p:nvPr/>
          </p:nvCxnSpPr>
          <p:spPr>
            <a:xfrm flipV="1" rot="16200000">
              <a:off x="5330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1"/>
            <p:cNvCxnSpPr>
              <a:stCxn id="142" idx="0"/>
              <a:endCxn id="144" idx="2"/>
            </p:cNvCxnSpPr>
            <p:nvPr/>
          </p:nvCxnSpPr>
          <p:spPr>
            <a:xfrm flipH="1" flipV="1" rot="5400000">
              <a:off x="3584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1032"/>
            <p:cNvSpPr/>
            <p:nvPr/>
          </p:nvSpPr>
          <p:spPr>
            <a:xfrm>
              <a:off x="3886200" y="23540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75e8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S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162864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N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512136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EMO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 VIV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193760" y="3979800"/>
              <a:ext cx="326376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 el sentido concr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ribuido por un gru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ial a una determ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la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686120" y="3979800"/>
              <a:ext cx="326412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s lo que la palabra sugie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 cada persona o lo q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uede evocar en un 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termin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convencion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para mensajes instructivos o expositivos (la capital de Galicia es Santi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emotiv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en aquellas situaciones en que queremos influir en alguna actitud (“carroza” puede ser coche grande, persona mayor,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varias 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Diagram 5"/>
          <p:cNvGrpSpPr/>
          <p:nvPr/>
        </p:nvGrpSpPr>
        <p:grpSpPr>
          <a:xfrm>
            <a:off x="4648320" y="1993320"/>
            <a:ext cx="4038480" cy="3497760"/>
            <a:chOff x="4648320" y="1993320"/>
            <a:chExt cx="4038480" cy="3497760"/>
          </a:xfrm>
        </p:grpSpPr>
        <p:sp>
          <p:nvSpPr>
            <p:cNvPr id="151" name="_s2052"/>
            <p:cNvSpPr/>
            <p:nvPr/>
          </p:nvSpPr>
          <p:spPr>
            <a:xfrm flipV="1">
              <a:off x="6264360" y="1992960"/>
              <a:ext cx="806400" cy="700200"/>
            </a:xfrm>
            <a:custGeom>
              <a:avLst/>
              <a:gdLst>
                <a:gd name="textAreaLeft" fmla="*/ 289440 w 806400"/>
                <a:gd name="textAreaRight" fmla="*/ 516960 w 806400"/>
                <a:gd name="textAreaTop" fmla="*/ 251280 h 700200"/>
                <a:gd name="textAreaBottom" fmla="*/ 44892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ustituy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alab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3"/>
            <p:cNvSpPr/>
            <p:nvPr/>
          </p:nvSpPr>
          <p:spPr>
            <a:xfrm flipV="1">
              <a:off x="5859360" y="2693880"/>
              <a:ext cx="1616400" cy="698400"/>
            </a:xfrm>
            <a:custGeom>
              <a:avLst/>
              <a:gdLst>
                <a:gd name="textAreaLeft" fmla="*/ 355320 w 1616400"/>
                <a:gd name="textAreaRight" fmla="*/ 1261080 w 161640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dica l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nt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4"/>
            <p:cNvSpPr/>
            <p:nvPr/>
          </p:nvSpPr>
          <p:spPr>
            <a:xfrm flipV="1">
              <a:off x="5456160" y="3391560"/>
              <a:ext cx="2422800" cy="700200"/>
            </a:xfrm>
            <a:custGeom>
              <a:avLst/>
              <a:gdLst>
                <a:gd name="textAreaLeft" fmla="*/ 420480 w 2422800"/>
                <a:gd name="textAreaRight" fmla="*/ 2002320 w 2422800"/>
                <a:gd name="textAreaTop" fmla="*/ 121320 h 700200"/>
                <a:gd name="textAreaBottom" fmla="*/ 5788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gula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5"/>
            <p:cNvSpPr/>
            <p:nvPr/>
          </p:nvSpPr>
          <p:spPr>
            <a:xfrm flipV="1">
              <a:off x="5051520" y="4091760"/>
              <a:ext cx="3232080" cy="700200"/>
            </a:xfrm>
            <a:custGeom>
              <a:avLst/>
              <a:gdLst>
                <a:gd name="textAreaLeft" fmla="*/ 486360 w 3232080"/>
                <a:gd name="textAreaRight" fmla="*/ 2745720 w 3232080"/>
                <a:gd name="textAreaTop" fmla="*/ 105120 h 700200"/>
                <a:gd name="textAreaBottom" fmla="*/ 5950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fatiza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56"/>
            <p:cNvSpPr/>
            <p:nvPr/>
          </p:nvSpPr>
          <p:spPr>
            <a:xfrm flipV="1">
              <a:off x="4648320" y="4792680"/>
              <a:ext cx="4038480" cy="698400"/>
            </a:xfrm>
            <a:custGeom>
              <a:avLst/>
              <a:gdLst>
                <a:gd name="textAreaLeft" fmla="*/ 551520 w 4038480"/>
                <a:gd name="textAreaRight" fmla="*/ 3486960 w 4038480"/>
                <a:gd name="textAreaTop" fmla="*/ 95400 h 698400"/>
                <a:gd name="textAreaBottom" fmla="*/ 60300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rienta la forma en qu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 interpretará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DIMENSIONES O ELEMENTOSDEL COMPORTAMIENTO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f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i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ostura cor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estos con las 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ac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parienci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lingüís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P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ar atentos a lo que nos dicen y cómo nos lo dic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ostrar al alumno que lo escuchamos, hacerle sentir que lo escuch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RV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tectar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ender sus pet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frecerle soluciones que se adapten a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Ventajas de 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uestra que consideramos al alumno como persona significativa y digna de resp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imula al alumno a dar más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 escuchamos, probablemente seremos escuch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 llegar al fondo de los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laja y neutraliza conflictos y host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ta feedback al emisor mejorando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ar los distintos elementos que intervienen en el proceso comunic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barreras que pueden dificultar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características de la comunicación verbal y no verbal y su influencia en el proceso de enseñanza-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der a utilizar la escucha activa como elemento fundamental de una buena comunicación en el a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quema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3419640" y="3213000"/>
            <a:ext cx="1944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5640" y="3573360"/>
            <a:ext cx="1584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300720" y="3573360"/>
            <a:ext cx="1727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987640" y="249228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32000" y="5084640"/>
            <a:ext cx="2808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476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1476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24360" y="2708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09308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70930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5940360" y="530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140328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1403280" y="4076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940360" y="242100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763640" y="443700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084720" y="558972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1692360" y="2924280"/>
            <a:ext cx="1646280" cy="3045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037" h="192">
                <a:moveTo>
                  <a:pt x="0" y="19"/>
                </a:moveTo>
                <a:cubicBezTo>
                  <a:pt x="44" y="34"/>
                  <a:pt x="58" y="48"/>
                  <a:pt x="86" y="86"/>
                </a:cubicBezTo>
                <a:cubicBezTo>
                  <a:pt x="111" y="62"/>
                  <a:pt x="134" y="54"/>
                  <a:pt x="163" y="38"/>
                </a:cubicBezTo>
                <a:cubicBezTo>
                  <a:pt x="183" y="27"/>
                  <a:pt x="221" y="0"/>
                  <a:pt x="221" y="0"/>
                </a:cubicBezTo>
                <a:cubicBezTo>
                  <a:pt x="279" y="18"/>
                  <a:pt x="304" y="83"/>
                  <a:pt x="346" y="125"/>
                </a:cubicBezTo>
                <a:cubicBezTo>
                  <a:pt x="352" y="118"/>
                  <a:pt x="361" y="113"/>
                  <a:pt x="365" y="105"/>
                </a:cubicBezTo>
                <a:cubicBezTo>
                  <a:pt x="374" y="87"/>
                  <a:pt x="384" y="48"/>
                  <a:pt x="384" y="48"/>
                </a:cubicBezTo>
                <a:cubicBezTo>
                  <a:pt x="407" y="118"/>
                  <a:pt x="398" y="86"/>
                  <a:pt x="413" y="144"/>
                </a:cubicBezTo>
                <a:cubicBezTo>
                  <a:pt x="439" y="105"/>
                  <a:pt x="452" y="111"/>
                  <a:pt x="490" y="86"/>
                </a:cubicBezTo>
                <a:cubicBezTo>
                  <a:pt x="513" y="133"/>
                  <a:pt x="532" y="163"/>
                  <a:pt x="576" y="192"/>
                </a:cubicBezTo>
                <a:cubicBezTo>
                  <a:pt x="586" y="182"/>
                  <a:pt x="594" y="171"/>
                  <a:pt x="605" y="163"/>
                </a:cubicBezTo>
                <a:cubicBezTo>
                  <a:pt x="623" y="149"/>
                  <a:pt x="662" y="125"/>
                  <a:pt x="662" y="125"/>
                </a:cubicBezTo>
                <a:cubicBezTo>
                  <a:pt x="686" y="54"/>
                  <a:pt x="656" y="124"/>
                  <a:pt x="682" y="134"/>
                </a:cubicBezTo>
                <a:cubicBezTo>
                  <a:pt x="700" y="141"/>
                  <a:pt x="741" y="94"/>
                  <a:pt x="749" y="86"/>
                </a:cubicBezTo>
                <a:cubicBezTo>
                  <a:pt x="759" y="92"/>
                  <a:pt x="770" y="96"/>
                  <a:pt x="778" y="105"/>
                </a:cubicBezTo>
                <a:cubicBezTo>
                  <a:pt x="793" y="122"/>
                  <a:pt x="816" y="163"/>
                  <a:pt x="816" y="163"/>
                </a:cubicBezTo>
                <a:cubicBezTo>
                  <a:pt x="881" y="98"/>
                  <a:pt x="855" y="85"/>
                  <a:pt x="893" y="125"/>
                </a:cubicBezTo>
                <a:cubicBezTo>
                  <a:pt x="896" y="135"/>
                  <a:pt x="908" y="180"/>
                  <a:pt x="922" y="182"/>
                </a:cubicBezTo>
                <a:cubicBezTo>
                  <a:pt x="942" y="185"/>
                  <a:pt x="979" y="163"/>
                  <a:pt x="979" y="163"/>
                </a:cubicBezTo>
                <a:cubicBezTo>
                  <a:pt x="989" y="153"/>
                  <a:pt x="997" y="141"/>
                  <a:pt x="1008" y="134"/>
                </a:cubicBezTo>
                <a:cubicBezTo>
                  <a:pt x="1016" y="128"/>
                  <a:pt x="1037" y="125"/>
                  <a:pt x="1037" y="1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1908000" y="3141720"/>
            <a:ext cx="165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idos y b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ndiciones idóneas de los mensa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lar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ev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sis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compl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de retor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Para qué nos sirve el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rregir err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orzar conduct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imular el desarrollo de hábitos pos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da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pondiendo de forma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iriéndonos a hec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larando puntos de vi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freciendo conductas alternativ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rando y hablando directamente al interlocu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recibi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cuchando y tomando no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idiendo más información cuando la necesite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ntando obtener información concr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vitando justificarnos o defender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interrumpie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miendo la información para asegurarnos de la compren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Fines de la comunicación en el a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MENT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067280" y="4149720"/>
            <a:ext cx="45370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tegor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 de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de presentar el 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d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ntre receptor y 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332000" y="4869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97164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313200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971640" y="501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Barreras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stereotip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iltraciones durante la transmisión por causas mater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ctitudes defensiv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Mensaje incomple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empat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efensas psicológic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negar la veracidad, restar importancia al asunto, evitando cualquier información que provoque un sentimiento nega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ye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Tendencia a evalu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8:22:03Z</dcterms:created>
  <dc:creator>ELVA</dc:creator>
  <dc:description/>
  <dc:language>en-US</dc:language>
  <cp:lastModifiedBy>alumno</cp:lastModifiedBy>
  <dcterms:modified xsi:type="dcterms:W3CDTF">2011-05-26T17:33:16Z</dcterms:modified>
  <cp:revision>10</cp:revision>
  <dc:subject/>
  <dc:title>LA COMUNICACIÓN VERBAL</dc:title>
</cp:coreProperties>
</file>