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47B-BD28-48FA-910C-9AF548AB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89B-861A-481C-9809-01E8779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4C6-C384-47AD-A29A-EB9633E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01D-654F-40D1-AA00-E62694B4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EB56-E2A4-4BDD-A71E-45E26DD7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218C-A983-4E63-A177-5D1F670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CDDA-1FF9-460D-9B31-EBFF788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404-05B1-4E71-BA14-9655D26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9D1-2879-486C-92A0-F72527C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4883-6556-4AFA-A6CC-2E91B4A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424-FBE8-4C03-B831-70619657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C1C-F1B2-49F0-B622-A47D11A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C6B6-CF0E-40C3-84BA-8B308CD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BE94-526A-42DC-97EC-D298C04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BE7-8A6F-4CB9-AE36-708C696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7B36-17D6-4D06-8666-403D2E4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644-7C86-4EB3-816B-E429B46C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8C6-FE94-49E6-A629-34499F4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118-DD42-456E-85FD-926ABC4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EA2-D20D-420D-9724-50C0BC8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E70-62C1-4407-B55A-D179CCC2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3EF-0962-4794-8A50-96DCE2F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520-D626-4624-A9DD-51D539C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A57-F87E-4326-A88A-092D022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77EC-A718-4264-B534-31E5BD41A15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336-66EA-49D4-B65A-455122282BD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Verdana"/>
              </a:rPr>
              <a:t>LA COMUNIC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es posible la no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responsabilidad de la comunicación es siempre del em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nos comunicam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enguaje util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forma de comunicación (tono, velocidad, timbr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municación 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Los componentes de la conducta verbal son todos aquellos que hacen referencia al contenido verbal del mens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DESEABLES EN 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lanific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que se ajuste a un esquema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l alcance del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imula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introduciendo de manera gradual puntos de difi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vitando vulgarismos que desvirtúen el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men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con ejemplos, anécdotas o experiencias que ayuden a contra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ramaticalmente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rente de elementos de distracción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uletillas, tics, palabras sin sentid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vincente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poyado por el entusi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tro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mediante una evaluación constante de las reaccion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ARACTERÍSTICAS NO DESEABLES DEL LENGUAJE OR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alta de precisión en l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masiado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usión en el lenguaje entre formador-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 vocabu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ramaticalmente in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asa incenti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mpleo excesivo de elementos de dis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co veraz, falto de e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la organización, falta de claridad en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SIGNIFICADOS DE LA 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6" name="Organization Chart 5"/>
          <p:cNvGrpSpPr/>
          <p:nvPr/>
        </p:nvGrpSpPr>
        <p:grpSpPr>
          <a:xfrm>
            <a:off x="1193760" y="2354040"/>
            <a:ext cx="6756480" cy="2946600"/>
            <a:chOff x="1193760" y="2354040"/>
            <a:chExt cx="6756480" cy="29466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>
              <a:off x="6318360" y="375048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42" idx="2"/>
            </p:cNvCxnSpPr>
            <p:nvPr/>
          </p:nvCxnSpPr>
          <p:spPr>
            <a:xfrm flipV="1">
              <a:off x="2825280" y="3750480"/>
              <a:ext cx="252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39" idx="0"/>
              <a:endCxn id="144" idx="2"/>
            </p:cNvCxnSpPr>
            <p:nvPr/>
          </p:nvCxnSpPr>
          <p:spPr>
            <a:xfrm flipV="1" rot="16200000">
              <a:off x="5330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1"/>
            <p:cNvCxnSpPr>
              <a:stCxn id="142" idx="0"/>
              <a:endCxn id="144" idx="2"/>
            </p:cNvCxnSpPr>
            <p:nvPr/>
          </p:nvCxnSpPr>
          <p:spPr>
            <a:xfrm flipH="1" flipV="1" rot="5400000">
              <a:off x="3584160" y="2051640"/>
              <a:ext cx="229320" cy="1747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1032"/>
            <p:cNvSpPr/>
            <p:nvPr/>
          </p:nvSpPr>
          <p:spPr>
            <a:xfrm>
              <a:off x="3886200" y="235404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75e8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S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162864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5121360" y="3039840"/>
              <a:ext cx="2394000" cy="71136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IDO EMO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 VIV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193760" y="3979800"/>
              <a:ext cx="326376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 el sentido concr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ribuido por un gru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ial a una determ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686120" y="3979800"/>
              <a:ext cx="3264120" cy="13208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s lo que la palabra sugie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 cada persona o lo qu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uede evocar en un 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termi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convencion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para mensajes instructivos o expositivos (la capital de Galicia es Santi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tido emotiv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utiliza en aquellas situaciones en que queremos influir en alguna actitud (“carroza” puede ser coche grande, persona mayor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COMUNICACIÓN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varias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Diagram 5"/>
          <p:cNvGrpSpPr/>
          <p:nvPr/>
        </p:nvGrpSpPr>
        <p:grpSpPr>
          <a:xfrm>
            <a:off x="4648320" y="1993320"/>
            <a:ext cx="4038480" cy="3497760"/>
            <a:chOff x="4648320" y="1993320"/>
            <a:chExt cx="4038480" cy="3497760"/>
          </a:xfrm>
        </p:grpSpPr>
        <p:sp>
          <p:nvSpPr>
            <p:cNvPr id="151" name="_s2052"/>
            <p:cNvSpPr/>
            <p:nvPr/>
          </p:nvSpPr>
          <p:spPr>
            <a:xfrm flipV="1">
              <a:off x="6264360" y="1992960"/>
              <a:ext cx="806400" cy="700200"/>
            </a:xfrm>
            <a:custGeom>
              <a:avLst/>
              <a:gdLst>
                <a:gd name="textAreaLeft" fmla="*/ 289440 w 806400"/>
                <a:gd name="textAreaRight" fmla="*/ 516960 w 806400"/>
                <a:gd name="textAreaTop" fmla="*/ 251280 h 700200"/>
                <a:gd name="textAreaBottom" fmla="*/ 44892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ustituy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lab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3"/>
            <p:cNvSpPr/>
            <p:nvPr/>
          </p:nvSpPr>
          <p:spPr>
            <a:xfrm flipV="1">
              <a:off x="5859360" y="2693880"/>
              <a:ext cx="1616400" cy="698400"/>
            </a:xfrm>
            <a:custGeom>
              <a:avLst/>
              <a:gdLst>
                <a:gd name="textAreaLeft" fmla="*/ 355320 w 1616400"/>
                <a:gd name="textAreaRight" fmla="*/ 1261080 w 161640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dica 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nt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54"/>
            <p:cNvSpPr/>
            <p:nvPr/>
          </p:nvSpPr>
          <p:spPr>
            <a:xfrm flipV="1">
              <a:off x="5456160" y="3391560"/>
              <a:ext cx="2422800" cy="700200"/>
            </a:xfrm>
            <a:custGeom>
              <a:avLst/>
              <a:gdLst>
                <a:gd name="textAreaLeft" fmla="*/ 420480 w 2422800"/>
                <a:gd name="textAreaRight" fmla="*/ 2002320 w 242280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gula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55"/>
            <p:cNvSpPr/>
            <p:nvPr/>
          </p:nvSpPr>
          <p:spPr>
            <a:xfrm flipV="1">
              <a:off x="5051520" y="4091760"/>
              <a:ext cx="3232080" cy="700200"/>
            </a:xfrm>
            <a:custGeom>
              <a:avLst/>
              <a:gdLst>
                <a:gd name="textAreaLeft" fmla="*/ 486360 w 3232080"/>
                <a:gd name="textAreaRight" fmla="*/ 2745720 w 3232080"/>
                <a:gd name="textAreaTop" fmla="*/ 105120 h 700200"/>
                <a:gd name="textAreaBottom" fmla="*/ 5950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fatiza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056"/>
            <p:cNvSpPr/>
            <p:nvPr/>
          </p:nvSpPr>
          <p:spPr>
            <a:xfrm flipV="1">
              <a:off x="4648320" y="4792680"/>
              <a:ext cx="4038480" cy="698400"/>
            </a:xfrm>
            <a:custGeom>
              <a:avLst/>
              <a:gdLst>
                <a:gd name="textAreaLeft" fmla="*/ 551520 w 4038480"/>
                <a:gd name="textAreaRight" fmla="*/ 3486960 w 4038480"/>
                <a:gd name="textAreaTop" fmla="*/ 95400 h 698400"/>
                <a:gd name="textAreaBottom" fmla="*/ 60300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rienta la forma en qu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 interpretará el comport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erb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33"/>
                </a:solidFill>
                <a:latin typeface="Verdana"/>
              </a:rPr>
              <a:t>DIMENSIONES O ELEMENTOSDEL COMPORTAMIENTO NO VERB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f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ura cor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estos con las 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a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lingüí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P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ar atentos a lo que nos dicen y cómo nos lo dic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ostrar al alumno que lo escuchamos, hacerle sentir que lo escuch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RV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tectar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ender sus pet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frecerle soluciones que se adapten a sus neces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entajas de la escucha a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muestra que consideramos al alumno como persona significativa y digna de resp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imula al alumno a dar más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i escuchamos, probablemente seremos escuch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 llegar al fondo de los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ja y neutraliza conflictos y host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ta feedback al emisor mejorando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bajar los distintos elementos que intervienen en el proceso comuni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barreras que pueden dificultar la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er las características de la comunicación verbal y no verbal y su influencia en el proceso de enseñanza-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ender a utilizar la escucha activa como elemento fundamental de una buena comunicación en el a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squema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3419640" y="3213000"/>
            <a:ext cx="1944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5640" y="357336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300720" y="3573360"/>
            <a:ext cx="172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87640" y="249228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32000" y="5084640"/>
            <a:ext cx="2808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476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1476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24360" y="27082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709308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0930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5940360" y="5300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403280" y="537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403280" y="4076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940360" y="2421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63640" y="4437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84720" y="55897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1692360" y="2924280"/>
            <a:ext cx="1646280" cy="3045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037" h="192">
                <a:moveTo>
                  <a:pt x="0" y="19"/>
                </a:moveTo>
                <a:cubicBezTo>
                  <a:pt x="44" y="34"/>
                  <a:pt x="58" y="48"/>
                  <a:pt x="86" y="86"/>
                </a:cubicBezTo>
                <a:cubicBezTo>
                  <a:pt x="111" y="62"/>
                  <a:pt x="134" y="54"/>
                  <a:pt x="163" y="38"/>
                </a:cubicBezTo>
                <a:cubicBezTo>
                  <a:pt x="183" y="27"/>
                  <a:pt x="221" y="0"/>
                  <a:pt x="221" y="0"/>
                </a:cubicBezTo>
                <a:cubicBezTo>
                  <a:pt x="279" y="18"/>
                  <a:pt x="304" y="83"/>
                  <a:pt x="346" y="125"/>
                </a:cubicBezTo>
                <a:cubicBezTo>
                  <a:pt x="352" y="118"/>
                  <a:pt x="361" y="113"/>
                  <a:pt x="365" y="105"/>
                </a:cubicBezTo>
                <a:cubicBezTo>
                  <a:pt x="374" y="87"/>
                  <a:pt x="384" y="48"/>
                  <a:pt x="384" y="48"/>
                </a:cubicBezTo>
                <a:cubicBezTo>
                  <a:pt x="407" y="118"/>
                  <a:pt x="398" y="86"/>
                  <a:pt x="413" y="144"/>
                </a:cubicBezTo>
                <a:cubicBezTo>
                  <a:pt x="439" y="105"/>
                  <a:pt x="452" y="111"/>
                  <a:pt x="490" y="86"/>
                </a:cubicBezTo>
                <a:cubicBezTo>
                  <a:pt x="513" y="133"/>
                  <a:pt x="532" y="163"/>
                  <a:pt x="576" y="192"/>
                </a:cubicBezTo>
                <a:cubicBezTo>
                  <a:pt x="586" y="182"/>
                  <a:pt x="594" y="171"/>
                  <a:pt x="605" y="163"/>
                </a:cubicBezTo>
                <a:cubicBezTo>
                  <a:pt x="623" y="149"/>
                  <a:pt x="662" y="125"/>
                  <a:pt x="662" y="125"/>
                </a:cubicBezTo>
                <a:cubicBezTo>
                  <a:pt x="686" y="54"/>
                  <a:pt x="656" y="124"/>
                  <a:pt x="682" y="134"/>
                </a:cubicBezTo>
                <a:cubicBezTo>
                  <a:pt x="700" y="141"/>
                  <a:pt x="741" y="94"/>
                  <a:pt x="749" y="86"/>
                </a:cubicBezTo>
                <a:cubicBezTo>
                  <a:pt x="759" y="92"/>
                  <a:pt x="770" y="96"/>
                  <a:pt x="778" y="105"/>
                </a:cubicBezTo>
                <a:cubicBezTo>
                  <a:pt x="793" y="122"/>
                  <a:pt x="816" y="163"/>
                  <a:pt x="816" y="163"/>
                </a:cubicBezTo>
                <a:cubicBezTo>
                  <a:pt x="881" y="98"/>
                  <a:pt x="855" y="85"/>
                  <a:pt x="893" y="125"/>
                </a:cubicBezTo>
                <a:cubicBezTo>
                  <a:pt x="896" y="135"/>
                  <a:pt x="908" y="180"/>
                  <a:pt x="922" y="182"/>
                </a:cubicBezTo>
                <a:cubicBezTo>
                  <a:pt x="942" y="185"/>
                  <a:pt x="979" y="163"/>
                  <a:pt x="979" y="163"/>
                </a:cubicBezTo>
                <a:cubicBezTo>
                  <a:pt x="989" y="153"/>
                  <a:pt x="997" y="141"/>
                  <a:pt x="1008" y="134"/>
                </a:cubicBezTo>
                <a:cubicBezTo>
                  <a:pt x="1016" y="128"/>
                  <a:pt x="1037" y="125"/>
                  <a:pt x="1037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1908000" y="3141720"/>
            <a:ext cx="165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idos y 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ndiciones idóneas de los mensa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la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sis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compl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ción de retor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Para qué nos sirve el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rregir err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orzar conduct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imular el desarrollo de hábitos posi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da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pondiendo de forma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iriéndonos a hech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larando puntos de 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freciendo conductas alternativas posi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irando y hablando directamente al interloc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recibir feedbac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cuchando y tomando no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idiendo más información cuando la necesite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ntando obtener información concr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vitando justificarnos o defender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interrumpie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iendo la información para asegurarnos de la compren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Fines de la comunicación en el a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MEN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067280" y="4149720"/>
            <a:ext cx="4537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 de 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de presentar el 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 d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ntre receptor y e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332000" y="4869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97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313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971640" y="501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Barreras de la comunic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iltraciones durante la transmisión por causas mate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ctitudes defens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ensaje incomple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lta o deficiencia de empat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fensas psicológic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negar la veracidad, restar importancia al asunto, evitando cualquier información que provoque un sentimiento nega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ye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endencia a evalu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8:22:03Z</dcterms:created>
  <dc:creator>ELVA</dc:creator>
  <dc:description/>
  <dc:language>en-US</dc:language>
  <cp:lastModifiedBy>alumno</cp:lastModifiedBy>
  <dcterms:modified xsi:type="dcterms:W3CDTF">2011-05-26T17:33:16Z</dcterms:modified>
  <cp:revision>10</cp:revision>
  <dc:subject/>
  <dc:title>LA COMUNICACIÓN VERBAL</dc:title>
</cp:coreProperties>
</file>