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F90A-3F8D-4643-A7C9-B691DF70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0EF-3E4A-4857-8941-63F1F71C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626B-6F85-47FD-ADD1-7A4CACEB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201F-A090-4F56-9E70-5DA180D4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0131-C58E-4D2C-999C-F18DB4C0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C876-5D6D-480F-AA38-F10EF95D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CD3-7A2B-44BF-80F6-91A05AF3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5FEF-EAA5-4862-A233-9C32CDC8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205-3F34-4323-B72E-038BF097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E4F5-F7EE-456D-8CB6-30226532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C554-10E0-42CC-AE48-B8D77904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6E5-1590-4AB7-8DFE-774A8DDF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0D54-8AF6-4377-8C89-4FEC4D5ADB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269720"/>
            <a:ext cx="9217080" cy="12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图书馆电子资源门户系统介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4360" y="2781360"/>
            <a:ext cx="734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主讲人：丁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单位：武汉大学图书馆信息服务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-mail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址：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ngnian@lib.whu.edu.c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4880" y="549360"/>
            <a:ext cx="6912000" cy="55767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71640" y="1628640"/>
            <a:ext cx="6913440" cy="129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3141720"/>
            <a:ext cx="4032000" cy="64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3789360"/>
            <a:ext cx="5400720" cy="244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0" r="0" b="23416"/>
          <a:stretch/>
        </p:blipFill>
        <p:spPr>
          <a:xfrm>
            <a:off x="4680" y="406440"/>
            <a:ext cx="9142560" cy="568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750160" y="2925720"/>
            <a:ext cx="358920" cy="2592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8000" y="836640"/>
            <a:ext cx="9001080" cy="48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190440"/>
            <a:ext cx="8575560" cy="6048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852720" y="2925720"/>
            <a:ext cx="1368720" cy="115272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3852720" y="2708280"/>
            <a:ext cx="136692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179280" y="549360"/>
            <a:ext cx="9072360" cy="5570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71640" y="549360"/>
            <a:ext cx="1008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4920" y="1125360"/>
            <a:ext cx="8642520" cy="935280"/>
            <a:chOff x="34920" y="1125360"/>
            <a:chExt cx="8642520" cy="935280"/>
          </a:xfrm>
        </p:grpSpPr>
        <p:sp>
          <p:nvSpPr>
            <p:cNvPr id="110" name=""/>
            <p:cNvSpPr/>
            <p:nvPr/>
          </p:nvSpPr>
          <p:spPr>
            <a:xfrm>
              <a:off x="34920" y="1125360"/>
              <a:ext cx="8642520" cy="9352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52360" y="1196640"/>
              <a:ext cx="1152000" cy="50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期刊查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6360" y="2133720"/>
            <a:ext cx="9072720" cy="1152360"/>
            <a:chOff x="36360" y="2133720"/>
            <a:chExt cx="9072720" cy="1152360"/>
          </a:xfrm>
        </p:grpSpPr>
        <p:sp>
          <p:nvSpPr>
            <p:cNvPr id="113" name=""/>
            <p:cNvSpPr/>
            <p:nvPr/>
          </p:nvSpPr>
          <p:spPr>
            <a:xfrm>
              <a:off x="36360" y="2133720"/>
              <a:ext cx="9072720" cy="1152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68360" y="2133720"/>
              <a:ext cx="19443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期刊字顺浏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0" y="3357720"/>
            <a:ext cx="8820000" cy="2879640"/>
            <a:chOff x="0" y="3357720"/>
            <a:chExt cx="8820000" cy="2879640"/>
          </a:xfrm>
        </p:grpSpPr>
        <p:sp>
          <p:nvSpPr>
            <p:cNvPr id="116" name=""/>
            <p:cNvSpPr/>
            <p:nvPr/>
          </p:nvSpPr>
          <p:spPr>
            <a:xfrm>
              <a:off x="0" y="3357720"/>
              <a:ext cx="8820000" cy="2879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8920" y="3357720"/>
              <a:ext cx="3384360" cy="7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按学科浏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09440" y="549360"/>
            <a:ext cx="8999640" cy="5184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547640" y="3141720"/>
            <a:ext cx="4465800" cy="3130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4365720"/>
            <a:ext cx="122400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8000" y="2422440"/>
            <a:ext cx="2306520" cy="501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3640" y="5013360"/>
            <a:ext cx="576360" cy="28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750160" cy="5184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5788080" cy="2160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68720" y="3068640"/>
            <a:ext cx="216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4005360"/>
            <a:ext cx="1728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85080" y="1197000"/>
            <a:ext cx="647640" cy="22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48000" y="4005360"/>
            <a:ext cx="79236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066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2720" y="476280"/>
            <a:ext cx="7920000" cy="54738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835280" y="1268280"/>
            <a:ext cx="216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information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44720" y="1701720"/>
            <a:ext cx="107928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81080" y="549360"/>
            <a:ext cx="8783640" cy="53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门户系统入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6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入口一：武大图书馆主页上的入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入口二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ttp://metalib.lib.whu.edu.cn/V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6410520" cy="2665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92360" y="4292640"/>
            <a:ext cx="165744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0" t="0" r="34790" b="0"/>
          <a:stretch/>
        </p:blipFill>
        <p:spPr>
          <a:xfrm>
            <a:off x="108000" y="117360"/>
            <a:ext cx="8999640" cy="6624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979640" y="981000"/>
            <a:ext cx="25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computer and information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1557360"/>
            <a:ext cx="1584360" cy="431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766800"/>
            <a:ext cx="8786880" cy="3744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03280" y="765000"/>
            <a:ext cx="100980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108000" y="620640"/>
            <a:ext cx="8713800" cy="5472360"/>
            <a:chOff x="108000" y="620640"/>
            <a:chExt cx="8713800" cy="547236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tretch/>
          </p:blipFill>
          <p:spPr>
            <a:xfrm>
              <a:off x="108000" y="620640"/>
              <a:ext cx="8713800" cy="547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1362960" y="980640"/>
              <a:ext cx="1107360" cy="287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08000" y="549360"/>
            <a:ext cx="8650080" cy="5400720"/>
            <a:chOff x="108000" y="549360"/>
            <a:chExt cx="8650080" cy="540072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108000" y="549360"/>
              <a:ext cx="865008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81440" y="2421000"/>
              <a:ext cx="2658960" cy="2448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2360" y="333360"/>
            <a:ext cx="8508960" cy="5938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771640" y="333360"/>
            <a:ext cx="1368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22969" t="0" r="0" b="0"/>
          <a:stretch/>
        </p:blipFill>
        <p:spPr>
          <a:xfrm>
            <a:off x="252360" y="117360"/>
            <a:ext cx="8710560" cy="6551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52360" y="117360"/>
            <a:ext cx="1079640" cy="43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556000" y="981000"/>
            <a:ext cx="1871280" cy="0"/>
            <a:chOff x="2556000" y="981000"/>
            <a:chExt cx="1871280" cy="0"/>
          </a:xfrm>
        </p:grpSpPr>
        <p:sp>
          <p:nvSpPr>
            <p:cNvPr id="150" name=""/>
            <p:cNvSpPr/>
            <p:nvPr/>
          </p:nvSpPr>
          <p:spPr>
            <a:xfrm>
              <a:off x="2556000" y="981000"/>
              <a:ext cx="432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75640" y="981000"/>
              <a:ext cx="432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95280" y="981000"/>
              <a:ext cx="432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486160" y="981000"/>
            <a:ext cx="647640" cy="309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8000" y="766800"/>
            <a:ext cx="8929800" cy="4968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116000" y="692280"/>
            <a:ext cx="79200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341360"/>
            <a:ext cx="936360" cy="360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6360" y="620640"/>
            <a:ext cx="9109080" cy="5184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24000" y="620640"/>
            <a:ext cx="647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1052640"/>
            <a:ext cx="792000" cy="396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497800" cy="5400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284720" y="476280"/>
            <a:ext cx="9349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003640" y="836640"/>
            <a:ext cx="3956040" cy="1440000"/>
            <a:chOff x="5003640" y="836640"/>
            <a:chExt cx="3956040" cy="1440000"/>
          </a:xfrm>
        </p:grpSpPr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5003640" y="836640"/>
              <a:ext cx="3956040" cy="14400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164" name=""/>
            <p:cNvSpPr/>
            <p:nvPr/>
          </p:nvSpPr>
          <p:spPr>
            <a:xfrm>
              <a:off x="7885080" y="1268280"/>
              <a:ext cx="504000" cy="575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193080" cy="3957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79640" y="333360"/>
            <a:ext cx="482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登录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0" t="-906" r="4656" b="23412"/>
          <a:stretch/>
        </p:blipFill>
        <p:spPr>
          <a:xfrm>
            <a:off x="36360" y="338040"/>
            <a:ext cx="9109080" cy="5973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66560" y="333360"/>
            <a:ext cx="403416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门户主页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12191" b="30681"/>
          <a:stretch/>
        </p:blipFill>
        <p:spPr>
          <a:xfrm>
            <a:off x="324000" y="1413000"/>
            <a:ext cx="8475480" cy="4390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2133720"/>
            <a:ext cx="417672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2133720"/>
            <a:ext cx="1008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96720" y="3502080"/>
            <a:ext cx="7777440" cy="720720"/>
            <a:chOff x="396720" y="3502080"/>
            <a:chExt cx="7777440" cy="720720"/>
          </a:xfrm>
        </p:grpSpPr>
        <p:sp>
          <p:nvSpPr>
            <p:cNvPr id="52" name=""/>
            <p:cNvSpPr/>
            <p:nvPr/>
          </p:nvSpPr>
          <p:spPr>
            <a:xfrm>
              <a:off x="396720" y="3502080"/>
              <a:ext cx="7777440" cy="720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2700000" y="4149720"/>
              <a:ext cx="4679640" cy="0"/>
              <a:chOff x="2700000" y="4149720"/>
              <a:chExt cx="4679640" cy="0"/>
            </a:xfrm>
          </p:grpSpPr>
          <p:sp>
            <p:nvSpPr>
              <p:cNvPr id="54" name=""/>
              <p:cNvSpPr/>
              <p:nvPr/>
            </p:nvSpPr>
            <p:spPr>
              <a:xfrm>
                <a:off x="2700000" y="4149720"/>
                <a:ext cx="792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779640" y="4149720"/>
                <a:ext cx="792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715640" y="4149720"/>
                <a:ext cx="792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651640" y="4149720"/>
                <a:ext cx="792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588000" y="4149720"/>
                <a:ext cx="791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2556720" y="3502440"/>
              <a:ext cx="1800000" cy="2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第一步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4920" y="4510080"/>
            <a:ext cx="720360" cy="1079640"/>
            <a:chOff x="34920" y="4510080"/>
            <a:chExt cx="720360" cy="1079640"/>
          </a:xfrm>
        </p:grpSpPr>
        <p:sp>
          <p:nvSpPr>
            <p:cNvPr id="61" name=""/>
            <p:cNvSpPr/>
            <p:nvPr/>
          </p:nvSpPr>
          <p:spPr>
            <a:xfrm>
              <a:off x="35280" y="4510080"/>
              <a:ext cx="720000" cy="10796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920" y="4652640"/>
              <a:ext cx="432360" cy="7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95280" y="2708280"/>
            <a:ext cx="4392720" cy="793800"/>
            <a:chOff x="395280" y="2708280"/>
            <a:chExt cx="4392720" cy="793800"/>
          </a:xfrm>
        </p:grpSpPr>
        <p:sp>
          <p:nvSpPr>
            <p:cNvPr id="64" name=""/>
            <p:cNvSpPr/>
            <p:nvPr/>
          </p:nvSpPr>
          <p:spPr>
            <a:xfrm>
              <a:off x="395280" y="2708280"/>
              <a:ext cx="4392720" cy="793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2708280"/>
              <a:ext cx="1440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第三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 Black"/>
                <a:ea typeface="楷体_GB2312"/>
              </a:rPr>
              <a:t>意见反馈信箱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楷体_GB2312"/>
              </a:rPr>
              <a:t>metalib@lib.whu.edu.c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0" r="13550" b="7232"/>
          <a:stretch/>
        </p:blipFill>
        <p:spPr>
          <a:xfrm>
            <a:off x="181080" y="622440"/>
            <a:ext cx="8783640" cy="532908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468360" y="3429000"/>
            <a:ext cx="4967280" cy="936720"/>
            <a:chOff x="468360" y="3429000"/>
            <a:chExt cx="4967280" cy="936720"/>
          </a:xfrm>
        </p:grpSpPr>
        <p:sp>
          <p:nvSpPr>
            <p:cNvPr id="68" name=""/>
            <p:cNvSpPr/>
            <p:nvPr/>
          </p:nvSpPr>
          <p:spPr>
            <a:xfrm>
              <a:off x="468360" y="3429000"/>
              <a:ext cx="4967280" cy="936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04000" y="3789000"/>
              <a:ext cx="259128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Arial"/>
                </a:rPr>
                <a:t>两级学科目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029440" y="4294080"/>
            <a:ext cx="287640" cy="1584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773360"/>
            <a:ext cx="460836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82" t="14824" r="1189" b="0"/>
          <a:stretch/>
        </p:blipFill>
        <p:spPr>
          <a:xfrm>
            <a:off x="252360" y="549360"/>
            <a:ext cx="8640720" cy="5545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8360" y="3213000"/>
            <a:ext cx="842472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4149720"/>
            <a:ext cx="431640" cy="194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5440" y="1628640"/>
            <a:ext cx="518472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920" y="333360"/>
            <a:ext cx="9074160" cy="6120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65440" y="3718080"/>
            <a:ext cx="1009440" cy="2736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5440" y="3359160"/>
            <a:ext cx="2374920" cy="3166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rcRect l="0" t="0" r="28052" b="0"/>
          <a:stretch/>
        </p:blipFill>
        <p:spPr>
          <a:xfrm>
            <a:off x="2771640" y="3789360"/>
            <a:ext cx="6194520" cy="2736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771640" y="3862440"/>
            <a:ext cx="216000" cy="2663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2360" y="1413000"/>
            <a:ext cx="4967280" cy="792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1080" y="496800"/>
            <a:ext cx="8785080" cy="59403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81080" y="2781360"/>
            <a:ext cx="8785080" cy="3241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00720" y="2781360"/>
            <a:ext cx="4103640" cy="3205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60720" y="2852640"/>
            <a:ext cx="136836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268280"/>
            <a:ext cx="439272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9001080" cy="6264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4920" y="1701720"/>
            <a:ext cx="8713800" cy="1800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1619280" y="1123920"/>
            <a:ext cx="865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4920" y="2133720"/>
            <a:ext cx="1370160" cy="1871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1763640" y="1773360"/>
            <a:ext cx="2592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40" y="479520"/>
            <a:ext cx="9178920" cy="59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619280" y="3359160"/>
            <a:ext cx="6769080" cy="2949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2268360" y="2997360"/>
            <a:ext cx="331164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3640" y="3718080"/>
            <a:ext cx="72072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8360" y="2852640"/>
            <a:ext cx="43164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16:55:22Z</dcterms:created>
  <dc:creator>PC-200912290902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