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6.gif" ContentType="image/gif"/>
  <Override PartName="/ppt/media/image4.jpeg" ContentType="image/jpeg"/>
  <Override PartName="/ppt/media/image2.png" ContentType="image/png"/>
  <Override PartName="/ppt/media/image3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25.gif" ContentType="image/gif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5B87-EAC2-4483-8E28-80F400CB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4339-DF77-49BC-90B5-6839D7A0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728A-2757-4300-B81E-5732EA9E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6154-E4D2-410D-81C0-740BD299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E843-FF81-49B0-8E18-16EB38C6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58AA-BDF4-4470-8B4F-AEB288EB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6DAA-B38F-4F1A-80C7-6F74760A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C60F-9BA7-4D42-A7DD-D2750646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19CE-9357-454A-87CC-2ACF6B2F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6C9F-8A1E-4E5B-9690-4B26CF55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FB25-4879-41DD-B82B-0DD5342F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2154-4386-4DBD-8E2F-59C022A1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C115-4325-4508-A5BC-C9128670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40E8-67B9-48A4-A70C-F419F6E5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A412-ABE9-4693-AED7-2E69856A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0119-6818-44AD-B76E-6695AD9E0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9566-BE26-48DE-AD29-7F3984DAB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D8411-F3D5-4FEC-9084-13F10EAC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151AD-C0E6-46A8-ACD3-9E91D178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FC8D5-3366-4855-B482-7693F9B1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C0ACF-3F9C-41AB-94D1-ED225304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A33FC-E318-4C39-84AD-8A796B65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18DE-BE8B-4941-968B-6A4CBE7A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B79BC-D97E-4662-A221-038B9A86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C2E07-9802-48BE-BFF9-EDFA5D98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97C56-3D19-4BDE-B49E-29AB4BCE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EDF96-0EDC-4667-A92A-09D91248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C6C7E-8528-4C4C-B391-E6E172AF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D1EE8-6118-44AD-98E4-000B687A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80943-8342-4455-89A9-AB4FA6CA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D3D60-77E8-459C-86DD-97B80BA7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7CD1B-E7F8-4A1B-A0EA-5DBC80A5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4B67B-B199-4E5E-9A69-BAC1BABD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1828-63B3-4F79-98A3-24CED925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4990A-C756-409F-8C9B-47919FBF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31CD5-60B8-4580-8CB2-BAE297BB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E543F-EC7F-4B40-9CB3-1275326B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FB26D-8922-4E27-A95F-BE439741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19841-87E5-4A2F-ACCF-EEF2C95D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4FACE-30E3-4A73-9C8E-84D7144D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C4058-7B56-410F-A9A1-3291ACD0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5639F-B741-49B5-ACC1-F9E9D6B3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FB09B-5949-42D7-B56E-E5201F25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8743-8D9B-4702-B52A-45E540BF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4B54-75B7-4DA0-B917-19E06033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418D-9D8D-43FA-ACCF-7B0854AB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4EC4-C654-4652-81A4-585732B3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5569-C55F-40C6-9060-9880E23F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E20B-8953-4930-9835-34CAB2C5934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任意多边形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任意多边形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1707-8D78-418A-A4A1-E8B902D5E376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任意多边形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9CB6-E508-469C-8D3D-EB7B3936AD36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单圆角矩形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3148-EC18-4E7B-9554-0255A898879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4920" y="2637000"/>
            <a:ext cx="6877080" cy="1584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Calibri"/>
              </a:rPr>
              <a:t>万方数据库使用简介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2700360" y="4653000"/>
            <a:ext cx="4105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图书馆信息部制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Calibri"/>
              </a:rPr>
              <a:t>                      </a:t>
            </a: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检索结果页面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rcRect l="0" t="18113" r="2953" b="12748"/>
          <a:stretch/>
        </p:blipFill>
        <p:spPr>
          <a:xfrm>
            <a:off x="457200" y="1411200"/>
            <a:ext cx="7986600" cy="46609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4"/>
          <p:cNvSpPr/>
          <p:nvPr/>
        </p:nvSpPr>
        <p:spPr>
          <a:xfrm>
            <a:off x="611280" y="2708280"/>
            <a:ext cx="792000" cy="792000"/>
          </a:xfrm>
          <a:prstGeom prst="wedgeRectCallout">
            <a:avLst>
              <a:gd name="adj1" fmla="val 88879"/>
              <a:gd name="adj2" fmla="val -80259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命中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6588000" y="1197000"/>
            <a:ext cx="1368720" cy="504720"/>
          </a:xfrm>
          <a:prstGeom prst="wedgeRectCallout">
            <a:avLst>
              <a:gd name="adj1" fmla="val -47912"/>
              <a:gd name="adj2" fmla="val 104717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二次检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8"/>
          <p:cNvSpPr/>
          <p:nvPr/>
        </p:nvSpPr>
        <p:spPr>
          <a:xfrm>
            <a:off x="5867280" y="2852640"/>
            <a:ext cx="1009800" cy="5763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Calibri"/>
              </a:rPr>
              <a:t>                      </a:t>
            </a: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详细摘要信息页面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rcRect l="0" t="0" r="0" b="6750"/>
          <a:stretch/>
        </p:blipFill>
        <p:spPr>
          <a:xfrm>
            <a:off x="539640" y="1341360"/>
            <a:ext cx="8229600" cy="462276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4"/>
          <p:cNvSpPr/>
          <p:nvPr/>
        </p:nvSpPr>
        <p:spPr>
          <a:xfrm>
            <a:off x="3564000" y="1557360"/>
            <a:ext cx="1224000" cy="1440000"/>
          </a:xfrm>
          <a:prstGeom prst="wedgeRectCallout">
            <a:avLst>
              <a:gd name="adj1" fmla="val -75421"/>
              <a:gd name="adj2" fmla="val 9976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查看全文，需安装所需的浏览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5"/>
          <p:cNvSpPr/>
          <p:nvPr/>
        </p:nvSpPr>
        <p:spPr>
          <a:xfrm>
            <a:off x="5003640" y="1700280"/>
            <a:ext cx="1152720" cy="5763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               </a:t>
            </a:r>
            <a:r>
              <a:rPr b="1" lang="zh-CN" sz="3600" spc="-1" strike="noStrike">
                <a:solidFill>
                  <a:srgbClr val="993366"/>
                </a:solidFill>
                <a:latin typeface="宋体"/>
              </a:rPr>
              <a:t>三、中国专利全文数据库</a:t>
            </a:r>
            <a:r>
              <a:rPr b="0" lang="zh-CN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         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收录从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1985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年至今授理的全部发明专利、实用新型专利、外观设计专利数据信息，包含专利公开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公告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日、公开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公告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号、主分类号、分类号、申请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专利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)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号、申请日、优先权等数据项。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            </a:t>
            </a: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专利全文数据库检索界面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rcRect l="0" t="18113" r="2215" b="8663"/>
          <a:stretch/>
        </p:blipFill>
        <p:spPr>
          <a:xfrm>
            <a:off x="457200" y="1482840"/>
            <a:ext cx="8047080" cy="468288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4"/>
          <p:cNvSpPr/>
          <p:nvPr/>
        </p:nvSpPr>
        <p:spPr>
          <a:xfrm>
            <a:off x="2987640" y="1989000"/>
            <a:ext cx="720720" cy="1008360"/>
          </a:xfrm>
          <a:prstGeom prst="wedgeRectCallout">
            <a:avLst>
              <a:gd name="adj1" fmla="val 135023"/>
              <a:gd name="adj2" fmla="val -3226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专利类型选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2"/>
          <a:srcRect l="47377" t="40410" r="42999" b="26165"/>
          <a:stretch/>
        </p:blipFill>
        <p:spPr>
          <a:xfrm>
            <a:off x="4356000" y="3141720"/>
            <a:ext cx="792360" cy="151272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6"/>
          <p:cNvSpPr/>
          <p:nvPr/>
        </p:nvSpPr>
        <p:spPr>
          <a:xfrm>
            <a:off x="3059280" y="3357720"/>
            <a:ext cx="433080" cy="1295280"/>
          </a:xfrm>
          <a:prstGeom prst="wedgeRectCallout">
            <a:avLst>
              <a:gd name="adj1" fmla="val 246337"/>
              <a:gd name="adj2" fmla="val -6986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检索字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6804000" y="1844640"/>
            <a:ext cx="1224000" cy="432000"/>
          </a:xfrm>
          <a:prstGeom prst="wedgeRectCallout">
            <a:avLst>
              <a:gd name="adj1" fmla="val -89689"/>
              <a:gd name="adj2" fmla="val 44115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时间限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Calibri"/>
              </a:rPr>
              <a:t>                      </a:t>
            </a: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专利资源样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1"/>
          <a:stretch/>
        </p:blipFill>
        <p:spPr>
          <a:xfrm>
            <a:off x="1033560" y="2011320"/>
            <a:ext cx="70768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1028880" y="3424320"/>
            <a:ext cx="708660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宋体"/>
              </a:rPr>
              <a:t>四、其他各子系统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宋体"/>
              </a:rPr>
              <a:t>         </a:t>
            </a:r>
            <a:r>
              <a:rPr b="1" lang="en-US" sz="4000" spc="-1" strike="noStrike">
                <a:solidFill>
                  <a:srgbClr val="993366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993366"/>
                </a:solidFill>
                <a:latin typeface="宋体"/>
              </a:rPr>
              <a:t>、万方商务信息数据库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rcRect l="0" t="18113" r="1846" b="7826"/>
          <a:stretch/>
        </p:blipFill>
        <p:spPr>
          <a:xfrm>
            <a:off x="395280" y="1195560"/>
            <a:ext cx="8077320" cy="471780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4"/>
          <p:cNvSpPr/>
          <p:nvPr/>
        </p:nvSpPr>
        <p:spPr>
          <a:xfrm>
            <a:off x="7164360" y="4581360"/>
            <a:ext cx="1368360" cy="863640"/>
          </a:xfrm>
          <a:prstGeom prst="wedgeRectCallout">
            <a:avLst>
              <a:gd name="adj1" fmla="val -201277"/>
              <a:gd name="adj2" fmla="val 45037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按行业及地区浏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7451640" y="2781360"/>
            <a:ext cx="505080" cy="1079280"/>
          </a:xfrm>
          <a:prstGeom prst="wedgeRectCallout">
            <a:avLst>
              <a:gd name="adj1" fmla="val -174527"/>
              <a:gd name="adj2" fmla="val 6912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检索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6"/>
          <p:cNvSpPr/>
          <p:nvPr/>
        </p:nvSpPr>
        <p:spPr>
          <a:xfrm>
            <a:off x="395280" y="3645000"/>
            <a:ext cx="1008000" cy="1008000"/>
          </a:xfrm>
          <a:prstGeom prst="wedgeRectCallout">
            <a:avLst>
              <a:gd name="adj1" fmla="val 72361"/>
              <a:gd name="adj2" fmla="val 26222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按数据库分类浏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宋体"/>
              </a:rPr>
              <a:t>           </a:t>
            </a:r>
            <a:r>
              <a:rPr b="1" lang="en-US" sz="4000" spc="-1" strike="noStrike">
                <a:solidFill>
                  <a:srgbClr val="993366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993366"/>
                </a:solidFill>
                <a:latin typeface="宋体"/>
              </a:rPr>
              <a:t>、万方科技信息子系统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rcRect l="0" t="18113" r="2953" b="7826"/>
          <a:stretch/>
        </p:blipFill>
        <p:spPr>
          <a:xfrm>
            <a:off x="468360" y="1266840"/>
            <a:ext cx="7986600" cy="499284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4"/>
          <p:cNvSpPr/>
          <p:nvPr/>
        </p:nvSpPr>
        <p:spPr>
          <a:xfrm>
            <a:off x="250920" y="3213000"/>
            <a:ext cx="718920" cy="1295640"/>
          </a:xfrm>
          <a:prstGeom prst="wedgeRectCallout">
            <a:avLst>
              <a:gd name="adj1" fmla="val 133666"/>
              <a:gd name="adj2" fmla="val -6004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按数据库分类浏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3276720" y="3500280"/>
            <a:ext cx="1224000" cy="433440"/>
          </a:xfrm>
          <a:prstGeom prst="wedgeRectCallout">
            <a:avLst>
              <a:gd name="adj1" fmla="val 66990"/>
              <a:gd name="adj2" fmla="val -98351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检索字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7380360" y="2205000"/>
            <a:ext cx="1295280" cy="936720"/>
          </a:xfrm>
          <a:prstGeom prst="wedgeRectCallout">
            <a:avLst>
              <a:gd name="adj1" fmla="val -87620"/>
              <a:gd name="adj2" fmla="val 40509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与、或、非</a:t>
            </a: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逻辑组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宋体"/>
              </a:rPr>
              <a:t>       </a:t>
            </a:r>
            <a:r>
              <a:rPr b="1" lang="en-US" sz="4000" spc="-1" strike="noStrike">
                <a:solidFill>
                  <a:srgbClr val="993366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993366"/>
                </a:solidFill>
                <a:latin typeface="宋体"/>
              </a:rPr>
              <a:t>、中国学位论文文摘数据库</a:t>
            </a: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  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　　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该库由国家法定学位论文收藏机构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——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中国科技信息研究所提供，并委托万方数据加工建库，收录了自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1980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年以来我国自然科学领域博士、博士后及硕士研究生论文，其中全文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60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余万篇，每年稳定新增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15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余万篇，是我国收录数量最多的学位论文文摘库。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Calibri"/>
              </a:rPr>
              <a:t>                        </a:t>
            </a: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主要内容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2d700"/>
                </a:solidFill>
                <a:latin typeface="宋体"/>
              </a:rPr>
              <a:t>一、万方数据资源简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2d700"/>
                </a:solidFill>
                <a:latin typeface="宋体"/>
              </a:rPr>
              <a:t>二、万方</a:t>
            </a:r>
            <a:r>
              <a:rPr b="1" lang="en-US" sz="2600" spc="-1" strike="noStrike">
                <a:solidFill>
                  <a:srgbClr val="e2d700"/>
                </a:solidFill>
                <a:latin typeface="宋体"/>
              </a:rPr>
              <a:t>《</a:t>
            </a:r>
            <a:r>
              <a:rPr b="1" lang="zh-CN" sz="2600" spc="-1" strike="noStrike">
                <a:solidFill>
                  <a:srgbClr val="e2d700"/>
                </a:solidFill>
                <a:latin typeface="宋体"/>
              </a:rPr>
              <a:t>中国标准文献数据库</a:t>
            </a:r>
            <a:r>
              <a:rPr b="1" lang="en-US" sz="2600" spc="-1" strike="noStrike">
                <a:solidFill>
                  <a:srgbClr val="e2d700"/>
                </a:solidFill>
                <a:latin typeface="宋体"/>
              </a:rPr>
              <a:t>》</a:t>
            </a:r>
            <a:r>
              <a:rPr b="1" lang="zh-CN" sz="2600" spc="-1" strike="noStrike">
                <a:solidFill>
                  <a:srgbClr val="e2d700"/>
                </a:solidFill>
                <a:latin typeface="宋体"/>
              </a:rPr>
              <a:t>检索实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2d700"/>
                </a:solidFill>
                <a:latin typeface="宋体"/>
              </a:rPr>
              <a:t>三、中国专利全文数据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2d700"/>
                </a:solidFill>
                <a:latin typeface="宋体"/>
              </a:rPr>
              <a:t>四、其它各子系统（万方商务信息子系统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2d700"/>
                </a:solidFill>
                <a:latin typeface="宋体"/>
              </a:rPr>
              <a:t>万方科技信息子系统、中国学位论文文摘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2d700"/>
                </a:solidFill>
                <a:latin typeface="宋体"/>
              </a:rPr>
              <a:t>据库、中国学术会议论文文摘数据库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e2d700"/>
                </a:solidFill>
                <a:latin typeface="宋体"/>
              </a:rPr>
              <a:t>五、跨库检索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Calibri"/>
              </a:rPr>
              <a:t>                      </a:t>
            </a: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学位论文库检索界面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rcRect l="0" t="19097" r="2215" b="7974"/>
          <a:stretch/>
        </p:blipFill>
        <p:spPr>
          <a:xfrm>
            <a:off x="468360" y="1630440"/>
            <a:ext cx="8047080" cy="4124160"/>
          </a:xfrm>
          <a:prstGeom prst="rect">
            <a:avLst/>
          </a:prstGeom>
          <a:ln w="0">
            <a:noFill/>
          </a:ln>
        </p:spPr>
      </p:pic>
      <p:sp>
        <p:nvSpPr>
          <p:cNvPr id="257" name="AutoShape 5"/>
          <p:cNvSpPr/>
          <p:nvPr/>
        </p:nvSpPr>
        <p:spPr>
          <a:xfrm>
            <a:off x="2987640" y="1989000"/>
            <a:ext cx="1079640" cy="719280"/>
          </a:xfrm>
          <a:prstGeom prst="wedgeRectCallout">
            <a:avLst>
              <a:gd name="adj1" fmla="val 73384"/>
              <a:gd name="adj2" fmla="val 92384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检索字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6156360" y="1413000"/>
            <a:ext cx="1224000" cy="503280"/>
          </a:xfrm>
          <a:prstGeom prst="wedgeRectCallout">
            <a:avLst>
              <a:gd name="adj1" fmla="val -99287"/>
              <a:gd name="adj2" fmla="val 77759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时间限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>
            <a:off x="2700360" y="4724280"/>
            <a:ext cx="719280" cy="720720"/>
          </a:xfrm>
          <a:prstGeom prst="wedgeRectCallout">
            <a:avLst>
              <a:gd name="adj1" fmla="val 79800"/>
              <a:gd name="adj2" fmla="val -117402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分类浏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86788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宋体"/>
              </a:rPr>
              <a:t>   </a:t>
            </a:r>
            <a:r>
              <a:rPr b="1" lang="en-US" sz="4000" spc="-1" strike="noStrike">
                <a:solidFill>
                  <a:srgbClr val="993366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993366"/>
                </a:solidFill>
                <a:latin typeface="宋体"/>
              </a:rPr>
              <a:t>、中国学术会议论文文摘数据库</a:t>
            </a:r>
            <a:r>
              <a:rPr b="0" lang="zh-CN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  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　　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该库是国内最具权威性的学术会议论文全文数据库，收录了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1998-2004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年国家一级学会在国内组织召开的全国性学术会议近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7000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余个会议，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45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万余篇会议论文全文，是目前国内收录会议数量最多，学科覆盖最广的数据库，是掌握国内学术会议动态必不可少的权威资源。</a:t>
            </a:r>
            <a:r>
              <a:rPr b="0" lang="zh-CN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Calibri"/>
              </a:rPr>
              <a:t>                   </a:t>
            </a: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学术会议论文库检索界面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rcRect l="0" t="18113" r="1846" b="7334"/>
          <a:stretch/>
        </p:blipFill>
        <p:spPr>
          <a:xfrm>
            <a:off x="457200" y="1627200"/>
            <a:ext cx="8077320" cy="4475160"/>
          </a:xfrm>
          <a:prstGeom prst="rect">
            <a:avLst/>
          </a:prstGeom>
          <a:ln w="0">
            <a:noFill/>
          </a:ln>
        </p:spPr>
      </p:pic>
      <p:sp>
        <p:nvSpPr>
          <p:cNvPr id="264" name="Oval 4"/>
          <p:cNvSpPr/>
          <p:nvPr/>
        </p:nvSpPr>
        <p:spPr>
          <a:xfrm>
            <a:off x="3276720" y="5805360"/>
            <a:ext cx="1008000" cy="5032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3419640" y="3284640"/>
            <a:ext cx="720720" cy="792000"/>
          </a:xfrm>
          <a:prstGeom prst="wedgeRectCallout">
            <a:avLst>
              <a:gd name="adj1" fmla="val 109250"/>
              <a:gd name="adj2" fmla="val -3305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检索字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7524720" y="3645000"/>
            <a:ext cx="1008000" cy="647640"/>
          </a:xfrm>
          <a:prstGeom prst="wedgeRectCallout">
            <a:avLst>
              <a:gd name="adj1" fmla="val -136300"/>
              <a:gd name="adj2" fmla="val -78921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时间限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7"/>
          <p:cNvSpPr/>
          <p:nvPr/>
        </p:nvSpPr>
        <p:spPr>
          <a:xfrm>
            <a:off x="7020000" y="2205000"/>
            <a:ext cx="1439640" cy="1008000"/>
          </a:xfrm>
          <a:prstGeom prst="wedgeRectCallout">
            <a:avLst>
              <a:gd name="adj1" fmla="val -70175"/>
              <a:gd name="adj2" fmla="val 14092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与、或、非</a:t>
            </a: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逻辑组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74872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Calibri"/>
              </a:rPr>
              <a:t>                     </a:t>
            </a: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会议论文文摘资源样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129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宋体"/>
              </a:rPr>
              <a:t>            </a:t>
            </a:r>
            <a:r>
              <a:rPr b="1" lang="zh-CN" sz="4000" spc="-1" strike="noStrike">
                <a:solidFill>
                  <a:srgbClr val="993366"/>
                </a:solidFill>
                <a:latin typeface="宋体"/>
              </a:rPr>
              <a:t>五、跨库检索界面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1" name="Picture 6" descr=""/>
          <p:cNvPicPr/>
          <p:nvPr/>
        </p:nvPicPr>
        <p:blipFill>
          <a:blip r:embed="rId1"/>
          <a:srcRect l="0" t="18113" r="2215" b="8072"/>
          <a:stretch/>
        </p:blipFill>
        <p:spPr>
          <a:xfrm>
            <a:off x="468360" y="1413000"/>
            <a:ext cx="8047080" cy="4548240"/>
          </a:xfrm>
          <a:prstGeom prst="rect">
            <a:avLst/>
          </a:prstGeom>
          <a:ln w="0">
            <a:noFill/>
          </a:ln>
        </p:spPr>
      </p:pic>
      <p:sp>
        <p:nvSpPr>
          <p:cNvPr id="272" name="Oval 4"/>
          <p:cNvSpPr/>
          <p:nvPr/>
        </p:nvSpPr>
        <p:spPr>
          <a:xfrm>
            <a:off x="2340000" y="1413000"/>
            <a:ext cx="1008000" cy="3603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539640" y="4076640"/>
            <a:ext cx="1081080" cy="1368360"/>
          </a:xfrm>
          <a:prstGeom prst="wedgeRectCallout">
            <a:avLst>
              <a:gd name="adj1" fmla="val 74671"/>
              <a:gd name="adj2" fmla="val 14847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勾选所需检索的数据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66"/>
                </a:solidFill>
                <a:latin typeface="Calibri"/>
              </a:rPr>
              <a:t>                      </a:t>
            </a:r>
            <a:r>
              <a:rPr b="1" lang="zh-CN" sz="3600" spc="-1" strike="noStrike">
                <a:solidFill>
                  <a:srgbClr val="993366"/>
                </a:solidFill>
                <a:latin typeface="Calibri"/>
              </a:rPr>
              <a:t>检索结果界面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rcRect l="0" t="18113" r="2215" b="8318"/>
          <a:stretch/>
        </p:blipFill>
        <p:spPr>
          <a:xfrm>
            <a:off x="457200" y="1123920"/>
            <a:ext cx="8047080" cy="455292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4"/>
          <p:cNvSpPr/>
          <p:nvPr/>
        </p:nvSpPr>
        <p:spPr>
          <a:xfrm>
            <a:off x="250920" y="2565360"/>
            <a:ext cx="936360" cy="2016000"/>
          </a:xfrm>
          <a:prstGeom prst="wedgeRectCallout">
            <a:avLst>
              <a:gd name="adj1" fmla="val 71185"/>
              <a:gd name="adj2" fmla="val -6615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各数据库命中记录数，点击直接进入各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5"/>
          <p:cNvSpPr/>
          <p:nvPr/>
        </p:nvSpPr>
        <p:spPr>
          <a:xfrm>
            <a:off x="6516720" y="2708280"/>
            <a:ext cx="1008000" cy="5763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line46"/>
          <p:cNvPicPr/>
          <p:nvPr/>
        </p:nvPicPr>
        <p:blipFill>
          <a:blip r:embed="rId1"/>
          <a:stretch/>
        </p:blipFill>
        <p:spPr>
          <a:xfrm>
            <a:off x="0" y="472428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3" descr="spac014"/>
          <p:cNvPicPr/>
          <p:nvPr/>
        </p:nvPicPr>
        <p:blipFill>
          <a:blip r:embed="rId2"/>
          <a:stretch/>
        </p:blipFill>
        <p:spPr>
          <a:xfrm flipH="1" rot="10800000">
            <a:off x="5003640" y="6021000"/>
            <a:ext cx="250920" cy="2509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393840" y="1773360"/>
            <a:ext cx="8501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</a:t>
            </a:r>
            <a:r>
              <a:rPr b="0" lang="en-US" sz="2400" spc="-1" strike="noStrike">
                <a:solidFill>
                  <a:srgbClr val="993366"/>
                </a:solidFill>
                <a:latin typeface="华文行楷"/>
                <a:ea typeface="华文行楷"/>
              </a:rPr>
              <a:t> </a:t>
            </a:r>
            <a:r>
              <a:rPr b="1" lang="zh-CN" sz="6000" spc="-1" strike="noStrike">
                <a:solidFill>
                  <a:srgbClr val="993366"/>
                </a:solidFill>
                <a:latin typeface="华文行楷"/>
              </a:rPr>
              <a:t>感谢观看</a:t>
            </a:r>
            <a:r>
              <a:rPr b="1" lang="zh-CN" sz="6000" spc="-1" strike="noStrike">
                <a:solidFill>
                  <a:srgbClr val="993366"/>
                </a:solidFill>
                <a:latin typeface="Arial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32000" y="274320"/>
            <a:ext cx="55548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一、万方数据资源简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万方数据资源建立在万方数据庞大的数据库群之上。它的资料来源于中国科技信息研究所和国家各部委、中科院以及各级信息机构，内容涉及自然科学和社会科学各个专业领域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迄今为止，万方数据自有版权以及与合作伙伴共同开发的数据库总计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112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个，归属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9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个类别。总记录</a:t>
            </a: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1300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多万条。收录范围包括期刊、会议、学位论文、标准、专利和名录等，用户既可以单库、跨库检索，也可以在所有数据库中检索，同时还可按行业需求检索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万方数据资源系统网址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http://www.wanfangdata.com.cn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分为商务信息子系统、科技信息子系统和数字化期刊子系统三部分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我校可查阅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中国标准文献数据库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全文及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《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中国专利全文数据库</a:t>
            </a:r>
            <a:r>
              <a:rPr b="0" lang="en-US" sz="26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中的部分全文。其它各库则只能查阅到文摘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0" lang="zh-CN" sz="2600" spc="-1" strike="noStrike">
                <a:solidFill>
                  <a:srgbClr val="0000ff"/>
                </a:solidFill>
                <a:latin typeface="宋体"/>
              </a:rPr>
              <a:t>校园网用户可通过图书馆主页直接访问数据库资源，无需登陆系统网站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Rectangle 4"/>
          <p:cNvSpPr/>
          <p:nvPr/>
        </p:nvSpPr>
        <p:spPr>
          <a:xfrm flipV="1" rot="10800000">
            <a:off x="2344680" y="259560"/>
            <a:ext cx="604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993366"/>
                </a:solidFill>
                <a:latin typeface="宋体"/>
              </a:rPr>
              <a:t>二、万方检索实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2" descr=""/>
          <p:cNvPicPr/>
          <p:nvPr/>
        </p:nvPicPr>
        <p:blipFill>
          <a:blip r:embed="rId1"/>
          <a:stretch/>
        </p:blipFill>
        <p:spPr>
          <a:xfrm>
            <a:off x="603360" y="244440"/>
            <a:ext cx="7785000" cy="792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rcRect l="0" t="11680" r="0" b="6497"/>
          <a:stretch/>
        </p:blipFill>
        <p:spPr>
          <a:xfrm>
            <a:off x="324000" y="1197000"/>
            <a:ext cx="8351640" cy="482436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4"/>
          <p:cNvSpPr/>
          <p:nvPr/>
        </p:nvSpPr>
        <p:spPr>
          <a:xfrm>
            <a:off x="6443640" y="2637000"/>
            <a:ext cx="1800360" cy="504720"/>
          </a:xfrm>
          <a:prstGeom prst="wedgeRectCallout">
            <a:avLst>
              <a:gd name="adj1" fmla="val -120458"/>
              <a:gd name="adj2" fmla="val -129245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普通检索入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4356000" y="3787920"/>
            <a:ext cx="1368360" cy="649080"/>
          </a:xfrm>
          <a:prstGeom prst="wedgeRectCallout">
            <a:avLst>
              <a:gd name="adj1" fmla="val -105916"/>
              <a:gd name="adj2" fmla="val -73962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标准库可查阅全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9" descr=""/>
          <p:cNvPicPr/>
          <p:nvPr/>
        </p:nvPicPr>
        <p:blipFill>
          <a:blip r:embed="rId1"/>
          <a:srcRect l="10152" t="19983" r="11591" b="6694"/>
          <a:stretch/>
        </p:blipFill>
        <p:spPr>
          <a:xfrm>
            <a:off x="685800" y="1125360"/>
            <a:ext cx="7632720" cy="54723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66"/>
                </a:solidFill>
                <a:latin typeface="Calibri"/>
              </a:rPr>
              <a:t>                      </a:t>
            </a: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进入标准库界面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0" y="1268280"/>
            <a:ext cx="1116000" cy="792360"/>
          </a:xfrm>
          <a:prstGeom prst="wedgeRectCallout">
            <a:avLst>
              <a:gd name="adj1" fmla="val 95236"/>
              <a:gd name="adj2" fmla="val 103305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资源浏览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6"/>
          <p:cNvSpPr/>
          <p:nvPr/>
        </p:nvSpPr>
        <p:spPr>
          <a:xfrm>
            <a:off x="7738920" y="2349360"/>
            <a:ext cx="1405080" cy="1729080"/>
          </a:xfrm>
          <a:prstGeom prst="wedgeRectCallout">
            <a:avLst>
              <a:gd name="adj1" fmla="val -144916"/>
              <a:gd name="adj2" fmla="val 9319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检索区，可按各检索字段进行检索，并可对时间进行限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6659640" y="4653000"/>
            <a:ext cx="1728720" cy="1584360"/>
          </a:xfrm>
          <a:prstGeom prst="wedgeRectCallout">
            <a:avLst>
              <a:gd name="adj1" fmla="val -78925"/>
              <a:gd name="adj2" fmla="val -1203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宋体"/>
              </a:rPr>
              <a:t>资源更新情况，目前有记录数</a:t>
            </a:r>
            <a:r>
              <a:rPr b="1" lang="en-US" sz="1800" spc="-1" strike="noStrike">
                <a:solidFill>
                  <a:srgbClr val="ff3300"/>
                </a:solidFill>
                <a:latin typeface="宋体"/>
              </a:rPr>
              <a:t>66492</a:t>
            </a:r>
            <a:r>
              <a:rPr b="1" lang="zh-CN" sz="1800" spc="-1" strike="noStrike">
                <a:solidFill>
                  <a:srgbClr val="ff3300"/>
                </a:solidFill>
                <a:latin typeface="宋体"/>
              </a:rPr>
              <a:t>条标准数据。可进行</a:t>
            </a:r>
            <a:r>
              <a:rPr b="1" lang="en-US" sz="1800" spc="-1" strike="noStrike">
                <a:solidFill>
                  <a:srgbClr val="ff3300"/>
                </a:solidFill>
                <a:latin typeface="宋体"/>
              </a:rPr>
              <a:t>RSS</a:t>
            </a:r>
            <a:r>
              <a:rPr b="1" lang="zh-CN" sz="1800" spc="-1" strike="noStrike">
                <a:solidFill>
                  <a:srgbClr val="ff3300"/>
                </a:solidFill>
                <a:latin typeface="宋体"/>
              </a:rPr>
              <a:t>订阅更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0" descr=""/>
          <p:cNvPicPr/>
          <p:nvPr/>
        </p:nvPicPr>
        <p:blipFill>
          <a:blip r:embed="rId2"/>
          <a:stretch/>
        </p:blipFill>
        <p:spPr>
          <a:xfrm>
            <a:off x="4643280" y="2997360"/>
            <a:ext cx="1076400" cy="1952640"/>
          </a:xfrm>
          <a:prstGeom prst="rect">
            <a:avLst/>
          </a:prstGeom>
          <a:ln w="0">
            <a:noFill/>
          </a:ln>
        </p:spPr>
      </p:pic>
      <p:sp>
        <p:nvSpPr>
          <p:cNvPr id="214" name="Oval 11"/>
          <p:cNvSpPr/>
          <p:nvPr/>
        </p:nvSpPr>
        <p:spPr>
          <a:xfrm>
            <a:off x="3059280" y="6381720"/>
            <a:ext cx="1152360" cy="2872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64000" y="274320"/>
            <a:ext cx="5122800" cy="85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66"/>
                </a:solidFill>
                <a:latin typeface="Calibri"/>
              </a:rPr>
              <a:t>标准资源样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2390760" y="1935000"/>
            <a:ext cx="43624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以“食品添加剂”为例，检索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0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至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08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年间的相关标准。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Picture 8" descr=""/>
          <p:cNvPicPr/>
          <p:nvPr/>
        </p:nvPicPr>
        <p:blipFill>
          <a:blip r:embed="rId1"/>
          <a:stretch/>
        </p:blipFill>
        <p:spPr>
          <a:xfrm>
            <a:off x="2195640" y="2682720"/>
            <a:ext cx="4752720" cy="289404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4"/>
          <p:cNvSpPr/>
          <p:nvPr/>
        </p:nvSpPr>
        <p:spPr>
          <a:xfrm>
            <a:off x="5003640" y="1844640"/>
            <a:ext cx="1152720" cy="720720"/>
          </a:xfrm>
          <a:prstGeom prst="wedgeRectCallout">
            <a:avLst>
              <a:gd name="adj1" fmla="val -70111"/>
              <a:gd name="adj2" fmla="val 78194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选择检索字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7667640" y="3789360"/>
            <a:ext cx="1152360" cy="719280"/>
          </a:xfrm>
          <a:prstGeom prst="wedgeRectCallout">
            <a:avLst>
              <a:gd name="adj1" fmla="val -151652"/>
              <a:gd name="adj2" fmla="val -36754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时间段的限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7"/>
          <p:cNvSpPr/>
          <p:nvPr/>
        </p:nvSpPr>
        <p:spPr>
          <a:xfrm>
            <a:off x="7093080" y="1844640"/>
            <a:ext cx="1871640" cy="576360"/>
          </a:xfrm>
          <a:prstGeom prst="wedgeRectCallout">
            <a:avLst>
              <a:gd name="adj1" fmla="val -12680"/>
              <a:gd name="adj2" fmla="val 102615"/>
            </a:avLst>
          </a:prstGeom>
          <a:solidFill>
            <a:srgbClr val="0f6fc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宋体"/>
              </a:rPr>
              <a:t>“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与、或、非</a:t>
            </a:r>
            <a:r>
              <a:rPr b="1" lang="zh-CN" sz="1800" spc="-1" strike="noStrike">
                <a:solidFill>
                  <a:srgbClr val="ff3300"/>
                </a:solidFill>
                <a:latin typeface="宋体"/>
              </a:rPr>
              <a:t>”</a:t>
            </a: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的逻辑组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01:24:44Z</dcterms:created>
  <dc:creator>thtfpc user</dc:creator>
  <dc:description/>
  <dc:language>en-US</dc:language>
  <cp:lastModifiedBy>thinkpad</cp:lastModifiedBy>
  <dcterms:modified xsi:type="dcterms:W3CDTF">2012-01-18T02:33:46Z</dcterms:modified>
  <cp:revision>38</cp:revision>
  <dc:subject/>
  <dc:title>幻灯片 1</dc:title>
</cp:coreProperties>
</file>