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5.gif" ContentType="image/gif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72D-57BB-45B5-8D82-C307C933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FA0-4F43-4ED6-9BB1-725A816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604-C98D-489D-8DF4-C5E9E5E8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E4E-5816-4F69-976D-A81F483F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FA3-4AC9-4901-873F-1453C775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E163-40C3-4270-AD8B-5A9FD155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C988-3D00-4957-BFB9-F69EC2B7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B4CF-FF64-48FD-AAAD-5BC9AFC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CE51-4878-4237-ABB1-F4969DEE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5800-6CF3-42BA-AD38-80BE495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B358-0A32-46A0-B3FC-95E7EED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029-41D8-443C-9759-E4EB058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63A8-6DEE-4BA4-BA0F-64CFC779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BC5B-08FA-4A99-9532-108E8730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DFCE-9B83-49C3-92C4-6AE39D73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51D4-A0F3-4574-BDA5-3B9BE798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450B-E579-4542-8073-6B6D6A17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23CE-E5D8-4C9A-8264-3F8A9781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FA7F-E490-4F0F-958A-7DF72066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21C3-081D-4976-A39D-577B255E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ED0A-4B87-4DAD-B7CA-FDCFFCEA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94C0-5C63-419E-AF23-5234C51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F56-C8BD-4374-8A0C-3A6EBE1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A1DC-A658-4B51-9925-5BE07EFD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CABD-D5F3-496D-AB83-E837C69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A3ED-F700-41BA-9AD2-2B7151CB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6D89-12C0-4CC0-8E11-84286B3E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EEB7-278B-49B4-A049-CDF0286A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C517-710D-4C4E-AD3E-B10E361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DBF9-ED48-4C0A-976A-489D276D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3A05-BAA1-4520-A963-F88947B8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72D2-C8E1-4010-8E61-8BCD1B7B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0522-AE82-469E-A0A7-BCE42BA9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1EC-71E0-4453-87E4-6578F23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C2A3-1ED6-4C46-B4EC-308FCE26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1909-41BD-4671-9739-05EBF98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BEF3-28B0-478B-9B7D-04DACFDD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DB05-D0D9-4FC7-B5F5-E6A352EB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E317D-7F68-42E5-84B1-45004AA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DBF2-070D-45D0-B875-C51CD08E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7FCB-17F7-4134-96CD-FA10105A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FD22-5068-41A7-B8A3-AC9483D1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3123-422E-4C8A-9070-635BDCA6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003-A13B-4C21-A315-57D41884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654-3F7D-44A4-89F0-613C5ECD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926-8B6A-493D-B15A-9FF135D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BB0-0EE6-4005-B47D-23F1F7C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D0B-EDA8-47E5-AF4F-6ABD7B6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F8F8-A818-4A2A-B16D-73F7149F3C6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F97-3BC6-436C-937A-A316F8F545B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453B-0134-49FD-8B60-0DC9DC3130F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0134-CAEC-4733-BD9E-6AA2AE2EA4A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2637000"/>
            <a:ext cx="687708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alibri"/>
              </a:rPr>
              <a:t>万方数据库使用简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700360" y="4653000"/>
            <a:ext cx="410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图书馆信息部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检索结果页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rcRect l="0" t="18113" r="2953" b="12748"/>
          <a:stretch/>
        </p:blipFill>
        <p:spPr>
          <a:xfrm>
            <a:off x="457200" y="1411200"/>
            <a:ext cx="7986600" cy="4660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4"/>
          <p:cNvSpPr/>
          <p:nvPr/>
        </p:nvSpPr>
        <p:spPr>
          <a:xfrm>
            <a:off x="611280" y="2708280"/>
            <a:ext cx="792000" cy="792000"/>
          </a:xfrm>
          <a:prstGeom prst="wedgeRectCallout">
            <a:avLst>
              <a:gd name="adj1" fmla="val 88879"/>
              <a:gd name="adj2" fmla="val -8025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命中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588000" y="1197000"/>
            <a:ext cx="1368720" cy="504720"/>
          </a:xfrm>
          <a:prstGeom prst="wedgeRectCallout">
            <a:avLst>
              <a:gd name="adj1" fmla="val -47912"/>
              <a:gd name="adj2" fmla="val 10471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次检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5867280" y="2852640"/>
            <a:ext cx="100980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详细摘要信息页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0" t="0" r="0" b="6750"/>
          <a:stretch/>
        </p:blipFill>
        <p:spPr>
          <a:xfrm>
            <a:off x="539640" y="1341360"/>
            <a:ext cx="8229600" cy="46227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3564000" y="1557360"/>
            <a:ext cx="1224000" cy="1440000"/>
          </a:xfrm>
          <a:prstGeom prst="wedgeRectCallout">
            <a:avLst>
              <a:gd name="adj1" fmla="val -75421"/>
              <a:gd name="adj2" fmla="val 997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查看全文，需安装所需的浏览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5003640" y="1700280"/>
            <a:ext cx="115272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1" lang="zh-CN" sz="3600" spc="-1" strike="noStrike">
                <a:solidFill>
                  <a:srgbClr val="993366"/>
                </a:solidFill>
                <a:latin typeface="宋体"/>
              </a:rPr>
              <a:t>三、中国专利全文数据库</a:t>
            </a:r>
            <a:r>
              <a:rPr b="0" lang="zh-CN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     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收录从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8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至今授理的全部发明专利、实用新型专利、外观设计专利数据信息，包含专利公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公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日、公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公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号、主分类号、分类号、申请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专利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号、申请日、优先权等数据项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专利全文数据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0" t="18113" r="2215" b="8663"/>
          <a:stretch/>
        </p:blipFill>
        <p:spPr>
          <a:xfrm>
            <a:off x="457200" y="1482840"/>
            <a:ext cx="8047080" cy="46828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4"/>
          <p:cNvSpPr/>
          <p:nvPr/>
        </p:nvSpPr>
        <p:spPr>
          <a:xfrm>
            <a:off x="2987640" y="1989000"/>
            <a:ext cx="720720" cy="1008360"/>
          </a:xfrm>
          <a:prstGeom prst="wedgeRectCallout">
            <a:avLst>
              <a:gd name="adj1" fmla="val 135023"/>
              <a:gd name="adj2" fmla="val -322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专利类型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rcRect l="47377" t="40410" r="42999" b="26165"/>
          <a:stretch/>
        </p:blipFill>
        <p:spPr>
          <a:xfrm>
            <a:off x="4356000" y="3141720"/>
            <a:ext cx="792360" cy="15127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3059280" y="3357720"/>
            <a:ext cx="433080" cy="1295280"/>
          </a:xfrm>
          <a:prstGeom prst="wedgeRectCallout">
            <a:avLst>
              <a:gd name="adj1" fmla="val 246337"/>
              <a:gd name="adj2" fmla="val -698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6804000" y="1844640"/>
            <a:ext cx="1224000" cy="432000"/>
          </a:xfrm>
          <a:prstGeom prst="wedgeRectCallout">
            <a:avLst>
              <a:gd name="adj1" fmla="val -89689"/>
              <a:gd name="adj2" fmla="val 441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专利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1033560" y="2011320"/>
            <a:ext cx="70768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28880" y="3424320"/>
            <a:ext cx="70866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四、其他各子系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万方商务信息数据库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rcRect l="0" t="18113" r="1846" b="7826"/>
          <a:stretch/>
        </p:blipFill>
        <p:spPr>
          <a:xfrm>
            <a:off x="395280" y="1195560"/>
            <a:ext cx="8077320" cy="47178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4"/>
          <p:cNvSpPr/>
          <p:nvPr/>
        </p:nvSpPr>
        <p:spPr>
          <a:xfrm>
            <a:off x="7164360" y="4581360"/>
            <a:ext cx="1368360" cy="863640"/>
          </a:xfrm>
          <a:prstGeom prst="wedgeRectCallout">
            <a:avLst>
              <a:gd name="adj1" fmla="val -201277"/>
              <a:gd name="adj2" fmla="val 4503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行业及地区浏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7451640" y="2781360"/>
            <a:ext cx="505080" cy="1079280"/>
          </a:xfrm>
          <a:prstGeom prst="wedgeRectCallout">
            <a:avLst>
              <a:gd name="adj1" fmla="val -174527"/>
              <a:gd name="adj2" fmla="val 691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95280" y="3645000"/>
            <a:ext cx="1008000" cy="1008000"/>
          </a:xfrm>
          <a:prstGeom prst="wedgeRectCallout">
            <a:avLst>
              <a:gd name="adj1" fmla="val 72361"/>
              <a:gd name="adj2" fmla="val 2622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数据库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万方科技信息子系统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rcRect l="0" t="18113" r="2953" b="7826"/>
          <a:stretch/>
        </p:blipFill>
        <p:spPr>
          <a:xfrm>
            <a:off x="468360" y="1266840"/>
            <a:ext cx="7986600" cy="49928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4"/>
          <p:cNvSpPr/>
          <p:nvPr/>
        </p:nvSpPr>
        <p:spPr>
          <a:xfrm>
            <a:off x="250920" y="3213000"/>
            <a:ext cx="718920" cy="1295640"/>
          </a:xfrm>
          <a:prstGeom prst="wedgeRectCallout">
            <a:avLst>
              <a:gd name="adj1" fmla="val 133666"/>
              <a:gd name="adj2" fmla="val -600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数据库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3276720" y="3500280"/>
            <a:ext cx="1224000" cy="433440"/>
          </a:xfrm>
          <a:prstGeom prst="wedgeRectCallout">
            <a:avLst>
              <a:gd name="adj1" fmla="val 66990"/>
              <a:gd name="adj2" fmla="val -98351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7380360" y="2205000"/>
            <a:ext cx="1295280" cy="936720"/>
          </a:xfrm>
          <a:prstGeom prst="wedgeRectCallout">
            <a:avLst>
              <a:gd name="adj1" fmla="val -87620"/>
              <a:gd name="adj2" fmla="val 4050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逻辑组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中国学位论文文摘数据库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该库由国家法定学位论文收藏机构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科技信息研究所提供，并委托万方数据加工建库，收录了自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8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以来我国自然科学领域博士、博士后及硕士研究生论文，其中全文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万篇，每年稳定新增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万篇，是我国收录数量最多的学位论文文摘库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主要内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一、万方数据资源简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二、万方</a:t>
            </a:r>
            <a:r>
              <a:rPr b="1" lang="en-US" sz="2600" spc="-1" strike="noStrike">
                <a:solidFill>
                  <a:srgbClr val="e2d700"/>
                </a:solidFill>
                <a:latin typeface="宋体"/>
              </a:rPr>
              <a:t>《</a:t>
            </a: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中国标准文献数据库</a:t>
            </a:r>
            <a:r>
              <a:rPr b="1" lang="en-US" sz="2600" spc="-1" strike="noStrike">
                <a:solidFill>
                  <a:srgbClr val="e2d700"/>
                </a:solidFill>
                <a:latin typeface="宋体"/>
              </a:rPr>
              <a:t>》</a:t>
            </a: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检索实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三、中国专利全文数据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四、其它各子系统（万方商务信息子系统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万方科技信息子系统、中国学位论文文摘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据库、中国学术会议论文文摘数据库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五、跨库检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学位论文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0" t="19097" r="2215" b="7974"/>
          <a:stretch/>
        </p:blipFill>
        <p:spPr>
          <a:xfrm>
            <a:off x="468360" y="1630440"/>
            <a:ext cx="8047080" cy="41241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5"/>
          <p:cNvSpPr/>
          <p:nvPr/>
        </p:nvSpPr>
        <p:spPr>
          <a:xfrm>
            <a:off x="2987640" y="1989000"/>
            <a:ext cx="1079640" cy="719280"/>
          </a:xfrm>
          <a:prstGeom prst="wedgeRectCallout">
            <a:avLst>
              <a:gd name="adj1" fmla="val 73384"/>
              <a:gd name="adj2" fmla="val 9238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156360" y="1413000"/>
            <a:ext cx="1224000" cy="503280"/>
          </a:xfrm>
          <a:prstGeom prst="wedgeRectCallout">
            <a:avLst>
              <a:gd name="adj1" fmla="val -99287"/>
              <a:gd name="adj2" fmla="val 7775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700360" y="4724280"/>
            <a:ext cx="719280" cy="720720"/>
          </a:xfrm>
          <a:prstGeom prst="wedgeRectCallout">
            <a:avLst>
              <a:gd name="adj1" fmla="val 79800"/>
              <a:gd name="adj2" fmla="val -11740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6788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中国学术会议论文文摘数据库</a:t>
            </a:r>
            <a:r>
              <a:rPr b="0" lang="zh-CN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该库是国内最具权威性的学术会议论文全文数据库，收录了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98-2004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国家一级学会在国内组织召开的全国性学术会议近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700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个会议，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4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万余篇会议论文全文，是目前国内收录会议数量最多，学科覆盖最广的数据库，是掌握国内学术会议动态必不可少的权威资源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学术会议论文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rcRect l="0" t="18113" r="1846" b="7334"/>
          <a:stretch/>
        </p:blipFill>
        <p:spPr>
          <a:xfrm>
            <a:off x="457200" y="1627200"/>
            <a:ext cx="8077320" cy="4475160"/>
          </a:xfrm>
          <a:prstGeom prst="rect">
            <a:avLst/>
          </a:prstGeom>
          <a:ln w="0">
            <a:noFill/>
          </a:ln>
        </p:spPr>
      </p:pic>
      <p:sp>
        <p:nvSpPr>
          <p:cNvPr id="264" name="Oval 4"/>
          <p:cNvSpPr/>
          <p:nvPr/>
        </p:nvSpPr>
        <p:spPr>
          <a:xfrm>
            <a:off x="3276720" y="5805360"/>
            <a:ext cx="1008000" cy="503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419640" y="3284640"/>
            <a:ext cx="720720" cy="792000"/>
          </a:xfrm>
          <a:prstGeom prst="wedgeRectCallout">
            <a:avLst>
              <a:gd name="adj1" fmla="val 109250"/>
              <a:gd name="adj2" fmla="val -330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7524720" y="3645000"/>
            <a:ext cx="1008000" cy="647640"/>
          </a:xfrm>
          <a:prstGeom prst="wedgeRectCallout">
            <a:avLst>
              <a:gd name="adj1" fmla="val -136300"/>
              <a:gd name="adj2" fmla="val -78921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7020000" y="2205000"/>
            <a:ext cx="1439640" cy="1008000"/>
          </a:xfrm>
          <a:prstGeom prst="wedgeRectCallout">
            <a:avLst>
              <a:gd name="adj1" fmla="val -70175"/>
              <a:gd name="adj2" fmla="val 1409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逻辑组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会议论文文摘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   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五、跨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rcRect l="0" t="18113" r="2215" b="8072"/>
          <a:stretch/>
        </p:blipFill>
        <p:spPr>
          <a:xfrm>
            <a:off x="468360" y="1413000"/>
            <a:ext cx="8047080" cy="4548240"/>
          </a:xfrm>
          <a:prstGeom prst="rect">
            <a:avLst/>
          </a:prstGeom>
          <a:ln w="0">
            <a:noFill/>
          </a:ln>
        </p:spPr>
      </p:pic>
      <p:sp>
        <p:nvSpPr>
          <p:cNvPr id="272" name="Oval 4"/>
          <p:cNvSpPr/>
          <p:nvPr/>
        </p:nvSpPr>
        <p:spPr>
          <a:xfrm>
            <a:off x="2340000" y="1413000"/>
            <a:ext cx="1008000" cy="36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539640" y="4076640"/>
            <a:ext cx="1081080" cy="1368360"/>
          </a:xfrm>
          <a:prstGeom prst="wedgeRectCallout">
            <a:avLst>
              <a:gd name="adj1" fmla="val 74671"/>
              <a:gd name="adj2" fmla="val 1484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勾选所需检索的数据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3600" spc="-1" strike="noStrike">
                <a:solidFill>
                  <a:srgbClr val="993366"/>
                </a:solidFill>
                <a:latin typeface="Calibri"/>
              </a:rPr>
              <a:t>检索结果界面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rcRect l="0" t="18113" r="2215" b="8318"/>
          <a:stretch/>
        </p:blipFill>
        <p:spPr>
          <a:xfrm>
            <a:off x="457200" y="1123920"/>
            <a:ext cx="8047080" cy="455292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4"/>
          <p:cNvSpPr/>
          <p:nvPr/>
        </p:nvSpPr>
        <p:spPr>
          <a:xfrm>
            <a:off x="250920" y="2565360"/>
            <a:ext cx="936360" cy="2016000"/>
          </a:xfrm>
          <a:prstGeom prst="wedgeRectCallout">
            <a:avLst>
              <a:gd name="adj1" fmla="val 71185"/>
              <a:gd name="adj2" fmla="val -66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各数据库命中记录数，点击直接进入各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6516720" y="2708280"/>
            <a:ext cx="100800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line46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spac014"/>
          <p:cNvPicPr/>
          <p:nvPr/>
        </p:nvPicPr>
        <p:blipFill>
          <a:blip r:embed="rId2"/>
          <a:stretch/>
        </p:blipFill>
        <p:spPr>
          <a:xfrm flipH="1" rot="10800000">
            <a:off x="5003640" y="6021000"/>
            <a:ext cx="250920" cy="2509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393840" y="177336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</a:t>
            </a:r>
            <a:r>
              <a:rPr b="0" lang="en-US" sz="2400" spc="-1" strike="noStrike">
                <a:solidFill>
                  <a:srgbClr val="993366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993366"/>
                </a:solidFill>
                <a:latin typeface="华文行楷"/>
              </a:rPr>
              <a:t>感谢观看</a:t>
            </a:r>
            <a:r>
              <a:rPr b="1" lang="zh-CN" sz="6000" spc="-1" strike="noStrike">
                <a:solidFill>
                  <a:srgbClr val="993366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一、万方数据资源简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万方数据资源建立在万方数据庞大的数据库群之上。它的资料来源于中国科技信息研究所和国家各部委、中科院以及各级信息机构，内容涉及自然科学和社会科学各个专业领域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迄今为止，万方数据自有版权以及与合作伙伴共同开发的数据库总计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1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个，归属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个类别。总记录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30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多万条。收录范围包括期刊、会议、学位论文、标准、专利和名录等，用户既可以单库、跨库检索，也可以在所有数据库中检索，同时还可按行业需求检索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万方数据资源系统网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http://www.wanfangdata.com.cn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分为商务信息子系统、科技信息子系统和数字化期刊子系统三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我校可查阅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标准文献数据库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全文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专利全文数据库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的部分全文。其它各库则只能查阅到文摘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校园网用户可通过图书馆主页直接访问数据库资源，无需登陆系统网站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4"/>
          <p:cNvSpPr/>
          <p:nvPr/>
        </p:nvSpPr>
        <p:spPr>
          <a:xfrm flipV="1" rot="10800000">
            <a:off x="2344680" y="25956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二、万方检索实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603360" y="244440"/>
            <a:ext cx="7785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0" t="11680" r="0" b="6497"/>
          <a:stretch/>
        </p:blipFill>
        <p:spPr>
          <a:xfrm>
            <a:off x="324000" y="1197000"/>
            <a:ext cx="8351640" cy="4824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"/>
          <p:cNvSpPr/>
          <p:nvPr/>
        </p:nvSpPr>
        <p:spPr>
          <a:xfrm>
            <a:off x="6443640" y="2637000"/>
            <a:ext cx="1800360" cy="504720"/>
          </a:xfrm>
          <a:prstGeom prst="wedgeRectCallout">
            <a:avLst>
              <a:gd name="adj1" fmla="val -120458"/>
              <a:gd name="adj2" fmla="val -12924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普通检索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4356000" y="3787920"/>
            <a:ext cx="1368360" cy="649080"/>
          </a:xfrm>
          <a:prstGeom prst="wedgeRectCallout">
            <a:avLst>
              <a:gd name="adj1" fmla="val -105916"/>
              <a:gd name="adj2" fmla="val -7396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标准库可查阅全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"/>
          <p:cNvPicPr/>
          <p:nvPr/>
        </p:nvPicPr>
        <p:blipFill>
          <a:blip r:embed="rId1"/>
          <a:srcRect l="10152" t="19983" r="11591" b="6694"/>
          <a:stretch/>
        </p:blipFill>
        <p:spPr>
          <a:xfrm>
            <a:off x="685800" y="1125360"/>
            <a:ext cx="7632720" cy="5472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进入标准库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0" y="1268280"/>
            <a:ext cx="1116000" cy="792360"/>
          </a:xfrm>
          <a:prstGeom prst="wedgeRectCallout">
            <a:avLst>
              <a:gd name="adj1" fmla="val 95236"/>
              <a:gd name="adj2" fmla="val 10330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资源浏览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7738920" y="2349360"/>
            <a:ext cx="1405080" cy="1729080"/>
          </a:xfrm>
          <a:prstGeom prst="wedgeRectCallout">
            <a:avLst>
              <a:gd name="adj1" fmla="val -144916"/>
              <a:gd name="adj2" fmla="val 931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检索区，可按各检索字段进行检索，并可对时间进行限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6659640" y="4653000"/>
            <a:ext cx="1728720" cy="1584360"/>
          </a:xfrm>
          <a:prstGeom prst="wedgeRectCallout">
            <a:avLst>
              <a:gd name="adj1" fmla="val -78925"/>
              <a:gd name="adj2" fmla="val -1203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资源更新情况，目前有记录数</a:t>
            </a: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66492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条标准数据。可进行</a:t>
            </a: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RSS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订阅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1076400" cy="1952640"/>
          </a:xfrm>
          <a:prstGeom prst="rect">
            <a:avLst/>
          </a:prstGeom>
          <a:ln w="0">
            <a:noFill/>
          </a:ln>
        </p:spPr>
      </p:pic>
      <p:sp>
        <p:nvSpPr>
          <p:cNvPr id="214" name="Oval 11"/>
          <p:cNvSpPr/>
          <p:nvPr/>
        </p:nvSpPr>
        <p:spPr>
          <a:xfrm>
            <a:off x="3059280" y="6381720"/>
            <a:ext cx="1152360" cy="287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标准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390760" y="1935000"/>
            <a:ext cx="43624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“食品添加剂”为例，检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间的相关标准。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1"/>
          <a:stretch/>
        </p:blipFill>
        <p:spPr>
          <a:xfrm>
            <a:off x="2195640" y="2682720"/>
            <a:ext cx="4752720" cy="28940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4"/>
          <p:cNvSpPr/>
          <p:nvPr/>
        </p:nvSpPr>
        <p:spPr>
          <a:xfrm>
            <a:off x="5003640" y="1844640"/>
            <a:ext cx="1152720" cy="720720"/>
          </a:xfrm>
          <a:prstGeom prst="wedgeRectCallout">
            <a:avLst>
              <a:gd name="adj1" fmla="val -70111"/>
              <a:gd name="adj2" fmla="val 7819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选择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667640" y="3789360"/>
            <a:ext cx="1152360" cy="719280"/>
          </a:xfrm>
          <a:prstGeom prst="wedgeRectCallout">
            <a:avLst>
              <a:gd name="adj1" fmla="val -151652"/>
              <a:gd name="adj2" fmla="val -3675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段的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7093080" y="1844640"/>
            <a:ext cx="1871640" cy="576360"/>
          </a:xfrm>
          <a:prstGeom prst="wedgeRectCallout">
            <a:avLst>
              <a:gd name="adj1" fmla="val -12680"/>
              <a:gd name="adj2" fmla="val 1026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的逻辑组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1:24:44Z</dcterms:created>
  <dc:creator>thtfpc user</dc:creator>
  <dc:description/>
  <dc:language>en-US</dc:language>
  <cp:lastModifiedBy>thinkpad</cp:lastModifiedBy>
  <dcterms:modified xsi:type="dcterms:W3CDTF">2012-01-18T02:33:46Z</dcterms:modified>
  <cp:revision>38</cp:revision>
  <dc:subject/>
  <dc:title>幻灯片 1</dc:title>
</cp:coreProperties>
</file>