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B6C-DAE4-422A-AC0E-3A4885CE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991-269B-4C4B-829F-C2908132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260-6562-4832-8A9A-EB96A97C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09F-036A-48C3-99EB-513E658B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3B35-3686-4630-9950-9F33CEDE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C3EB-CFBF-46F9-B2EE-734124EB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4B6-12EF-491A-B0B3-56012F84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E486-5D0D-4BF2-B023-5F0C965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FE48-74EE-4E17-8927-EDE3ECAA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267-0137-46A9-A52F-88FF9BC6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F229-BEF3-4533-9FAD-56BCAB82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A29-83FF-4745-8719-EE977B6B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2840-2AD2-4F9E-967A-28C5480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7F58-838A-4853-A815-546E1EF7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8EED-8CBF-47F6-BF17-890677F6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FB3D-02D0-4C5A-BE8C-392727D9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0C53-F246-412B-BAFC-9A42D8B7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CF6-2CB7-4B5D-B8A9-8FDD3855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17B-089D-4CF6-B6D1-B1DF9B24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DD3-018E-4243-BA6D-23058977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C70-718D-4990-BE69-1C2440E8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11A-549B-466E-9FC9-EA92F27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690-1DDE-477D-9C65-4507FAFC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986-3E9E-4DF1-B4B3-FB0B59A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9D06-3D0F-409E-AB23-33F68F9D8A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B3C1-A719-4394-A93A-210340E5E3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6624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5331e"/>
                </a:solidFill>
                <a:latin typeface="Tahoma"/>
              </a:rPr>
              <a:t>SINTAXI </a:t>
            </a:r>
            <a:br>
              <a:rPr sz="4000"/>
            </a:br>
            <a:r>
              <a:rPr b="1" lang="es-ES" sz="4000" spc="-1" strike="noStrike">
                <a:solidFill>
                  <a:srgbClr val="15331e"/>
                </a:solidFill>
                <a:latin typeface="Tahoma"/>
              </a:rPr>
              <a:t>L’oració composta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5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quests s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s pronoms relatius i les funcio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poden substituir en una oració compo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àton): pot substituir les funcions de subjecte, CD i CC de temps. Aquest pronom en les oracions explicatives pot ser substituït per la for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q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mar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pot portar mai una preposi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l davant. És incorrecta la for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llapi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scrius és molt v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orrectes les construccions: preposició + article + 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No està ben construïda la fr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amic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els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surts s’ho passen molt b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mé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és correcta la construcció d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article + qu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si es pot substituir per: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quell/a/s/es + qu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ixò + qu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ota les seves notes i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es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(aquelles que)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treu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seu germ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(això que)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dius és molt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7273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tònic): pot substituir les funcions de C.Prep i CC quan es refereix a cos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mar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quest pronom sempre v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cedit per una preposi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Es pot substituir per la construcció variable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 + art + qual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ordinado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el qu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scrius té el teclat br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ordinado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què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scrius té el teclat br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454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mpre es refereix a persones i pot realitzar les funcions de CI, CPrep i CC. Sempre es refereix a persones i pot realitzar les funcions de CI, CPrep i CC. Pot anar precedit de preposició i pot substituir-se per la forma compo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+art+qual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professor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qu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vas anar de viatge han marxat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es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professor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els qual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vas anar de viatge ha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rxat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 l’es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72010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 considera un relatiu adverbial i realitza les funcions de CC de lloc. No l’hem de confondre amb l’adverbi de lloc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pot substituir per les construccion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qu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qual, la qual, els quals, les qu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quest estiu viatjaré a un paí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 què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ls mosquit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emblen av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quest estiu viatjaré a un paí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 el qua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squits semblen av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72007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+ARTICLE+QUAL/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alitza la funció de CN respecte al seu antecedent. Aquestes construccions sempre són explic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aig veure la pel·lícula, els actor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 la qu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arcelo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A QUE, FET QUE, LA QUAL C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l relatiu es refereix a tota una oració, la quat té per antecedent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questes construccions són sempre explic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é un riure molt escandalós,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sa que / fet que / la qu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sa li planteja problemes gr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15331e"/>
                </a:solidFill>
                <a:uFillTx/>
                <a:latin typeface="Arial"/>
              </a:rPr>
              <a:t>L’oració subordinada substantiva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69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’oració subordinada substantiva és aquella oració que realitza la funció pròpia d’un substantiu de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vencedor rebrà un prem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ació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i guanyi la curs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rebrà un prem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Or. Com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ració subordinada substan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500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836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7127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substantives es poden classifi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ons les funcions possibles del S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l’oraci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jec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subjecte, l’agent de l’acció, dins la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s convé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vinguis ben de pressa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D de la principal, indicant, per tant, l’objecte sobre el qual recau l’acció del ver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m decidit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farem un viatge per Nad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ribu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l’atribut de l’oració principal formada amb un verb copulatiu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er, estar, semblar i aparent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, de manera que indiquen una qualitat relativa al subjecte de la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qüestió bàsica é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iar el pressupost adequat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omplement indirecte, és a dir que indiquen qui rep l’acció de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nna repartia els fulleton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qui li semblav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pre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omplement preposicional de l’oració princip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editor insisteix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la feina es revisi dues veg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omplement d’un nom, presentant una característica o qualitat que especifica el seu sign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nna tenia el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essentiment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no vindri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j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mplementen un adjectiu, acabant-ne de precisar el sign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Quim se sent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eliç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te l’escolti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Tipus de n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substantives poden tenir estructures sintàctiques  que s’uneixen a la principal mitjançant elements d’enllaç específ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Conjunció </a:t>
            </a:r>
            <a:r>
              <a:rPr b="0" i="1" lang="es-ES" sz="1800" spc="-1" strike="noStrike">
                <a:solidFill>
                  <a:srgbClr val="15331e"/>
                </a:solidFill>
                <a:latin typeface="Arial"/>
              </a:rPr>
              <a:t>que 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+ 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meva mare vol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assegi el gos cada vesp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’agrada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’escriguis poem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Pronom de relatiu + 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i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àpiga la respost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que alci la m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o va dir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que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acabava d’estossegar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Pronom interrogat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encarregat ens dirà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hem de lliurar l’imprè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m pot dir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an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ens costaran aquestes reparacion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Infinitiu+complements verb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’ha satisfet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e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é la fe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solució ha estat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aslladar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l’empresa als afor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L’infinitiu pot anar precedit de la preposició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motorista es proposava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’avançar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el seu ri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es protestes contribuïen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crear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un bon clima de tre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En les oracions d’infinitiu, encara que no té marca de persona i   no hi ha subjecte gramatical, es pot distingir un subjecte lògic de l’acció expressada pel verb que es dedueix del con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nena m’ha promès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e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feina ara mateix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subjecte lògic de l’ácció é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n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(la nena farà la feina ara matei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7345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pul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isjun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dvers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30605a"/>
                </a:solidFill>
                <a:latin typeface="Tahoma"/>
              </a:rPr>
              <a:t>Coordinades</a:t>
            </a:r>
            <a:r>
              <a:rPr b="0" lang="es-ES" sz="1200" spc="-1" strike="noStrike">
                <a:solidFill>
                  <a:srgbClr val="a4c6ba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Il·l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istrib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l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djectiv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Especif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l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5331e"/>
                </a:solidFill>
                <a:latin typeface="Tahoma"/>
              </a:rPr>
              <a:t>L’ORACI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5331e"/>
                </a:solidFill>
                <a:latin typeface="Tahoma"/>
              </a:rPr>
              <a:t>COMPOST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Subjecte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Completiv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dire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’atri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’infinitiu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indire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1200" spc="-1" strike="noStrike">
                <a:solidFill>
                  <a:srgbClr val="30605a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0605a"/>
                </a:solidFill>
                <a:latin typeface="Tahoma"/>
              </a:rPr>
              <a:t>Subordinades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Substantiv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preposi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Interrog. indirecte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de n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d’adjec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rela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o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dverbial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Comparativ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Consec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di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cess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u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19280" y="134100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2708280"/>
            <a:ext cx="431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3640" y="191628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184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27640" y="2708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4653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Recor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5331e"/>
                </a:solidFill>
                <a:latin typeface="Arial"/>
              </a:rPr>
              <a:t>Caiguda de la preposi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preposicions que enllacen complements al nom, a l’adjectiu o al verb despareixen quan l’estructura que complementa aquestes paraules és introduïda per la conjunció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ide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… / La ide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’espiïn la turm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s conscien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… / És conscient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Ø qu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tot ha de canvia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d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’oblid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… / S’oblid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Ø qu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l temps passa ràp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é, donc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itar el fenomen del dequeis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nteposició incorrecta de la preposició a una conjunció: 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t’he avisat de que v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2276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8800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328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140360" y="3860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4724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419640" y="5013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Canvi de la preposici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preposicions que introdueixen un complement preposicional només poder ser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an aquest és una subordinada formada per un infinitiu i els seus complements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i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infiniti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cusat insist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 seva innocè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cusat insist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afirm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 seva innocè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s amenaçav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mb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 dimiss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s amenaçav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/de dimiti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63520" y="404640"/>
            <a:ext cx="7386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Det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é recordar que la paraula que pot ser, segons el context en què es trob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jun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només relaciona elements, una oració al verb de la princip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igilav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es criatures no caiguessin dels gronxado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Pronom de relatiu: a més de relacionar la subordinada a la principal, el pronom substitueix un element sintàctic de la subordin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bolígraf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i he deixat no és me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Adverbi: sol acompanyar un adject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bon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t i que són poc freqüents, és possible trobar subordinades substantives que complementen un adverbi, 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paleontòlegs eren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luny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 trobar una resposta per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quell misteri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verbi       Oració sub. Substant. CAd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 recordar que en català no és possible l’ús d’un infinitiu precedit d’article i que, en conseqüència, són construccions incorrectes i que es corregeixen fàcilment sense l’arti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fumar perjudic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Fumar perjud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*El saber no destorb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Saber no destor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067280" y="2060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365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5331e"/>
                </a:solidFill>
                <a:latin typeface="Arial"/>
              </a:rPr>
              <a:t>L’oració subordinada adverbial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907920"/>
            <a:ext cx="73864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adverbials són aquelles 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n funcions pròpies d’un adverbi o sintagma adverbi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ins l’oració principal; per tant, equivalen a un complement circumstan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iré a treballar   dem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adverb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ircum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an em trobi b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CCircum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 h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 grup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àsics d’oracions subordinades adverbi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PRÒPIES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ementen un ver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ocatives, temporals i moda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Jo aniré on vulg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IMPRÒPIES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ementen tota l’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omparatives, consecutives, condicionals, concessives, causals i fina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rlo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què vull.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29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7640" y="24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 subordinades adverbials poden ser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erents tip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mporals (o de temps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tuen en el temps. Poden indicar una relació de simultaneïtat, l’anterioritat o la posteriori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an, aleshores, abans que, després que, des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an et vingui bé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fes-me aquest fa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catives (o de lloc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diquen el lloc on transcorre l’ac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n, fins on, allà on, pertot 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irem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on tu voldrà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als (o de mode)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essen la manera com es realitza l’ac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, segons com, en la mesura que, igual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es-ho com vulg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rativ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ableixen una comparació amb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Igualtat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an/tant… com, tal com, així… com, tal qual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perioritat i Inferioritat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és… que/ de/ que no pas, meny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/ de/ que no/ que no pa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porcionalitat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 més… menys, quant més… mé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plo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ant com jo espe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ecutive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essen una acció que és conseqüència de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an… que, tant(s)… que, tal(s)… que, talment… 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 veig tan b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no me´n sé aven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al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quen una condició imprescindible perquè es compleixi allò que s’expressa en la proposi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, amb que, mentre que, en cas que, tret que, només que, posat que, llevat qu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i plou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no ens mou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cessive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ordinada representa un obstacle a l’acció expressada per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cara que, tot i que, per més que, malgrat que,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sar d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cara que no t’agrad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t’ho has de menj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usal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indiquen la causa o la raó de l’acció que s’expressa en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rquè, ja que, com que, atès que, vist que, a causa qu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ic amoïnat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què ningú no m’aju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l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xpressen l’objectiu o intenció amb què es realitza allò que es manifesta a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rquè, a fi de/que, per tal de/qu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o dic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fi que tothom ho sàpiga.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58f7d"/>
                </a:solidFill>
                <a:latin typeface="Arial"/>
              </a:rPr>
              <a:t>L’oració coordinada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7127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4c6ba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30605a"/>
                </a:solidFill>
                <a:latin typeface="Arial"/>
              </a:rPr>
              <a:t>L’oració coordinad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és aquella formada per dues o més oracions- proposicions- amb la mateixa funció gramatical- les dues clàusules tenen la mateixa importància-, les quals s’uneixen al mateix nivell mitjançant un element d’enllaç,conjunc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Tipu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es oracions coordinades es classifiquen segons les conjuncions que les enllacen i el matís de significat que apor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558f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Copul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sum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 Les conjuncions copulatives són: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i, 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L’Amèlia llegeix una novel·la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 i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l’Arnau resol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els mots encreuats del di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Disjuntives: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opció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 Les conjuncions disjuntives són: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o, o bé, o sinó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Farem una festa a la terrassa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o bé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 convidarem els amics al restaur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7199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Advers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oposició.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es conjuncions adversatives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però, sinó, tanmateix, no obstant això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Vam oblidar-nos els bombons a casa,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però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li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vam comprar un ram de fl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Il·l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onseqüència.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es conjuncions il·latives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doncs, per tant, de manera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Estàs refredat?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Doncs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no vagis a pis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Distribu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lternança o distribució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 Les conjuncions, sempre dobles i precedint cada una de les proposicions,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ni… ni, ara… ara, ja… ja, mig… mig, 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passegem per la Rambla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visitem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 l’exposició del MACB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Explic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u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clariment.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Solen portar signes de puntuació. Les conjuncions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és a dir, o sigui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Els pagesos estan sindicats,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és a dir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, tenen    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representant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0605a"/>
                </a:solidFill>
                <a:latin typeface="Arial"/>
              </a:rPr>
              <a:t>L’oració juxtaposada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ca-ES" sz="2000" spc="-1" strike="noStrike">
                <a:solidFill>
                  <a:srgbClr val="558f7d"/>
                </a:solidFill>
                <a:latin typeface="Arial"/>
              </a:rPr>
              <a:t>proposicions coordinades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que no portin cap enllaç seran les </a:t>
            </a:r>
            <a:r>
              <a:rPr b="0" lang="ca-ES" sz="2000" spc="-1" strike="noStrike">
                <a:solidFill>
                  <a:srgbClr val="558f7d"/>
                </a:solidFill>
                <a:latin typeface="Arial"/>
              </a:rPr>
              <a:t>oracions juxtapos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es reconeixerem perquè s’uneixen mitjançant signes de puntuació: coma, punt i com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No és bo; és boníss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No s’ha gastat els diners, els ha guar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Tens febre, t’has de quedar al l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0605a"/>
                </a:solidFill>
                <a:latin typeface="Arial"/>
              </a:rPr>
              <a:t>L’oració subordinada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Les proposicions subordinade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s’uneixen a la principal mitjançant </a:t>
            </a:r>
            <a:r>
              <a:rPr b="0" lang="ca-ES" sz="1800" spc="-1" strike="noStrike" u="sng">
                <a:solidFill>
                  <a:srgbClr val="558f7d"/>
                </a:solidFill>
                <a:uFillTx/>
                <a:latin typeface="Arial"/>
              </a:rPr>
              <a:t>nex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subordinants que tenen una funció dins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 diferència de les oracions coordinades i juxtaposades, en aquestes 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hi ha una proposició principal i una altra de secundària, que depèn de la principal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Subordinades substantive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a proposició subordinada es pot substituir per un SN o un pronom (aix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Subordinades adjectives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a proposició es pot substituir per un adject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Subordinades adverbials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a proposició es pot substituir per un adjectiu (només les pròpi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0605a"/>
                </a:solidFill>
                <a:latin typeface="Arial"/>
              </a:rPr>
              <a:t>EXERCICI:</a:t>
            </a:r>
            <a:br>
              <a:rPr sz="2000"/>
            </a:br>
            <a:r>
              <a:rPr b="0" lang="es-ES" sz="2000" spc="-1" strike="noStrike">
                <a:solidFill>
                  <a:srgbClr val="30605a"/>
                </a:solidFill>
                <a:latin typeface="Arial"/>
              </a:rPr>
              <a:t>Digues el tipus d’oració composta.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nirem amb pocs cotxes, és a dir, agrupeu-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ra es dedica a vendre electrodomè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mpres el berenar? Doncs jo també en comp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’agrada que portis aquesta cam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’agradaria comprar aquesta masia, però no tinc prou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No tenia ganes de preparar el sop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No només vull el contracte sinó que també vull els di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ls que arribin tard, no entraran a la discote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Volia retrobar-lo o oblidar-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n Ramon talla la gespa, l’Agustí recull les fu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ra un somni irreal i era imagin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15331e"/>
                </a:solidFill>
                <a:uFillTx/>
                <a:latin typeface="Arial"/>
              </a:rPr>
              <a:t>L’oració subordinada adjectiva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19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adjectives són aquelles oracions que fan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 d’un adjecti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ins l’oració principal. Sempre va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ïdes per un pronom relatiu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’aquí que s’anomenin també oracions de relat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ificativ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fegeixen informació al nom de l’oració principal que és l’antecedent i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tringeixen el signific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alumne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ara s’han incorporat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aporten reflexions no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xplicatives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iteren la informació, ja coneguda, sobre l’oració principal i comenten l’anteceden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e restringir-n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significat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més l’expliqu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Aquestes oracions va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parades per 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n Sergi,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dibuixa molt bé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farà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batxillerat artí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2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’oració adjectiva complementa sempre un sintagma nominal que és l’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er tant, la funció que realitza aquesta subordinada é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ement del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nom relati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é un doble pap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llaç entre l’oració principal i la subordi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ó sintàctica. Com que és un pronom, substitueix en la subordinada una estructura de l’oració principal que realitzarà aquesta mateixa fun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s jugado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n entrenar dissabte ] estan lesion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cedent     Pron. Relat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els jugadors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ació subordinada adj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5229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4653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5640" y="530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07640" y="6021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9:05:25Z</dcterms:created>
  <dc:creator>mariu</dc:creator>
  <dc:description/>
  <dc:language>en-US</dc:language>
  <cp:lastModifiedBy> </cp:lastModifiedBy>
  <dcterms:modified xsi:type="dcterms:W3CDTF">2011-06-02T07:32:50Z</dcterms:modified>
  <cp:revision>37</cp:revision>
  <dc:subject/>
  <dc:title>SINTAXI</dc:title>
</cp:coreProperties>
</file>