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86575" cy="9677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5EBA-8806-4BEB-AD66-DF1C6F475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74B7-FB0D-45DF-982F-CA62C0347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49D5-42B4-48BD-BB9B-3CF56D372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E165-3E7E-4BDC-8B8D-34B9A6DEC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1DA15-90F3-4792-83D8-5B9030F83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BCF41-56C6-4067-868D-074F7CEDB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30BE6-B2C2-4668-83BD-8182EFD21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4B91B-2037-42E0-8A53-652815638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56FE1-B0A2-4067-B110-BF0274693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68760-1A92-4AF0-85E0-2ADCC74B6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F5166-B6C3-4015-A84D-1856834F2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E0C2-1BB0-428B-8286-40BB71FDA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46ED5-ED85-4C30-A409-6986C3AAE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8BC7B-E97E-4111-956A-BE895F81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11557-B926-42E1-BDDD-3A09149CB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F54E4-FD12-4FEB-BE3B-06F522809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A4B6B-D63A-4EB6-B34D-E4358C620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0CBF-BFA1-4FD4-AA90-E148F492B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E8B3-3EFC-4713-B41F-6DFFA0D57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8E54-9304-4298-9E3B-506261FA5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3B28-B241-4CFA-A121-EBBA9105E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817E-6BD3-4908-814B-FCEDA439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4505-8D45-4A16-A1EE-529F72FD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5A7D-8772-4283-9EB2-379591158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8aa79c"/>
                </a:gs>
                <a:gs pos="50000">
                  <a:srgbClr val="a4c6ba"/>
                </a:gs>
                <a:gs pos="100000">
                  <a:srgbClr val="8aa79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139"/>
                </a:gs>
                <a:gs pos="50000">
                  <a:srgbClr val="558f7d"/>
                </a:gs>
                <a:gs pos="100000">
                  <a:srgbClr val="2741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A996F-65D4-4360-8BBA-48DCA3FA135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8aa79c"/>
                </a:gs>
                <a:gs pos="50000">
                  <a:srgbClr val="a4c6ba"/>
                </a:gs>
                <a:gs pos="100000">
                  <a:srgbClr val="8aa79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139"/>
                </a:gs>
                <a:gs pos="50000">
                  <a:srgbClr val="558f7d"/>
                </a:gs>
                <a:gs pos="100000">
                  <a:srgbClr val="2741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35223-4591-41C3-8604-636FD5FF97D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6920" y="2204640"/>
            <a:ext cx="662472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15331e"/>
                </a:solidFill>
                <a:latin typeface="Tahoma"/>
              </a:rPr>
              <a:t>SINTAXI </a:t>
            </a:r>
            <a:br>
              <a:rPr sz="4000"/>
            </a:br>
            <a:r>
              <a:rPr b="1" lang="es-ES" sz="4000" spc="-1" strike="noStrike">
                <a:solidFill>
                  <a:srgbClr val="15331e"/>
                </a:solidFill>
                <a:latin typeface="Tahoma"/>
              </a:rPr>
              <a:t>L’oració composta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752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quests són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s pronoms relatius i les funcion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que poden substituir en una oració compos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U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àton): pot substituir les funcions de subjecte, CD i CC de temps. Aquest pronom en les oracions explicatives pot ser substituït per la form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qual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marq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o pot portar mai una preposició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al davant. És incorrecta la form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l llapis 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amb que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escrius és molt v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ón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correctes les construccions: preposició + article + qu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No està ben construïda la fra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ls amics 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amb els que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surts s’ho passen molt bé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només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és correcta la construcció d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’article + que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, si es pot substituir per: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aquell/a/s/es + que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, o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això + que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nota les seves notes i 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les que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(aquelles que)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treu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l seu germà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l que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(això que)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dius és molt importa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7273800" cy="59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UÈ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tònic): pot substituir les funcions de C.Prep i CC quan es refereix a coses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marq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aquest pronom sempre v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ecedit per una preposició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Es pot substituir per la construcció variable: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ep + art + qual/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emp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L’ordinador 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amb el qual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escrius té el teclat br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L’ordinador 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amb què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escrius té el teclat br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734544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UI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sempre es refereix a persones i pot realitzar les funcions de CI, CPrep i CC. Sempre es refereix a persones i pot realitzar les funcions de CI, CPrep i CC. Pot anar precedit de preposició i pot substituir-se per la forma compost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ep+art+qual/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emp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ls professors 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amb qui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vas anar de viatge han marxat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l’esco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ls professors 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amb els quals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vas anar de viatge han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marxat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de l’esco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394920" y="189000"/>
            <a:ext cx="7201080" cy="59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es considera un relatiu adverbial i realitza les funcions de CC de lloc. No l’hem de confondre amb l’adverbi de lloc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 pot substituir per les construccions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 què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qual, la qual, els quals, les qua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emp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quest estiu viatjaré a un país 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n què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els mosquits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semblen av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quest estiu viatjaré a un país 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on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n el qual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ls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mosquits semblen av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720072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+ARTICLE+QUAL/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realitza la funció de CN respecte al seu antecedent. Aquestes construccions sempre són explicati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e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Vaig veure la pel·lícula, els actors 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de la qual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són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arcelon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SA QUE, FET QUE, LA QUAL COS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el relatiu es refereix a tota una oració, la quat té per antecedent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questes construccions són sempre explicati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emple: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Té un riure molt escandalós, 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cosa que / fet que / la qual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osa li planteja problemes gre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18880" y="691920"/>
            <a:ext cx="74768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 u="sng">
                <a:solidFill>
                  <a:srgbClr val="15331e"/>
                </a:solidFill>
                <a:uFillTx/>
                <a:latin typeface="Arial"/>
              </a:rPr>
              <a:t>L’oració subordinada substantiva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9280" y="1413000"/>
            <a:ext cx="698508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’oració subordinada substantiva és aquella oració que realitza la funció pròpia d’un substantiu de l’oració princip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e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l vencedor rebrà un premi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ració 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Qui guanyi la cursa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rebrà un premi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Or. Compo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Oració subordinada substanti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427640" y="350028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48360" y="3860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323640" y="259920"/>
            <a:ext cx="712764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es oracions subordinades substantives es poden classificar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gons les funcions possibles del S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n l’oració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bject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substitueixen el subjecte, l’agent de l’acció, dins la princip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empl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ns convé 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que vinguis ben de pressa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substitueixen el CD de la principal, indicant, per tant, l’objecte sobre el qual recau l’acció del ver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e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Hem decidit 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que farem un viatge per Nadal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tribut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substitueixen l’atribut de l’oració principal formada amb un verb copulatiu (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ser, estar, semblar i aparenta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, de manera que indiquen una qualitat relativa al subjecte de la princip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e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La qüestió bàsica és 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triar el pressupost adequat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395280" y="189000"/>
            <a:ext cx="712944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substitueixen el complement indirecte, és a dir que indiquen qui rep l’acció de l’oració princip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e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L’Anna repartia els fulletons 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a qui li semblava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prep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substitueixen el complement preposicional de l’oració princip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e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L’editor insisteix 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que la feina es revisi dues veg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substitueixen el complement d’un nom, presentant una característica o qualitat que especifica el seu signific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e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L’Anna tenia el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pressentiment 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que no vindries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Adj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complementen un adjectiu, acabant-ne de precisar el signific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e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n Quim se sent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feliç 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que te l’escoltis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263520" y="189000"/>
            <a:ext cx="738648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 u="sng">
                <a:solidFill>
                  <a:srgbClr val="15331e"/>
                </a:solidFill>
                <a:uFillTx/>
                <a:latin typeface="Arial"/>
              </a:rPr>
              <a:t>Tipus de nex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es oracions subordinades substantives poden tenir estructures sintàctiques  que s’uneixen a la principal mitjançant elements d’enllaç específic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5331e"/>
                </a:solidFill>
                <a:latin typeface="Arial"/>
              </a:rPr>
              <a:t>Conjunció </a:t>
            </a:r>
            <a:r>
              <a:rPr b="0" i="1" lang="es-ES" sz="1800" spc="-1" strike="noStrike">
                <a:solidFill>
                  <a:srgbClr val="15331e"/>
                </a:solidFill>
                <a:latin typeface="Arial"/>
              </a:rPr>
              <a:t>que </a:t>
            </a:r>
            <a:r>
              <a:rPr b="0" lang="es-ES" sz="1800" spc="-1" strike="noStrike">
                <a:solidFill>
                  <a:srgbClr val="15331e"/>
                </a:solidFill>
                <a:latin typeface="Arial"/>
              </a:rPr>
              <a:t>+ oració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La meva mare vol </a:t>
            </a:r>
            <a:r>
              <a:rPr b="1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que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passegi el gos cada vespr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M’agrada </a:t>
            </a:r>
            <a:r>
              <a:rPr b="1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que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m’escriguis poem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5331e"/>
                </a:solidFill>
                <a:latin typeface="Arial"/>
              </a:rPr>
              <a:t>Pronom de relatiu + oració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Qui 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sàpiga la resposta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que alci la mà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Ho va dir </a:t>
            </a:r>
            <a:r>
              <a:rPr b="1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l que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acabava d’estossegar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5331e"/>
                </a:solidFill>
                <a:latin typeface="Arial"/>
              </a:rPr>
              <a:t>Pronom interrogati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L’encarregat ens dirà </a:t>
            </a:r>
            <a:r>
              <a:rPr b="1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on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hem de lliurar l’imprè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m pot dir </a:t>
            </a:r>
            <a:r>
              <a:rPr b="1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quan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ens costaran aquestes reparacions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263520" y="259920"/>
            <a:ext cx="73864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5331e"/>
                </a:solidFill>
                <a:latin typeface="Arial"/>
              </a:rPr>
              <a:t>Infinitiu+complements verba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M’ha satisfet </a:t>
            </a:r>
            <a:r>
              <a:rPr b="1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fer 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bé la fe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La solució ha estat </a:t>
            </a:r>
            <a:r>
              <a:rPr b="1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traslladar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l’empresa als afores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. L’infinitiu pot anar precedit de la preposició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l motorista es proposava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d’avançar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el seu riv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Les protestes contribuïen </a:t>
            </a:r>
            <a:r>
              <a:rPr b="1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a crear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un bon clima de treba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 En les oracions d’infinitiu, encara que no té marca de persona i   no hi ha subjecte gramatical, es pot distingir un subjecte lògic de l’acció expressada pel verb que es dedueix del con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La nena m’ha promès </a:t>
            </a:r>
            <a:r>
              <a:rPr b="1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fer 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la feina ara mateix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 subjecte lògic de l’ácció és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ne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(la nena farà la feina ara matei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755640" y="476280"/>
            <a:ext cx="734544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opulat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Disjunt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Adversat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s-ES" sz="1200" spc="-1" strike="noStrike">
                <a:solidFill>
                  <a:srgbClr val="30605a"/>
                </a:solidFill>
                <a:latin typeface="Tahoma"/>
              </a:rPr>
              <a:t>Coordinades</a:t>
            </a:r>
            <a:r>
              <a:rPr b="0" lang="es-ES" sz="1200" spc="-1" strike="noStrike">
                <a:solidFill>
                  <a:srgbClr val="a4c6ba"/>
                </a:solidFill>
                <a:latin typeface="Tahoma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        Il·lat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Distribut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Explicat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Adjectives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     Especificat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Explicat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5331e"/>
                </a:solidFill>
                <a:latin typeface="Tahoma"/>
              </a:rPr>
              <a:t>L’ORACI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5331e"/>
                </a:solidFill>
                <a:latin typeface="Tahoma"/>
              </a:rPr>
              <a:t>COMPOSTA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de Subjecte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     Completiva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de C. direc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d’atrib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D’infinitiu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de C. indirec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s-ES" sz="1200" spc="-1" strike="noStrike">
                <a:solidFill>
                  <a:srgbClr val="30605a"/>
                </a:solidFill>
                <a:latin typeface="Tahoma"/>
              </a:rPr>
              <a:t> </a:t>
            </a:r>
            <a:r>
              <a:rPr b="0" lang="es-ES" sz="1200" spc="-1" strike="noStrike">
                <a:solidFill>
                  <a:srgbClr val="30605a"/>
                </a:solidFill>
                <a:latin typeface="Tahoma"/>
              </a:rPr>
              <a:t>Subordinades 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      Substantives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de C. preposic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Interrog. indirecte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de C. de n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de C. d’adjecti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De relati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Tempo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Locat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Mod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Adverbials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     Comparativa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     Consecut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ondic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                       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oncess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au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F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1619280" y="1341000"/>
            <a:ext cx="431640" cy="13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619280" y="2708280"/>
            <a:ext cx="43164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03640" y="47628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03640" y="1916280"/>
            <a:ext cx="0" cy="35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00720" y="1844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227640" y="2708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500720" y="465300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00720" y="2781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263520" y="189000"/>
            <a:ext cx="738648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15331e"/>
                </a:solidFill>
                <a:uFillTx/>
                <a:latin typeface="Arial"/>
              </a:rPr>
              <a:t>Record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15331e"/>
                </a:solidFill>
                <a:latin typeface="Arial"/>
              </a:rPr>
              <a:t>Caiguda de la preposic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es preposicions que enllacen complements al nom, a l’adjectiu o al verb despareixen quan l’estructura que complementa aquestes paraules és introduïda per la conjunció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qu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La idea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… / La ide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Ø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que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l’espiïn la turmen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És conscien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… / És conscient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Ø que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tot ha de canviar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d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’oblid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… / S’oblid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Ø qu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el temps passa ràp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Pr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vé, doncs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itar el fenomen del dequeis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anteposició incorrecta de la preposició a una conjunció: *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 t’he avisat de que ven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203640" y="227664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788000" y="2276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3203280" y="256536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140360" y="350028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651640" y="3500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4140360" y="386064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348000" y="472428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716360" y="465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3419640" y="501336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263520" y="404280"/>
            <a:ext cx="738648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15331e"/>
                </a:solidFill>
                <a:uFillTx/>
                <a:latin typeface="Arial"/>
              </a:rPr>
              <a:t>Canvi de la preposició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es preposicions que introdueixen un complement preposicional només poder ser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quan aquest és una subordinada formada per un infinitiu i els seus complements (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ai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en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+ infinitiu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L’acusat insistia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en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la seva innocèn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L’acusat insistia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a afirmar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la seva innocèn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ns amenaçava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amb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la dimissi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ns amenaçava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a/de dimitir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263520" y="404640"/>
            <a:ext cx="738648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15331e"/>
                </a:solidFill>
                <a:uFillTx/>
                <a:latin typeface="Arial"/>
              </a:rPr>
              <a:t>Det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vé recordar que la paraula que pot ser, segons el context en què es trob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junció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només relaciona elements, una oració al verb de la princip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Vigilava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que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les criatures no caiguessin dels gronxador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 Pronom de relatiu: a més de relacionar la subordinada a la principal, el pronom substitueix un element sintàctic de la subordinad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l bolígraf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que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li he deixat no és meu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. Adverbi: sol acompanyar un adjecti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Que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bonic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263520" y="333000"/>
            <a:ext cx="738648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ot i que són poc freqüents, és possible trobar subordinades substantives que complementen un adverbi, co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e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ls paleontòlegs eren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lluny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de trobar una resposta per a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aquell misteri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dverbi       Oració sub. Substant. CAd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l recordar que en català no és possible l’ús d’un infinitiu precedit d’article i que, en conseqüència, són construccions incorrectes i que es corregeixen fàcilment sense l’artic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l fumar perjudica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   Fumar perjud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*El saber no destorba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   Saber no destorb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4067280" y="20606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276720" y="436572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564000" y="4653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7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15331e"/>
                </a:solidFill>
                <a:latin typeface="Arial"/>
              </a:rPr>
              <a:t>L’oració subordinada adverbial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63520" y="907920"/>
            <a:ext cx="738648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es oracions subordinades adverbials són aquelles que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an funcions pròpies d’un adverbi o sintagma adverbial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dins l’oració principal; per tant, equivalen a un complement circumstanci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niré a treballar   demà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adverbi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Circum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quan em trobi bé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oració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CCircum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i h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s grup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bàsics d’oracions subordinades adverbia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.PRÒPIES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mplementen un ver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locatives, temporals i modal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e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Jo aniré on vulgu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IMPRÒPIES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mplementen tota l’oració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comparatives, consecutives, condicionals, concessives, causals i final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e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Parlo 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perquè vull.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0" y="2637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651640" y="2924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987640" y="2492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263520" y="333000"/>
            <a:ext cx="73864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es oracions  subordinades adverbials poden ser de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iferents tipu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emporals (o de temps)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ituen en el temps. Poden indicar una relació de simultaneïtat, l’anterioritat o la posteriorit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15331e"/>
                </a:solidFill>
                <a:latin typeface="Arial"/>
              </a:rPr>
              <a:t>Nexes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quan, aleshores, abans que, després que, des qu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e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Quan et vingui bé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, fes-me aquest fav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ocatives (o de lloc)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indiquen el lloc on transcorre l’acci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15331e"/>
                </a:solidFill>
                <a:latin typeface="Arial"/>
              </a:rPr>
              <a:t>Nexes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on, fins on, allà on, pertot o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e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nirem 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a on tu voldrà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odals (o de mode)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pressen la manera com es realitza l’acci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15331e"/>
                </a:solidFill>
                <a:latin typeface="Arial"/>
              </a:rPr>
              <a:t>Nexes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om, segons com, en la mesura que, igual qu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e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Fes-ho com vulgu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263520" y="259920"/>
            <a:ext cx="73864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mparatives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stableixen una comparació amb l’oració princip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15331e"/>
                </a:solidFill>
                <a:latin typeface="Arial"/>
              </a:rPr>
              <a:t>Nex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Igualtat: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tan/tant… com, tal com, així… com, tal qual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-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perioritat i Inferioritat: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més… que/ de/ que no pas, menys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que/ de/ que no/ que no pas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Proporcionalitat: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om més… menys, quant més… més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e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No plou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tant com jo espera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secutives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pressen una acció que és conseqüència de l’oració princip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15331e"/>
                </a:solidFill>
                <a:latin typeface="Arial"/>
              </a:rPr>
              <a:t>Nexes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tan… que, tant(s)… que, tal(s)… que, talment… q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e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Hi veig tan bé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que no me´n sé aveni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dicionals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diquen una condició imprescindible perquè es compleixi allò que s’expressa en la proposició princip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15331e"/>
                </a:solidFill>
                <a:latin typeface="Arial"/>
              </a:rPr>
              <a:t>Nexes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si, amb que, mentre que, en cas que, tret que, només que, posat que, llevat que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e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Si plou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, no ens mour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263520" y="260280"/>
            <a:ext cx="738648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cessives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subordinada representa un obstacle a l’acció expressada per l’oració princip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15331e"/>
                </a:solidFill>
                <a:latin typeface="Arial"/>
              </a:rPr>
              <a:t>Nexes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ncara que, tot i que, per més que, malgrat que, a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pesar de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e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ncara que no t’agradi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t’ho has de menj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ausal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indiquen la causa o la raó de l’acció que s’expressa en l’oració princip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15331e"/>
                </a:solidFill>
                <a:latin typeface="Arial"/>
              </a:rPr>
              <a:t>Nexes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perquè, ja que, com que, atès que, vist que, a causa que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empl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stic amoïnat 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perquè ningú no m’ajud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inals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xpressen l’objectiu o intenció amb què es realitza allò que es manifesta a l’oració princip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15331e"/>
                </a:solidFill>
                <a:latin typeface="Arial"/>
              </a:rPr>
              <a:t>Nexes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perquè, a fi de/que, per tal de/que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e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Ho dic 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a fi que tothom ho sàpiga.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558f7d"/>
                </a:solidFill>
                <a:latin typeface="Arial"/>
              </a:rPr>
              <a:t>L’oració coordinada</a:t>
            </a:r>
            <a:endParaRPr b="0" lang="en-US" sz="24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23640" y="765000"/>
            <a:ext cx="712764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a4c6ba"/>
                </a:solidFill>
                <a:latin typeface="Arial"/>
              </a:rPr>
              <a:t>	</a:t>
            </a:r>
            <a:r>
              <a:rPr b="1" lang="ca-ES" sz="1800" spc="-1" strike="noStrike">
                <a:solidFill>
                  <a:srgbClr val="30605a"/>
                </a:solidFill>
                <a:latin typeface="Arial"/>
              </a:rPr>
              <a:t>L’oració coordinada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 és aquella formada per dues o més oracions- proposicions- amb la mateixa funció gramatical- les dues clàusules tenen la mateixa importància-, les quals s’uneixen al mateix nivell mitjançant un element d’enllaç,conjunc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558f7d"/>
                </a:solidFill>
                <a:latin typeface="Arial"/>
              </a:rPr>
              <a:t>Tipus</a:t>
            </a:r>
            <a:r>
              <a:rPr b="0" lang="ca-ES" sz="1800" spc="-1" strike="noStrike">
                <a:solidFill>
                  <a:srgbClr val="558f7d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Les oracions coordinades es classifiquen segons les conjuncions que les enllacen i el matís de significat que aport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451"/>
              </a:spcBef>
              <a:buClr>
                <a:srgbClr val="558f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558f7d"/>
                </a:solidFill>
                <a:latin typeface="Arial"/>
              </a:rPr>
              <a:t>Copulatives</a:t>
            </a:r>
            <a:r>
              <a:rPr b="0" lang="ca-ES" sz="1800" spc="-1" strike="noStrike">
                <a:solidFill>
                  <a:srgbClr val="558f7d"/>
                </a:solidFill>
                <a:latin typeface="Arial"/>
              </a:rPr>
              <a:t>: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 expressen </a:t>
            </a:r>
            <a:r>
              <a:rPr b="1" lang="ca-ES" sz="1800" spc="-1" strike="noStrike">
                <a:solidFill>
                  <a:srgbClr val="000000"/>
                </a:solidFill>
                <a:latin typeface="Arial"/>
              </a:rPr>
              <a:t>suma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. Les conjuncions copulatives són: </a:t>
            </a:r>
            <a:r>
              <a:rPr b="1" i="1" lang="ca-ES" sz="1800" spc="-1" strike="noStrike">
                <a:solidFill>
                  <a:srgbClr val="000000"/>
                </a:solidFill>
                <a:latin typeface="Arial"/>
              </a:rPr>
              <a:t>i, 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Exemple: </a:t>
            </a:r>
            <a:r>
              <a:rPr b="0" i="1" lang="ca-ES" sz="1800" spc="-1" strike="noStrike">
                <a:solidFill>
                  <a:srgbClr val="000000"/>
                </a:solidFill>
                <a:latin typeface="Arial"/>
              </a:rPr>
              <a:t>L’Amèlia llegeix una novel·la</a:t>
            </a:r>
            <a:r>
              <a:rPr b="0" i="1" lang="ca-ES" sz="1800" spc="-1" strike="noStrike" u="sng">
                <a:solidFill>
                  <a:srgbClr val="000000"/>
                </a:solidFill>
                <a:uFillTx/>
                <a:latin typeface="Arial"/>
              </a:rPr>
              <a:t> i </a:t>
            </a:r>
            <a:r>
              <a:rPr b="0" i="1" lang="ca-ES" sz="1800" spc="-1" strike="noStrike">
                <a:solidFill>
                  <a:srgbClr val="000000"/>
                </a:solidFill>
                <a:latin typeface="Arial"/>
              </a:rPr>
              <a:t>l’Arnau resol </a:t>
            </a:r>
            <a:r>
              <a:rPr b="0" i="1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a-ES" sz="1800" spc="-1" strike="noStrike">
                <a:solidFill>
                  <a:srgbClr val="000000"/>
                </a:solidFill>
                <a:latin typeface="Arial"/>
              </a:rPr>
              <a:t>  els mots encreuats del diar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451"/>
              </a:spcBef>
              <a:buClr>
                <a:srgbClr val="558f7d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558f7d"/>
                </a:solidFill>
                <a:latin typeface="Arial"/>
              </a:rPr>
              <a:t>Disjuntives:</a:t>
            </a:r>
            <a:r>
              <a:rPr b="1" lang="ca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expressen </a:t>
            </a:r>
            <a:r>
              <a:rPr b="1" lang="ca-ES" sz="1800" spc="-1" strike="noStrike">
                <a:solidFill>
                  <a:srgbClr val="000000"/>
                </a:solidFill>
                <a:latin typeface="Arial"/>
              </a:rPr>
              <a:t>opció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. Les conjuncions disjuntives són: </a:t>
            </a:r>
            <a:r>
              <a:rPr b="1" i="1" lang="ca-ES" sz="1800" spc="-1" strike="noStrike">
                <a:solidFill>
                  <a:srgbClr val="000000"/>
                </a:solidFill>
                <a:latin typeface="Arial"/>
              </a:rPr>
              <a:t>o, o bé, o sinó</a:t>
            </a:r>
            <a:r>
              <a:rPr b="0" i="1" lang="ca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Exemple: </a:t>
            </a:r>
            <a:r>
              <a:rPr b="0" i="1" lang="ca-ES" sz="1800" spc="-1" strike="noStrike">
                <a:solidFill>
                  <a:srgbClr val="000000"/>
                </a:solidFill>
                <a:latin typeface="Arial"/>
              </a:rPr>
              <a:t>Farem una festa a la terrassa </a:t>
            </a:r>
            <a:r>
              <a:rPr b="0" i="1" lang="ca-ES" sz="1800" spc="-1" strike="noStrike" u="sng">
                <a:solidFill>
                  <a:srgbClr val="000000"/>
                </a:solidFill>
                <a:uFillTx/>
                <a:latin typeface="Arial"/>
              </a:rPr>
              <a:t>o bé</a:t>
            </a:r>
            <a:r>
              <a:rPr b="0" i="1" lang="ca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a-ES" sz="1800" spc="-1" strike="noStrike">
                <a:solidFill>
                  <a:srgbClr val="000000"/>
                </a:solidFill>
                <a:latin typeface="Arial"/>
              </a:rPr>
              <a:t>   convidarem els amics al restaura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719928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451"/>
              </a:spcBef>
              <a:buClr>
                <a:srgbClr val="558f7d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558f7d"/>
                </a:solidFill>
                <a:latin typeface="Arial"/>
              </a:rPr>
              <a:t>Adversatives</a:t>
            </a:r>
            <a:r>
              <a:rPr b="0" lang="ca-ES" sz="1800" spc="-1" strike="noStrike">
                <a:solidFill>
                  <a:srgbClr val="558f7d"/>
                </a:solidFill>
                <a:latin typeface="Arial"/>
              </a:rPr>
              <a:t>: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 expressen </a:t>
            </a:r>
            <a:r>
              <a:rPr b="1" lang="ca-ES" sz="1800" spc="-1" strike="noStrike">
                <a:solidFill>
                  <a:srgbClr val="000000"/>
                </a:solidFill>
                <a:latin typeface="Arial"/>
              </a:rPr>
              <a:t>oposició.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 Les conjuncions adversatives són </a:t>
            </a:r>
            <a:r>
              <a:rPr b="1" i="1" lang="ca-ES" sz="1800" spc="-1" strike="noStrike">
                <a:solidFill>
                  <a:srgbClr val="000000"/>
                </a:solidFill>
                <a:latin typeface="Arial"/>
              </a:rPr>
              <a:t>però, sinó, tanmateix, no obstant això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Exemple: </a:t>
            </a:r>
            <a:r>
              <a:rPr b="0" i="1" lang="ca-ES" sz="1800" spc="-1" strike="noStrike">
                <a:solidFill>
                  <a:srgbClr val="000000"/>
                </a:solidFill>
                <a:latin typeface="Arial"/>
              </a:rPr>
              <a:t>Vam oblidar-nos els bombons a casa, </a:t>
            </a:r>
            <a:r>
              <a:rPr b="0" i="1" lang="ca-ES" sz="1800" spc="-1" strike="noStrike" u="sng">
                <a:solidFill>
                  <a:srgbClr val="000000"/>
                </a:solidFill>
                <a:uFillTx/>
                <a:latin typeface="Arial"/>
              </a:rPr>
              <a:t>però</a:t>
            </a:r>
            <a:r>
              <a:rPr b="0" i="1" lang="ca-ES" sz="1800" spc="-1" strike="noStrike">
                <a:solidFill>
                  <a:srgbClr val="000000"/>
                </a:solidFill>
                <a:latin typeface="Arial"/>
              </a:rPr>
              <a:t> li </a:t>
            </a:r>
            <a:r>
              <a:rPr b="0" i="1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a-ES" sz="1800" spc="-1" strike="noStrike">
                <a:solidFill>
                  <a:srgbClr val="000000"/>
                </a:solidFill>
                <a:latin typeface="Arial"/>
              </a:rPr>
              <a:t>  vam comprar un ram de fl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451"/>
              </a:spcBef>
              <a:buClr>
                <a:srgbClr val="558f7d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558f7d"/>
                </a:solidFill>
                <a:latin typeface="Arial"/>
              </a:rPr>
              <a:t>Il·latives</a:t>
            </a:r>
            <a:r>
              <a:rPr b="0" lang="ca-ES" sz="1800" spc="-1" strike="noStrike">
                <a:solidFill>
                  <a:srgbClr val="558f7d"/>
                </a:solidFill>
                <a:latin typeface="Arial"/>
              </a:rPr>
              <a:t>: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 expressen </a:t>
            </a:r>
            <a:r>
              <a:rPr b="1" lang="ca-ES" sz="1800" spc="-1" strike="noStrike">
                <a:solidFill>
                  <a:srgbClr val="000000"/>
                </a:solidFill>
                <a:latin typeface="Arial"/>
              </a:rPr>
              <a:t>conseqüència.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 Les conjuncions il·latives són </a:t>
            </a:r>
            <a:r>
              <a:rPr b="1" i="1" lang="ca-ES" sz="1800" spc="-1" strike="noStrike">
                <a:solidFill>
                  <a:srgbClr val="000000"/>
                </a:solidFill>
                <a:latin typeface="Arial"/>
              </a:rPr>
              <a:t>doncs, per tant, de manera qu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Exemple: </a:t>
            </a:r>
            <a:r>
              <a:rPr b="0" i="1" lang="ca-ES" sz="1800" spc="-1" strike="noStrike">
                <a:solidFill>
                  <a:srgbClr val="000000"/>
                </a:solidFill>
                <a:latin typeface="Arial"/>
              </a:rPr>
              <a:t>Estàs refredat? </a:t>
            </a:r>
            <a:r>
              <a:rPr b="0" i="1" lang="ca-ES" sz="1800" spc="-1" strike="noStrike" u="sng">
                <a:solidFill>
                  <a:srgbClr val="000000"/>
                </a:solidFill>
                <a:uFillTx/>
                <a:latin typeface="Arial"/>
              </a:rPr>
              <a:t>Doncs</a:t>
            </a:r>
            <a:r>
              <a:rPr b="0" i="1" lang="ca-ES" sz="1800" spc="-1" strike="noStrike">
                <a:solidFill>
                  <a:srgbClr val="000000"/>
                </a:solidFill>
                <a:latin typeface="Arial"/>
              </a:rPr>
              <a:t> no vagis a pisc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451"/>
              </a:spcBef>
              <a:buClr>
                <a:srgbClr val="558f7d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558f7d"/>
                </a:solidFill>
                <a:latin typeface="Arial"/>
              </a:rPr>
              <a:t>Distributives</a:t>
            </a:r>
            <a:r>
              <a:rPr b="0" lang="ca-ES" sz="1800" spc="-1" strike="noStrike">
                <a:solidFill>
                  <a:srgbClr val="558f7d"/>
                </a:solidFill>
                <a:latin typeface="Arial"/>
              </a:rPr>
              <a:t>: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 expressen </a:t>
            </a:r>
            <a:r>
              <a:rPr b="1" lang="ca-ES" sz="1800" spc="-1" strike="noStrike">
                <a:solidFill>
                  <a:srgbClr val="000000"/>
                </a:solidFill>
                <a:latin typeface="Arial"/>
              </a:rPr>
              <a:t>alternança o distribució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. Les conjuncions, sempre dobles i precedint cada una de les proposicions, són </a:t>
            </a:r>
            <a:r>
              <a:rPr b="1" i="1" lang="ca-ES" sz="1800" spc="-1" strike="noStrike">
                <a:solidFill>
                  <a:srgbClr val="000000"/>
                </a:solidFill>
                <a:latin typeface="Arial"/>
              </a:rPr>
              <a:t>ni… ni, ara… ara, ja… ja, mig… mig, etc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Exemple: </a:t>
            </a:r>
            <a:r>
              <a:rPr b="0" i="1" lang="ca-ES" sz="18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0" i="1" lang="ca-ES" sz="1800" spc="-1" strike="noStrike">
                <a:solidFill>
                  <a:srgbClr val="000000"/>
                </a:solidFill>
                <a:latin typeface="Arial"/>
              </a:rPr>
              <a:t> passegem per la Rambla </a:t>
            </a:r>
            <a:r>
              <a:rPr b="0" i="1" lang="ca-ES" sz="18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0" i="1" lang="ca-ES" sz="1800" spc="-1" strike="noStrike">
                <a:solidFill>
                  <a:srgbClr val="000000"/>
                </a:solidFill>
                <a:latin typeface="Arial"/>
              </a:rPr>
              <a:t> visitem </a:t>
            </a:r>
            <a:r>
              <a:rPr b="0" i="1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a-ES" sz="1800" spc="-1" strike="noStrike">
                <a:solidFill>
                  <a:srgbClr val="000000"/>
                </a:solidFill>
                <a:latin typeface="Arial"/>
              </a:rPr>
              <a:t>   l’exposició del MACBA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451"/>
              </a:spcBef>
              <a:buClr>
                <a:srgbClr val="558f7d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558f7d"/>
                </a:solidFill>
                <a:latin typeface="Arial"/>
              </a:rPr>
              <a:t>Explicatives</a:t>
            </a:r>
            <a:r>
              <a:rPr b="0" lang="ca-ES" sz="1800" spc="-1" strike="noStrike">
                <a:solidFill>
                  <a:srgbClr val="558f7d"/>
                </a:solidFill>
                <a:latin typeface="Arial"/>
              </a:rPr>
              <a:t>: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 expressen un </a:t>
            </a:r>
            <a:r>
              <a:rPr b="1" lang="ca-ES" sz="1800" spc="-1" strike="noStrike">
                <a:solidFill>
                  <a:srgbClr val="000000"/>
                </a:solidFill>
                <a:latin typeface="Arial"/>
              </a:rPr>
              <a:t>aclariment. 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Solen portar signes de puntuació. Les conjuncions són </a:t>
            </a:r>
            <a:r>
              <a:rPr b="1" i="1" lang="ca-ES" sz="1800" spc="-1" strike="noStrike">
                <a:solidFill>
                  <a:srgbClr val="000000"/>
                </a:solidFill>
                <a:latin typeface="Arial"/>
              </a:rPr>
              <a:t>és a dir, o sigui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Exemple: </a:t>
            </a:r>
            <a:r>
              <a:rPr b="0" i="1" lang="ca-ES" sz="1800" spc="-1" strike="noStrike">
                <a:solidFill>
                  <a:srgbClr val="000000"/>
                </a:solidFill>
                <a:latin typeface="Arial"/>
              </a:rPr>
              <a:t>Els pagesos estan sindicats, </a:t>
            </a:r>
            <a:r>
              <a:rPr b="0" i="1" lang="ca-ES" sz="1800" spc="-1" strike="noStrike" u="sng">
                <a:solidFill>
                  <a:srgbClr val="000000"/>
                </a:solidFill>
                <a:uFillTx/>
                <a:latin typeface="Arial"/>
              </a:rPr>
              <a:t>és a dir</a:t>
            </a:r>
            <a:r>
              <a:rPr b="0" i="1" lang="ca-ES" sz="1800" spc="-1" strike="noStrike">
                <a:solidFill>
                  <a:srgbClr val="000000"/>
                </a:solidFill>
                <a:latin typeface="Arial"/>
              </a:rPr>
              <a:t>, tenen     </a:t>
            </a:r>
            <a:r>
              <a:rPr b="0" i="1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a-ES" sz="1800" spc="-1" strike="noStrike">
                <a:solidFill>
                  <a:srgbClr val="000000"/>
                </a:solidFill>
                <a:latin typeface="Arial"/>
              </a:rPr>
              <a:t>representants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0605a"/>
                </a:solidFill>
                <a:latin typeface="Arial"/>
              </a:rPr>
              <a:t>L’oració juxtaposada</a:t>
            </a:r>
            <a:endParaRPr b="0" lang="en-US" sz="24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63520" y="1125000"/>
            <a:ext cx="738648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Les </a:t>
            </a:r>
            <a:r>
              <a:rPr b="0" lang="ca-ES" sz="2000" spc="-1" strike="noStrike">
                <a:solidFill>
                  <a:srgbClr val="558f7d"/>
                </a:solidFill>
                <a:latin typeface="Arial"/>
              </a:rPr>
              <a:t>proposicions coordinades</a:t>
            </a: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 que no portin cap enllaç seran les </a:t>
            </a:r>
            <a:r>
              <a:rPr b="0" lang="ca-ES" sz="2000" spc="-1" strike="noStrike">
                <a:solidFill>
                  <a:srgbClr val="558f7d"/>
                </a:solidFill>
                <a:latin typeface="Arial"/>
              </a:rPr>
              <a:t>oracions juxtaposa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Les reconeixerem perquè s’uneixen mitjançant signes de puntuació: coma, punt i coma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a-ES" sz="1800" spc="-1" strike="noStrike">
                <a:solidFill>
                  <a:srgbClr val="558f7d"/>
                </a:solidFill>
                <a:latin typeface="Arial"/>
              </a:rPr>
              <a:t>Exemp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No és bo; és boníssi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No s’ha gastat els diners, els ha guard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Tens febre, t’has de quedar al ll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0605a"/>
                </a:solidFill>
                <a:latin typeface="Arial"/>
              </a:rPr>
              <a:t>L’oració subordinada</a:t>
            </a:r>
            <a:endParaRPr b="0" lang="en-US" sz="32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63520" y="981000"/>
            <a:ext cx="738648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a-ES" sz="1800" spc="-1" strike="noStrike">
                <a:solidFill>
                  <a:srgbClr val="558f7d"/>
                </a:solidFill>
                <a:latin typeface="Arial"/>
              </a:rPr>
              <a:t>Les proposicions subordinades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 s’uneixen a la principal mitjançant </a:t>
            </a:r>
            <a:r>
              <a:rPr b="0" lang="ca-ES" sz="1800" spc="-1" strike="noStrike" u="sng">
                <a:solidFill>
                  <a:srgbClr val="558f7d"/>
                </a:solidFill>
                <a:uFillTx/>
                <a:latin typeface="Arial"/>
              </a:rPr>
              <a:t>nexes</a:t>
            </a:r>
            <a:r>
              <a:rPr b="0" lang="ca-ES" sz="1800" spc="-1" strike="noStrike">
                <a:solidFill>
                  <a:srgbClr val="558f7d"/>
                </a:solidFill>
                <a:latin typeface="Arial"/>
              </a:rPr>
              <a:t> 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subordinants que tenen una funció dins l’oració princip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A diferència de les oracions coordinades i juxtaposades, en aquestes </a:t>
            </a:r>
            <a:r>
              <a:rPr b="1" lang="ca-ES" sz="1800" spc="-1" strike="noStrike">
                <a:solidFill>
                  <a:srgbClr val="558f7d"/>
                </a:solidFill>
                <a:latin typeface="Arial"/>
              </a:rPr>
              <a:t>hi ha una proposició principal i una altra de secundària, que depèn de la principal</a:t>
            </a:r>
            <a:r>
              <a:rPr b="1" lang="ca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558f7d"/>
                </a:solidFill>
                <a:latin typeface="Arial"/>
              </a:rPr>
              <a:t>Tipu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a-ES" sz="1800" spc="-1" strike="noStrike">
                <a:solidFill>
                  <a:srgbClr val="558f7d"/>
                </a:solidFill>
                <a:latin typeface="Arial"/>
              </a:rPr>
              <a:t>Subordinades substantives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 La proposició subordinada es pot substituir per un SN o un pronom (això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a-ES" sz="1800" spc="-1" strike="noStrike">
                <a:solidFill>
                  <a:srgbClr val="558f7d"/>
                </a:solidFill>
                <a:latin typeface="Arial"/>
              </a:rPr>
              <a:t>Subordinades adjectives</a:t>
            </a:r>
            <a:r>
              <a:rPr b="0" lang="ca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 La proposició es pot substituir per un adjecti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a-ES" sz="1800" spc="-1" strike="noStrike">
                <a:solidFill>
                  <a:srgbClr val="558f7d"/>
                </a:solidFill>
                <a:latin typeface="Arial"/>
              </a:rPr>
              <a:t>Subordinades adverbials</a:t>
            </a:r>
            <a:r>
              <a:rPr b="0" lang="ca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 La proposició es pot substituir per un adjectiu (només les pròpi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0605a"/>
                </a:solidFill>
                <a:latin typeface="Arial"/>
              </a:rPr>
              <a:t>EXERCICI:</a:t>
            </a:r>
            <a:br>
              <a:rPr sz="2000"/>
            </a:br>
            <a:r>
              <a:rPr b="0" lang="es-ES" sz="2000" spc="-1" strike="noStrike">
                <a:solidFill>
                  <a:srgbClr val="30605a"/>
                </a:solidFill>
                <a:latin typeface="Arial"/>
              </a:rPr>
              <a:t>Digues el tipus d’oració composta.</a:t>
            </a:r>
            <a:endParaRPr b="0" lang="en-US" sz="2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Anirem amb pocs cotxes, és a dir, agrupeu-v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Ara es dedica a vendre electrodomèst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Compres el berenar? Doncs jo també en comp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M’agrada que portis aquesta cami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M’agradaria comprar aquesta masia, però no tinc prou capi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No tenia ganes de preparar el sop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No només vull el contracte sinó que també vull els din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Els que arribin tard, no entraran a la discote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Volia retrobar-lo o oblidar-l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En Ramon talla la gespa, l’Agustí recull les ful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Era un somni irreal i era imaginar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 u="sng">
                <a:solidFill>
                  <a:srgbClr val="15331e"/>
                </a:solidFill>
                <a:uFillTx/>
                <a:latin typeface="Arial"/>
              </a:rPr>
              <a:t>L’oració subordinada adjectiva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71992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es oracions subordinades adjectives són aquelles oracions que fan l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unció d’un adjectiu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dins l’oració principal. Sempre van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troduïdes per un pronom relatiu,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d’aquí que s’anomenin també oracions de relati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ipu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pecificativ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afegeixen informació al nom de l’oració principal que és l’antecedent i en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estringeixen el significat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emple: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ls alumnes 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que ara s’han incorporat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  aporten reflexions no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Explicatives: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iteren la informació, ja coneguda, sobre l’oració principal i comenten l’antecedent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nse restringir-n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l significat,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omés l’explique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Aquestes oracions van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parades per co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emple: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En Sergi, 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que dibuixa molt bé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, farà el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  batxillerat artíst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720072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’oració adjectiva complementa sempre un sintagma nominal que és l’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ntecedent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per tant, la funció que realitza aquesta subordinada és de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mplement del no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onom relatiu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té un doble pap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llaç entre l’oració principal i la subordin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unció sintàctica. Com que és un pronom, substitueix en la subordinada una estructura de l’oració principal que realitzarà aquesta mateixa funci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e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ls jugador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que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an entrenar dissabte ] estan lesiona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ntecedent     Pron. Relati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(els jugadors)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ració subordinada adje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556000" y="5229360"/>
            <a:ext cx="30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908000" y="465300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995640" y="5300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1907640" y="6021360"/>
            <a:ext cx="20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6T09:05:25Z</dcterms:created>
  <dc:creator>mariu</dc:creator>
  <dc:description/>
  <dc:language>en-US</dc:language>
  <cp:lastModifiedBy> </cp:lastModifiedBy>
  <dcterms:modified xsi:type="dcterms:W3CDTF">2011-06-02T07:32:50Z</dcterms:modified>
  <cp:revision>37</cp:revision>
  <dc:subject/>
  <dc:title>SINTAXI</dc:title>
</cp:coreProperties>
</file>