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6FAE-3B8B-42AF-86B8-766894C0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04C9-A75D-4AB3-B11F-66421C27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16CA-4675-464A-9FF9-3B1C0368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9BEE-ADB9-4528-8E04-D3907DA0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4BFE-52FD-4B8A-8515-E28257DE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E0AF-A730-4135-9AD1-215E6B1E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50B9-A207-4A60-BFA3-3DD1A17B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3425-E959-46C9-891A-C9B10C94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21EB-2AE0-4ECF-AAFB-47B786C8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330F-9A03-4347-98E7-0A006ED5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8803-E0A8-499E-BEEE-B2F49246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A6A-7390-4EEB-AC19-DD34E6C0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1183-91BB-4BCB-960F-EFA28B23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B9ED-42BF-4554-949F-D3A11197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7E54-BD52-4BC3-BE66-C5E4E742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734B-B09C-4A16-83B1-D94A5D21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BD55-3B26-452F-9B0B-B5904697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26CF-1F12-457D-BABF-F696E90B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70C4-2D66-4B67-BDB6-203DAE19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3C25-F9FA-459B-9F85-217B706F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376-375C-4D75-A549-C9C00FEE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FF2C-F345-4E36-BDD6-F75534D2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081-B25D-4275-8A23-F1E23B0E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F76F-ED40-4C1B-92FD-16551DD8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6F65-377C-4E1E-B813-69ACAA95F3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D645-1FFC-42C4-8432-2D2B7345F8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920" y="2204640"/>
            <a:ext cx="6624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5331e"/>
                </a:solidFill>
                <a:latin typeface="Tahoma"/>
              </a:rPr>
              <a:t>SINTAXI </a:t>
            </a:r>
            <a:br>
              <a:rPr sz="4000"/>
            </a:br>
            <a:r>
              <a:rPr b="1" lang="es-ES" sz="4000" spc="-1" strike="noStrike">
                <a:solidFill>
                  <a:srgbClr val="15331e"/>
                </a:solidFill>
                <a:latin typeface="Tahoma"/>
              </a:rPr>
              <a:t>L’oració composta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752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quests só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s pronoms relatius i les funcion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poden substituir en una oració compos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àton): pot substituir les funcions de subjecte, CD i CC de temps. Aquest pronom en les oracions explicatives pot ser substituït per la form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qu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mar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pot portar mai una preposici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l davant. És incorrecta la form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llapi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mb qu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escrius és molt v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ó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orrectes les construccions: preposició + article + qu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No està ben construïda la fr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s amic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mb els qu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surts s’ho passen molt bé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nomé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és correcta la construcció d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’article + qu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si es pot substituir per: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quell/a/s/es + qu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ixò + qu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nota les seves notes i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les qu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(aquelles que)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treu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seu germà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l qu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(això que)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dius és molt impor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72738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tònic): pot substituir les funcions de C.Prep i CC quan es refereix a cos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mar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aquest pronom sempre v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cedit per una preposici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Es pot substituir per la construcció variable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 + art + qual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’ordinador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mb el qual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escrius té el teclat br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’ordinador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mb què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escrius té el teclat br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734544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empre es refereix a persones i pot realitzar les funcions de CI, CPrep i CC. Sempre es refereix a persones i pot realitzar les funcions de CI, CPrep i CC. Pot anar precedit de preposició i pot substituir-se per la forma compost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+art+qual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s professor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mb qui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vas anar de viatge han marxat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’es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s professor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mb els qual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vas anar de viatge ha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arxat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e l’es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94920" y="189000"/>
            <a:ext cx="720108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s considera un relatiu adverbial i realitza les funcions de CC de lloc. No l’hem de confondre amb l’adverbi de lloc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pot substituir per les construccion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qu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qual, la qual, els quals, les qu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quest estiu viatjaré a un paí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n què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els mosquit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emblen av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quest estiu viatjaré a un paí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n el qua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osquits semblen av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720072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+ARTICLE+QUAL/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realitza la funció de CN respecte al seu antecedent. Aquestes construccions sempre són explica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Vaig veure la pel·lícula, els actor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e la qual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arcelo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SA QUE, FET QUE, LA QUAL CO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l relatiu es refereix a tota una oració, la quat té per antecedent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questes construccions són sempre explica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é un riure molt escandalós,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sa que / fet que / la qual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sa li planteja problemes gre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691920"/>
            <a:ext cx="74768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15331e"/>
                </a:solidFill>
                <a:uFillTx/>
                <a:latin typeface="Arial"/>
              </a:rPr>
              <a:t>L’oració subordinada substantiva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6985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’oració subordinada substantiva és aquella oració que realitza la funció pròpia d’un substantiu de l’oració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vencedor rebrà un premi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ació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i guanyi la curs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rebrà un prem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Or. Comp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ració subordinada substan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350028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48360" y="3860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71276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oracions subordinades substantives es poden classifica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gons les funcions possibles del S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n l’oraci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jec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ubstitueixen el subjecte, l’agent de l’acció, dins la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s convé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 vinguis ben de pressa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ubstitueixen el CD de la principal, indicant, per tant, l’objecte sobre el qual recau l’acció del ver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em decidit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 farem un viatge per Nadal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ribu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ubstitueixen l’atribut de l’oració principal formada amb un verb copulatiu (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er, estar, semblar i aparent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, de manera que indiquen una qualitat relativa al subjecte de la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qüestió bàsica é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riar el pressupost adequat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7129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ubstitueixen el complement indirecte, és a dir que indiquen qui rep l’acció de l’oració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’Anna repartia els fulleton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 qui li semblav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pre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ubstitueixen el complement preposicional de l’oració princip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’editor insisteix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 la feina es revisi dues veg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ubstitueixen el complement d’un nom, presentant una característica o qualitat que especifica el seu signifi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’Anna tenia el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ressentiment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 no vindrie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dj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mplementen un adjectiu, acabant-ne de precisar el signifi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 Quim se sent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eliç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 te l’escolti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63520" y="189000"/>
            <a:ext cx="7386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 u="sng">
                <a:solidFill>
                  <a:srgbClr val="15331e"/>
                </a:solidFill>
                <a:uFillTx/>
                <a:latin typeface="Arial"/>
              </a:rPr>
              <a:t>Tipus de ne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oracions subordinades substantives poden tenir estructures sintàctiques  que s’uneixen a la principal mitjançant elements d’enllaç específ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Conjunció </a:t>
            </a:r>
            <a:r>
              <a:rPr b="0" i="1" lang="es-ES" sz="1800" spc="-1" strike="noStrike">
                <a:solidFill>
                  <a:srgbClr val="15331e"/>
                </a:solidFill>
                <a:latin typeface="Arial"/>
              </a:rPr>
              <a:t>que 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+ oraci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meva mare vol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passegi el gos cada vesp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’agrada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m’escriguis poem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Pronom de relatiu + oraci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i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àpiga la respost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que alci la m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o va dir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l que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acabava d’estossegar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Pronom interrogati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’encarregat ens dirà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hem de lliurar l’imprè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m pot dir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an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ens costaran aquestes reparacion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63520" y="259920"/>
            <a:ext cx="7386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Infinitiu+complements verb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’ha satisfet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er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bé la fe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solució ha estat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raslladar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l’empresa als afore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 L’infinitiu pot anar precedit de la preposició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motorista es proposava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’avançar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el seu ri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es protestes contribuïen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 crear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un bon clima de treb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En les oracions d’infinitiu, encara que no té marca de persona i   no hi ha subjecte gramatical, es pot distingir un subjecte lògic de l’acció expressada pel verb que es dedueix del con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nena m’ha promès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er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la feina ara mateix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subjecte lògic de l’ácció é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n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(la nena farà la feina ara matei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755640" y="476280"/>
            <a:ext cx="734544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pul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isjun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dvers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30605a"/>
                </a:solidFill>
                <a:latin typeface="Tahoma"/>
              </a:rPr>
              <a:t>Coordinades</a:t>
            </a:r>
            <a:r>
              <a:rPr b="0" lang="es-ES" sz="1200" spc="-1" strike="noStrike">
                <a:solidFill>
                  <a:srgbClr val="a4c6ba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Il·l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istribu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Explic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djectives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Especific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Explic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5331e"/>
                </a:solidFill>
                <a:latin typeface="Tahoma"/>
              </a:rPr>
              <a:t>L’ORACI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5331e"/>
                </a:solidFill>
                <a:latin typeface="Tahoma"/>
              </a:rPr>
              <a:t>COMPOSTA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e Subjecte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Completiva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e C. direc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’atrib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’infinitiu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e C. indirec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s-ES" sz="1200" spc="-1" strike="noStrike">
                <a:solidFill>
                  <a:srgbClr val="30605a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30605a"/>
                </a:solidFill>
                <a:latin typeface="Tahoma"/>
              </a:rPr>
              <a:t>Subordinades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Substantives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e C. preposi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Interrog. indirecte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e C. de n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e C. d’adjecti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e relati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Loc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dverbials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Comparativa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Consecu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di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cess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au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619280" y="1341000"/>
            <a:ext cx="43164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19280" y="2708280"/>
            <a:ext cx="431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03640" y="476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3640" y="191628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00720" y="1844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227640" y="2708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00720" y="4653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00720" y="2781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63520" y="189000"/>
            <a:ext cx="7386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15331e"/>
                </a:solidFill>
                <a:uFillTx/>
                <a:latin typeface="Arial"/>
              </a:rPr>
              <a:t>Record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5331e"/>
                </a:solidFill>
                <a:latin typeface="Arial"/>
              </a:rPr>
              <a:t>Caiguda de la preposi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preposicions que enllacen complements al nom, a l’adjectiu o al verb despareixen quan l’estructura que complementa aquestes paraules és introduïda per la conjunció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ide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… / La ide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e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l’espiïn la turm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És conscien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… / És conscient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Ø que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tot ha de canvia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d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’oblid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… / S’oblid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Ø qu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el temps passa ràp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Pr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é, donc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itar el fenomen del dequeis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nteposició incorrecta de la preposició a una conjunció: *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t’he avisat de que v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3640" y="2276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8800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203280" y="256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40360" y="3500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51640" y="35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140360" y="38606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48000" y="4724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16360" y="465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419640" y="5013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15331e"/>
                </a:solidFill>
                <a:uFillTx/>
                <a:latin typeface="Arial"/>
              </a:rPr>
              <a:t>Canvi de la preposici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preposicions que introdueixen un complement preposicional només poder ser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an aquest és una subordinada formada per un infinitiu i els seus complements (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i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infinitiu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’acusat insisti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la seva innocè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’acusat insisti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 afirmar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la seva innocè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s amenaçav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mb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la dimissi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s amenaçav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/de dimitir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263520" y="404640"/>
            <a:ext cx="73864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15331e"/>
                </a:solidFill>
                <a:uFillTx/>
                <a:latin typeface="Arial"/>
              </a:rPr>
              <a:t>Det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vé recordar que la paraula que pot ser, segons el context en què es trob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junci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només relaciona elements, una oració al verb de la princip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Vigilav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les criatures no caiguessin dels gronxador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Pronom de relatiu: a més de relacionar la subordinada a la principal, el pronom substitueix un element sintàctic de la subordina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bolígraf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li he deixat no és meu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 Adverbi: sol acompanyar un adjecti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bonic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t i que són poc freqüents, és possible trobar subordinades substantives que complementen un adverbi, c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s paleontòlegs eren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luny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e trobar una resposta per 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quell misteri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dverbi       Oració sub. Substant. CAd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l recordar que en català no és possible l’ús d’un infinitiu precedit d’article i que, en conseqüència, són construccions incorrectes i que es corregeixen fàcilment sense l’artic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fumar perjudic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 Fumar perjud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*El saber no destorb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 Saber no destorb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067280" y="2060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436572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6400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15331e"/>
                </a:solidFill>
                <a:latin typeface="Arial"/>
              </a:rPr>
              <a:t>L’oració subordinada adverbial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907920"/>
            <a:ext cx="73864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oracions subordinades adverbials són aquelles qu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an funcions pròpies d’un adverbi o sintagma adverbi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ins l’oració principal; per tant, equivalen a un complement circumstanc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niré a treballar   dem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adverb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Circum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an em trobi bé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oraci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CCircum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 h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s grup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àsics d’oracions subordinades adverbi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PRÒPIES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lementen un ver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locatives, temporals i modal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Jo aniré on vulgu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IMPRÒPIES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lementen tota l’oraci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comparatives, consecutives, condicionals, concessives, causals i final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arlo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erquè vull.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263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51640" y="29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87640" y="24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oracions  subordinades adverbials poden ser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ferents tipu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mporals (o de temps)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ituen en el temps. Poden indicar una relació de simultaneïtat, l’anterioritat o la posteriori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Nex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quan, aleshores, abans que, després que, des qu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an et vingui bé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, fes-me aquest fav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catives (o de lloc)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diquen el lloc on transcorre l’acci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Nex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on, fins on, allà on, pertot 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nirem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 on tu voldrà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dals (o de mode)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ressen la manera com es realitza l’acci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Nex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m, segons com, en la mesura que, igual qu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es-ho com vulgu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63520" y="259920"/>
            <a:ext cx="7386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arativ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tableixen una comparació amb l’oració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Nex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Igualtat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an/tant… com, tal com, així… com, tal qual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-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perioritat i Inferioritat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és… que/ de/ que no pas, meny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que/ de/ que no/ que no pa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Proporcionalitat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m més… menys, quant més… mé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o plou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ant com jo espe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ecutives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ressen una acció que és conseqüència de l’oració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Nex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an… que, tant(s)… que, tal(s)… que, talment… 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i veig tan bé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 no me´n sé aven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icional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diquen una condició imprescindible perquè es compleixi allò que s’expressa en la proposició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Nex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i, amb que, mentre que, en cas que, tret que, només que, posat que, llevat que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i plou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, no ens mour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63520" y="260280"/>
            <a:ext cx="7386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cessives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ubordinada representa un obstacle a l’acció expressada per l’oració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Nex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cara que, tot i que, per més que, malgrat que, 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esar d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ncara que no t’agradi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t’ho has de menj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usal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indiquen la causa o la raó de l’acció que s’expressa en l’oració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Nex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erquè, ja que, com que, atès que, vist que, a causa qu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tic amoïnat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erquè ningú no m’aju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nal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xpressen l’objectiu o intenció amb què es realitza allò que es manifesta a l’oració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15331e"/>
                </a:solidFill>
                <a:latin typeface="Arial"/>
              </a:rPr>
              <a:t>Nex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erquè, a fi de/que, per tal de/qu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o dic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 fi que tothom ho sàpiga.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58f7d"/>
                </a:solidFill>
                <a:latin typeface="Arial"/>
              </a:rPr>
              <a:t>L’oració coordinada</a:t>
            </a:r>
            <a:endParaRPr b="0" lang="en-US" sz="2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71276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4c6ba"/>
                </a:solidFill>
                <a:latin typeface="Arial"/>
              </a:rPr>
              <a:t>	</a:t>
            </a:r>
            <a:r>
              <a:rPr b="1" lang="ca-ES" sz="1800" spc="-1" strike="noStrike">
                <a:solidFill>
                  <a:srgbClr val="30605a"/>
                </a:solidFill>
                <a:latin typeface="Arial"/>
              </a:rPr>
              <a:t>L’oració coordinada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és aquella formada per dues o més oracions- proposicions- amb la mateixa funció gramatical- les dues clàusules tenen la mateixa importància-, les quals s’uneixen al mateix nivell mitjançant un element d’enllaç,conjunc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Tipus</a:t>
            </a:r>
            <a:r>
              <a:rPr b="0" lang="ca-ES" sz="1800" spc="-1" strike="noStrike">
                <a:solidFill>
                  <a:srgbClr val="558f7d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Les oracions coordinades es classifiquen segons les conjuncions que les enllacen i el matís de significat que apor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558f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Copulatives</a:t>
            </a:r>
            <a:r>
              <a:rPr b="0" lang="ca-ES" sz="1800" spc="-1" strike="noStrike">
                <a:solidFill>
                  <a:srgbClr val="558f7d"/>
                </a:solidFill>
                <a:latin typeface="Arial"/>
              </a:rPr>
              <a:t>: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expressen 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suma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. Les conjuncions copulatives són: </a:t>
            </a:r>
            <a:r>
              <a:rPr b="1" i="1" lang="ca-ES" sz="1800" spc="-1" strike="noStrike">
                <a:solidFill>
                  <a:srgbClr val="000000"/>
                </a:solidFill>
                <a:latin typeface="Arial"/>
              </a:rPr>
              <a:t>i, 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xemple: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L’Amèlia llegeix una novel·la</a:t>
            </a:r>
            <a:r>
              <a:rPr b="0" i="1" lang="ca-ES" sz="1800" spc="-1" strike="noStrike" u="sng">
                <a:solidFill>
                  <a:srgbClr val="000000"/>
                </a:solidFill>
                <a:uFillTx/>
                <a:latin typeface="Arial"/>
              </a:rPr>
              <a:t> i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l’Arnau resol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  els mots encreuats del dia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558f7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Disjuntives: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xpressen 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opció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. Les conjuncions disjuntives són: </a:t>
            </a:r>
            <a:r>
              <a:rPr b="1" i="1" lang="ca-ES" sz="1800" spc="-1" strike="noStrike">
                <a:solidFill>
                  <a:srgbClr val="000000"/>
                </a:solidFill>
                <a:latin typeface="Arial"/>
              </a:rPr>
              <a:t>o, o bé, o sinó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xemple: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Farem una festa a la terrassa </a:t>
            </a:r>
            <a:r>
              <a:rPr b="0" i="1" lang="ca-ES" sz="1800" spc="-1" strike="noStrike" u="sng">
                <a:solidFill>
                  <a:srgbClr val="000000"/>
                </a:solidFill>
                <a:uFillTx/>
                <a:latin typeface="Arial"/>
              </a:rPr>
              <a:t>o bé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   convidarem els amics al restaur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71992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558f7d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Adversatives</a:t>
            </a:r>
            <a:r>
              <a:rPr b="0" lang="ca-ES" sz="1800" spc="-1" strike="noStrike">
                <a:solidFill>
                  <a:srgbClr val="558f7d"/>
                </a:solidFill>
                <a:latin typeface="Arial"/>
              </a:rPr>
              <a:t>: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expressen 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oposició.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Les conjuncions adversatives són </a:t>
            </a:r>
            <a:r>
              <a:rPr b="1" i="1" lang="ca-ES" sz="1800" spc="-1" strike="noStrike">
                <a:solidFill>
                  <a:srgbClr val="000000"/>
                </a:solidFill>
                <a:latin typeface="Arial"/>
              </a:rPr>
              <a:t>però, sinó, tanmateix, no obstant això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xemple: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Vam oblidar-nos els bombons a casa, </a:t>
            </a:r>
            <a:r>
              <a:rPr b="0" i="1" lang="ca-ES" sz="1800" spc="-1" strike="noStrike" u="sng">
                <a:solidFill>
                  <a:srgbClr val="000000"/>
                </a:solidFill>
                <a:uFillTx/>
                <a:latin typeface="Arial"/>
              </a:rPr>
              <a:t>però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 li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  vam comprar un ram de fl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558f7d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Il·latives</a:t>
            </a:r>
            <a:r>
              <a:rPr b="0" lang="ca-ES" sz="1800" spc="-1" strike="noStrike">
                <a:solidFill>
                  <a:srgbClr val="558f7d"/>
                </a:solidFill>
                <a:latin typeface="Arial"/>
              </a:rPr>
              <a:t>: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expressen 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conseqüència.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Les conjuncions il·latives són </a:t>
            </a:r>
            <a:r>
              <a:rPr b="1" i="1" lang="ca-ES" sz="1800" spc="-1" strike="noStrike">
                <a:solidFill>
                  <a:srgbClr val="000000"/>
                </a:solidFill>
                <a:latin typeface="Arial"/>
              </a:rPr>
              <a:t>doncs, per tant, de manera qu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xemple: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Estàs refredat? </a:t>
            </a:r>
            <a:r>
              <a:rPr b="0" i="1" lang="ca-ES" sz="1800" spc="-1" strike="noStrike" u="sng">
                <a:solidFill>
                  <a:srgbClr val="000000"/>
                </a:solidFill>
                <a:uFillTx/>
                <a:latin typeface="Arial"/>
              </a:rPr>
              <a:t>Doncs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 no vagis a pisc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558f7d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Distributives</a:t>
            </a:r>
            <a:r>
              <a:rPr b="0" lang="ca-ES" sz="1800" spc="-1" strike="noStrike">
                <a:solidFill>
                  <a:srgbClr val="558f7d"/>
                </a:solidFill>
                <a:latin typeface="Arial"/>
              </a:rPr>
              <a:t>: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expressen 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alternança o distribució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. Les conjuncions, sempre dobles i precedint cada una de les proposicions, són </a:t>
            </a:r>
            <a:r>
              <a:rPr b="1" i="1" lang="ca-ES" sz="1800" spc="-1" strike="noStrike">
                <a:solidFill>
                  <a:srgbClr val="000000"/>
                </a:solidFill>
                <a:latin typeface="Arial"/>
              </a:rPr>
              <a:t>ni… ni, ara… ara, ja… ja, mig… mig, etc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xemple: </a:t>
            </a:r>
            <a:r>
              <a:rPr b="0" i="1" lang="ca-E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 passegem per la Rambla </a:t>
            </a:r>
            <a:r>
              <a:rPr b="0" i="1" lang="ca-E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 visitem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   l’exposició del MACBA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558f7d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Explicatives</a:t>
            </a:r>
            <a:r>
              <a:rPr b="0" lang="ca-ES" sz="1800" spc="-1" strike="noStrike">
                <a:solidFill>
                  <a:srgbClr val="558f7d"/>
                </a:solidFill>
                <a:latin typeface="Arial"/>
              </a:rPr>
              <a:t>: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expressen un 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aclariment.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Solen portar signes de puntuació. Les conjuncions són </a:t>
            </a:r>
            <a:r>
              <a:rPr b="1" i="1" lang="ca-ES" sz="1800" spc="-1" strike="noStrike">
                <a:solidFill>
                  <a:srgbClr val="000000"/>
                </a:solidFill>
                <a:latin typeface="Arial"/>
              </a:rPr>
              <a:t>és a dir, o sigui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xemple: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Els pagesos estan sindicats, </a:t>
            </a:r>
            <a:r>
              <a:rPr b="0" i="1" lang="ca-ES" sz="1800" spc="-1" strike="noStrike" u="sng">
                <a:solidFill>
                  <a:srgbClr val="000000"/>
                </a:solidFill>
                <a:uFillTx/>
                <a:latin typeface="Arial"/>
              </a:rPr>
              <a:t>és a dir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, tenen     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a-ES" sz="1800" spc="-1" strike="noStrike">
                <a:solidFill>
                  <a:srgbClr val="000000"/>
                </a:solidFill>
                <a:latin typeface="Arial"/>
              </a:rPr>
              <a:t>representants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0605a"/>
                </a:solidFill>
                <a:latin typeface="Arial"/>
              </a:rPr>
              <a:t>L’oració juxtaposada</a:t>
            </a:r>
            <a:endParaRPr b="0" lang="en-US" sz="2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0" lang="ca-ES" sz="2000" spc="-1" strike="noStrike">
                <a:solidFill>
                  <a:srgbClr val="558f7d"/>
                </a:solidFill>
                <a:latin typeface="Arial"/>
              </a:rPr>
              <a:t>proposicions coordinades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 que no portin cap enllaç seran les </a:t>
            </a:r>
            <a:r>
              <a:rPr b="0" lang="ca-ES" sz="2000" spc="-1" strike="noStrike">
                <a:solidFill>
                  <a:srgbClr val="558f7d"/>
                </a:solidFill>
                <a:latin typeface="Arial"/>
              </a:rPr>
              <a:t>oracions juxtapos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Les reconeixerem perquè s’uneixen mitjançant signes de puntuació: coma, punt i com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Exe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No és bo; és boníss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No s’ha gastat els diners, els ha guar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Tens febre, t’has de quedar al ll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0605a"/>
                </a:solidFill>
                <a:latin typeface="Arial"/>
              </a:rPr>
              <a:t>L’oració subordinada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981000"/>
            <a:ext cx="73864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Les proposicions subordinades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s’uneixen a la principal mitjançant </a:t>
            </a:r>
            <a:r>
              <a:rPr b="0" lang="ca-ES" sz="1800" spc="-1" strike="noStrike" u="sng">
                <a:solidFill>
                  <a:srgbClr val="558f7d"/>
                </a:solidFill>
                <a:uFillTx/>
                <a:latin typeface="Arial"/>
              </a:rPr>
              <a:t>nexes</a:t>
            </a:r>
            <a:r>
              <a:rPr b="0" lang="ca-ES" sz="1800" spc="-1" strike="noStrike">
                <a:solidFill>
                  <a:srgbClr val="558f7d"/>
                </a:solidFill>
                <a:latin typeface="Arial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subordinants que tenen una funció dins l’oració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A diferència de les oracions coordinades i juxtaposades, en aquestes </a:t>
            </a: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hi ha una proposició principal i una altra de secundària, que depèn de la principal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Tip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Subordinades substantives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La proposició subordinada es pot substituir per un SN o un pronom (aix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Subordinades adjectives</a:t>
            </a:r>
            <a:r>
              <a:rPr b="0" lang="ca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La proposició es pot substituir per un adject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800" spc="-1" strike="noStrike">
                <a:solidFill>
                  <a:srgbClr val="558f7d"/>
                </a:solidFill>
                <a:latin typeface="Arial"/>
              </a:rPr>
              <a:t>Subordinades adverbials</a:t>
            </a:r>
            <a:r>
              <a:rPr b="0" lang="ca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La proposició es pot substituir per un adjectiu (només les pròpi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0605a"/>
                </a:solidFill>
                <a:latin typeface="Arial"/>
              </a:rPr>
              <a:t>EXERCICI:</a:t>
            </a:r>
            <a:br>
              <a:rPr sz="2000"/>
            </a:br>
            <a:r>
              <a:rPr b="0" lang="es-ES" sz="2000" spc="-1" strike="noStrike">
                <a:solidFill>
                  <a:srgbClr val="30605a"/>
                </a:solidFill>
                <a:latin typeface="Arial"/>
              </a:rPr>
              <a:t>Digues el tipus d’oració composta.</a:t>
            </a:r>
            <a:endParaRPr b="0" lang="en-US" sz="2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Anirem amb pocs cotxes, és a dir, agrupeu-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Ara es dedica a vendre electrodomè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Compres el berenar? Doncs jo també en comp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’agrada que portis aquesta cami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’agradaria comprar aquesta masia, però no tinc prou ca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No tenia ganes de preparar el sop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No només vull el contracte sinó que també vull els di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Els que arribin tard, no entraran a la discote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Volia retrobar-lo o oblidar-l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En Ramon talla la gespa, l’Agustí recull les fu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Era un somni irreal i era imagina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15331e"/>
                </a:solidFill>
                <a:uFillTx/>
                <a:latin typeface="Arial"/>
              </a:rPr>
              <a:t>L’oració subordinada adjectiva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199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oracions subordinades adjectives són aquelles oracions que fan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nció d’un adjectiu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ins l’oració principal. Sempre va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roduïdes per un pronom relatiu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’aquí que s’anomenin també oracions de relat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p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cificativ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afegeixen informació al nom de l’oració principal que és l’antecedent i 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stringeixen el significa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s alumnes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 ara s’han incorporat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aporten reflexions no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xplicatives: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iteren la informació, ja coneguda, sobre l’oració principal i comenten l’antecedent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nse restringir-n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l significat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més l’explique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Aquestes oracions va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parades per c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En Sergi,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que dibuixa molt bé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, farà e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batxillerat artís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720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’oració adjectiva complementa sempre un sintagma nominal que és l’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eceden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per tant, la funció que realitza aquesta subordinada é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lement del n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nom relatiu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é un doble pap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llaç entre l’oració principal i la subordin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nció sintàctica. Com que és un pronom, substitueix en la subordinada una estructura de l’oració principal que realitzarà aquesta mateixa funci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ls jugador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qu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an entrenar dissabte ] estan lesion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ntecedent     Pron. Relat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els jugadors)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ació subordinada adj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56000" y="522936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8000" y="4653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995640" y="5300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907640" y="602136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09:05:25Z</dcterms:created>
  <dc:creator>mariu</dc:creator>
  <dc:description/>
  <dc:language>en-US</dc:language>
  <cp:lastModifiedBy> </cp:lastModifiedBy>
  <dcterms:modified xsi:type="dcterms:W3CDTF">2011-06-02T07:32:50Z</dcterms:modified>
  <cp:revision>37</cp:revision>
  <dc:subject/>
  <dc:title>SINTAXI</dc:title>
</cp:coreProperties>
</file>