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230D-7460-4B4A-89F1-C9577AE38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441A-989C-4984-87DD-4A096E0CB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8449-15AF-4CF7-9E95-338DC1031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4491-CB93-428D-A6CE-B60304E9B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5D675-46C4-43B0-B808-75430420D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23A82-F1F3-445F-B1EB-E149A7EA2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4AA44-207D-48B0-B4FA-8361D3BE7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0E69B-F07C-4E89-B859-DD3FD16E5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6E280-DAC4-4EA8-9687-FE6C38F2A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E828D-FF9E-41D6-B4FF-3F71DD134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752F0-9F27-4BBA-BD79-8331752B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2937-133B-4532-9C18-D1DF7149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EF30B-49C6-4EB1-8C65-2CDC4A94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8E882-C1CF-456E-BF3A-5954DCD0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72761-8433-493A-A9DD-402895E16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A583B-C69E-4381-8FF9-A8E91F75D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51BAB-6981-4BD9-8F1E-D7393FD25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8593-1FA3-4A2A-8629-F6DD315A0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9806-8022-4ADD-9077-88607CA60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AC99-C372-46AD-8CFD-62AD9B409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6FA0-87A9-4162-9635-E77183953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1E54-CE8D-499F-928A-6D793671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40EE-4C80-4C84-B0FB-8630B833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CDF5-416B-41DF-B1DA-85AB1026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3898C-06B9-4E25-A41C-F587B8712F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E5C68-8F36-4E1D-8F00-684CF4AF0C7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wu5148@tjcu.edu.cn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89A06-3801-4BBB-B357-4F70C9B5C4CE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信息检索基础知识与信息</a:t>
            </a:r>
            <a:br>
              <a:rPr sz="4400"/>
            </a:b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检索技巧专题讲座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25905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天津商学院图书馆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吴凤玉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-mail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0" lang="en-US" sz="3200" spc="-1" strike="noStrike" u="sng">
                <a:solidFill>
                  <a:srgbClr val="ff33cc"/>
                </a:solidFill>
                <a:uFillTx/>
                <a:latin typeface="Times New Roman"/>
                <a:hlinkClick r:id="rId2"/>
              </a:rPr>
              <a:t>wu5148@tjcu.edu.c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电话：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26684017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7777C-555F-49F1-A837-168C0D200546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（三）限制检索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限制检索是缩小或约束检索结果的方法，主要是指限定字段检索，即是指定检索词在记录中出现的字段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eaeaea"/>
                </a:solidFill>
                <a:latin typeface="Times New Roman"/>
              </a:rPr>
              <a:t>常用的字段代码有：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TI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题名） 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U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作者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文摘）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JN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刊名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PY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年代）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LA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语种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…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zh-CN" sz="3000" spc="-1" strike="noStrike">
                <a:solidFill>
                  <a:srgbClr val="eaeaea"/>
                </a:solidFill>
                <a:latin typeface="Times New Roman"/>
              </a:rPr>
              <a:t>如：   </a:t>
            </a: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information science/TI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               </a:t>
            </a: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LA=english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       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文摘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=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网络信息资源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64B61-FC54-4A2D-9A54-549277030897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四、机检系统常用检索方法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简单检索</a:t>
            </a:r>
            <a:r>
              <a:rPr b="1" lang="zh-CN" sz="30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basic search</a:t>
            </a:r>
            <a:r>
              <a:rPr b="1" lang="zh-CN" sz="3000" spc="-1" strike="noStrike">
                <a:solidFill>
                  <a:srgbClr val="eaeaea"/>
                </a:solidFill>
                <a:latin typeface="Times New Roman"/>
              </a:rPr>
              <a:t>）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是一种单项检索。一般只需输入一个检索词，辅以相应的途径即可进行检索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二次检索</a:t>
            </a:r>
            <a:r>
              <a:rPr b="1" lang="zh-CN" sz="30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在原有简单检索的结果基础上，再进行检索。可反复使用，不断扩大或缩小检索范围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高级检索</a:t>
            </a:r>
            <a:r>
              <a:rPr b="1" lang="zh-CN" sz="30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advanced search</a:t>
            </a:r>
            <a:r>
              <a:rPr b="1" lang="zh-CN" sz="3000" spc="-1" strike="noStrike">
                <a:solidFill>
                  <a:srgbClr val="eaeaea"/>
                </a:solidFill>
                <a:latin typeface="Times New Roman"/>
              </a:rPr>
              <a:t>）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是一种多项组合检索，一般输入多个检索词进行组配。有的检索系统也称为复杂检索或扩展检索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专家检索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：用多个检索词与各种运算符组成检索式，功能与高级检索相似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50183-C1DB-42A5-9452-986114AB77F1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五、检索技巧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信息检索最重要的两个指标：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“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检全率”与“检准率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检准率：指检出的相关文献量与检出文献总量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的比率。反应检索结果的准确性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检全率：指检出的相 关文献量与检索系统中相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关文献总量的比率。反映检索结果的 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全面性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16616-8595-4ADD-AC37-24CA58ADCC66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（一）提高检准率的方法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使用高相关度的检索入口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题名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关键词 ——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文摘 ——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&gt;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全文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使用限制检索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如：在百度中可以进行多种限制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限定搜索网站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(site:     )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；文档格式（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filetype:ppt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doc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pdf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xls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等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反复使用二次检索（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and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使用“精确检索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如：百度中的“”（双引号）与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《》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书名号）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维普与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CNKI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中的“精确检索”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2FE29-BAA4-4EAB-A244-54A816B7BF3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（二）提高检全率的方法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用“全文”等低相关度的检索途径进行检索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使用同、近义词（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or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使用“模糊检索”和“截词检索”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利用文献后所附“参考文献”进行检索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AD8C9-5A36-4ADE-BFB1-4D2D6F0DCB47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一、信息检索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信息检索是将信息按一定的方式组织和存储起来，并根据信息用户的需要找出有关信息的过程和技术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  <a:ea typeface="隶书"/>
              </a:rPr>
              <a:t>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对于信息用户而言，就是从信息集合中找出所需信息的过程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信息检索基本原理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提问标识（检索式）与文献标识的对比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3811680" y="5257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58E8A-8759-4976-8F17-619273544BD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二、信息检索途径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检索途径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又称为检索点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依据文献的</a:t>
            </a:r>
            <a:r>
              <a:rPr b="1" lang="zh-CN" sz="2800" spc="-1" strike="noStrike">
                <a:solidFill>
                  <a:srgbClr val="ffcc66"/>
                </a:solidFill>
                <a:latin typeface="Times New Roman"/>
                <a:ea typeface="黑体"/>
              </a:rPr>
              <a:t>外部特征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题名、责任者、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出版者、出版时间等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ffcc66"/>
                </a:solidFill>
                <a:latin typeface="Times New Roman"/>
                <a:ea typeface="黑体"/>
              </a:rPr>
              <a:t>内容特征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分类号、主题词、关键词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或自由词等）来确定，是信息检索的入口点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       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1030F-38FD-4858-9604-516A44FB786F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常用检索途径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题名（篇名）途径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利用篇名中的字词或篇名的一部分进行检索。其结果是所有在篇名中出现该字、该词或该部分的文章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著者途径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利用文献作者名字进行检索。可查到该作者的所有文献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分类途径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利用分类名和分类号进行检索。其结果是该类目所有的文献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511FE-E8E6-448E-9458-0D356CA62A2C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21932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主题途径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利用与该篇文献主题相关的规范词（主题词）进行检索，其结果是包含该主题词的所有文献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关键词途径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利用与该篇文献主题相关的关键词（自由词）进行检索，其结果是包含该关键词的所有文献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序号途径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利用文献的各种代码、数字编制的索引查找文献，如专利号、技术标准的标准号、科技报告的报告号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其他途径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如文献类型、参考文献、语种、出版（发表）年份、作者机构、出版机构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700C6-17C3-413D-8FA9-ABB79CCE4F16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三、信息检索常用方法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一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布尔逻辑</a:t>
            </a: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用布尔逻辑算符来表达检索词间的逻辑组配关系，是最基本、最常用的检索技术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31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zh-CN" sz="3100" spc="-1" strike="noStrike">
                <a:solidFill>
                  <a:srgbClr val="ff0000"/>
                </a:solidFill>
                <a:latin typeface="Times New Roman"/>
              </a:rPr>
              <a:t>逻辑或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en-US" sz="3100" spc="-1" strike="noStrike">
                <a:solidFill>
                  <a:srgbClr val="eaeaea"/>
                </a:solidFill>
                <a:latin typeface="Times New Roman"/>
              </a:rPr>
              <a:t>+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en-US" sz="3100" spc="-1" strike="noStrike">
                <a:solidFill>
                  <a:srgbClr val="eaeaea"/>
                </a:solidFill>
                <a:latin typeface="Times New Roman"/>
              </a:rPr>
              <a:t>OR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）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表达检索词间的并列关系。可扩大检索范围，提高查全率。如：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+B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，表明结果中含有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或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都为检索命中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Oval 9"/>
          <p:cNvSpPr/>
          <p:nvPr/>
        </p:nvSpPr>
        <p:spPr>
          <a:xfrm>
            <a:off x="2895480" y="4800600"/>
            <a:ext cx="1905120" cy="1523880"/>
          </a:xfrm>
          <a:prstGeom prst="ellipse">
            <a:avLst/>
          </a:prstGeom>
          <a:solidFill>
            <a:srgbClr val="ffcc99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Oval 10"/>
          <p:cNvSpPr/>
          <p:nvPr/>
        </p:nvSpPr>
        <p:spPr>
          <a:xfrm>
            <a:off x="5105520" y="4800600"/>
            <a:ext cx="1752480" cy="1523880"/>
          </a:xfrm>
          <a:prstGeom prst="ellipse">
            <a:avLst/>
          </a:prstGeom>
          <a:solidFill>
            <a:srgbClr val="ffcc99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AE968-2FC2-4269-935B-5B2F0C647ED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371600" y="3049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31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zh-CN" sz="3100" spc="-1" strike="noStrike">
                <a:solidFill>
                  <a:srgbClr val="ff0000"/>
                </a:solidFill>
                <a:latin typeface="Times New Roman"/>
              </a:rPr>
              <a:t>逻辑与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*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en-US" sz="3100" spc="-1" strike="noStrike">
                <a:solidFill>
                  <a:srgbClr val="eaeaea"/>
                </a:solidFill>
                <a:latin typeface="Times New Roman"/>
              </a:rPr>
              <a:t>AND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）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表达检索词间的交叉关系。可缩小检索范围，提高查准率。如：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*B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，表明结果必须同时含有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才为命中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31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zh-CN" sz="3100" spc="-1" strike="noStrike">
                <a:solidFill>
                  <a:srgbClr val="ff0000"/>
                </a:solidFill>
                <a:latin typeface="Times New Roman"/>
              </a:rPr>
              <a:t>逻辑非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en-US" sz="31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en-US" sz="3100" spc="-1" strike="noStrike">
                <a:solidFill>
                  <a:srgbClr val="eaeaea"/>
                </a:solidFill>
                <a:latin typeface="Times New Roman"/>
              </a:rPr>
              <a:t>NOT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）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表达检索词间的排除关系。可缩小检索范围，提高查准率，但要慎用。如：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-B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，表明结果是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中不包含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的那部分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Oval 11"/>
          <p:cNvSpPr/>
          <p:nvPr/>
        </p:nvSpPr>
        <p:spPr>
          <a:xfrm>
            <a:off x="3733920" y="4724280"/>
            <a:ext cx="2438280" cy="1600200"/>
          </a:xfrm>
          <a:prstGeom prst="ellipse">
            <a:avLst/>
          </a:prstGeom>
          <a:solidFill>
            <a:srgbClr val="ffcc99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33cc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Oval 12"/>
          <p:cNvSpPr/>
          <p:nvPr/>
        </p:nvSpPr>
        <p:spPr>
          <a:xfrm>
            <a:off x="4952880" y="5029200"/>
            <a:ext cx="1143000" cy="9907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Oval 20"/>
          <p:cNvSpPr/>
          <p:nvPr/>
        </p:nvSpPr>
        <p:spPr>
          <a:xfrm>
            <a:off x="2895480" y="1752480"/>
            <a:ext cx="2286000" cy="14479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Oval 21"/>
          <p:cNvSpPr/>
          <p:nvPr/>
        </p:nvSpPr>
        <p:spPr>
          <a:xfrm>
            <a:off x="4495680" y="1752480"/>
            <a:ext cx="2133720" cy="1447920"/>
          </a:xfrm>
          <a:prstGeom prst="ellipse">
            <a:avLst/>
          </a:prstGeom>
          <a:solidFill>
            <a:srgbClr val="ffcc66">
              <a:alpha val="50000"/>
            </a:srgbClr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94030-2943-4163-9DC7-0164A2BA7E36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37160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二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截词检索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又称词干检索、模糊检索。检索时，只需用词干加截词符号，凡是含有与该词干相同的文献均能被检出。该方法能很好避免漏检现象的出现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检索系统不同，截词符也不同，常用的截词符号有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？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分为有限截词（即一个截词符只代表一个字符）和无限截词（一个截词符可代表多个字符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按截断的位置来分，截词可分为后截断、前截断、中截断三种类型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9215A-E062-40B6-AA49-646C0348373D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371600" y="4572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举例说明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后截断，前方一致。如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comput*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表示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computer,computers,computing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王伟？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可查出所有名字中含“王伟”的作者的文献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前截断，后方一致。如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Computer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表示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minicomputer,microcomputer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中截断，中间一致。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comput*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表示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minicomputer,microcomputers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作者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=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张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?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静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检索出张亚静、张雪静、张宇静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7T09:52:10Z</dcterms:created>
  <dc:creator>liu</dc:creator>
  <dc:description/>
  <dc:language>en-US</dc:language>
  <cp:lastModifiedBy>thinkpad</cp:lastModifiedBy>
  <cp:lastPrinted>1899-12-30T00:00:00Z</cp:lastPrinted>
  <dcterms:modified xsi:type="dcterms:W3CDTF">2011-08-11T06:18:51Z</dcterms:modified>
  <cp:revision>152</cp:revision>
  <dc:subject/>
  <dc:title>信息检索基础知识与信息 检索技巧专题讲座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