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891B9-2FFE-4FDF-A0AB-54D6B7656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9CB92-A612-4C8A-B439-D2F3AA185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2167E-3BB1-491D-8A27-C862B5B75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4665B-4074-4433-B7ED-B5734A593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5C98E-24D9-4824-921A-1E2204387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6A169-AB42-4904-B97D-ADFF78F01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01C9E-F131-4EDD-B54B-DFE0AF407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9C965-8336-4EBC-9754-26047488B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1B422-9FA5-436A-9C7B-56AA5E691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FAE66-36CF-431E-BE36-5673CFA4C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631D7-01D9-449B-AA63-58827DE72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103A9-8C3E-4BB0-AE3D-0418C77DC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78269-70C8-4D76-BC9E-151C8423E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14A87-ED24-4599-9422-A2717844D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CB44B-61BF-45A8-8B87-980DCCFC4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2932F-C5E7-4301-86EB-44FA8CC17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AB8F4-49AB-4AE5-9199-16976CD4B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DA35A-12E0-4F55-8C7F-6FABC4005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E61ED-5392-4B07-9CB3-808249D90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141A3-C41D-42A9-B651-98C69AE27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0BB0B-7D92-43C6-B540-C2A903D41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09008-8972-4183-837C-F8519DEE9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9732A-BF03-4734-B8E4-6EB12258E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9A980-5956-4D67-970D-4D26709FE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淘花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百度专用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2E3F8-DA23-457E-8A4D-17C89C5211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淘花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/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百度专用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3701B-3BBE-4680-B07C-DD1A65E3DB52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mailto:wu5148@tjcu.edu.cn" TargetMode="External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页脚占位符 4"/>
          <p:cNvSpPr/>
          <p:nvPr/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淘花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/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百度专用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1" name="灯片编号占位符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D5B26-2F07-4650-A328-96CAC370058A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71600" y="6854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66"/>
                </a:solidFill>
                <a:latin typeface="Times New Roman"/>
              </a:rPr>
              <a:t>信息检索基础知识与信息</a:t>
            </a:r>
            <a:br>
              <a:rPr sz="4400"/>
            </a:br>
            <a:r>
              <a:rPr b="1" lang="zh-CN" sz="4400" spc="-1" strike="noStrike">
                <a:solidFill>
                  <a:srgbClr val="ffcc66"/>
                </a:solidFill>
                <a:latin typeface="Times New Roman"/>
              </a:rPr>
              <a:t>检索技巧专题讲座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71600" y="259056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天津商学院图书馆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吴凤玉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-mail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：</a:t>
            </a:r>
            <a:r>
              <a:rPr b="0" lang="en-US" sz="3200" spc="-1" strike="noStrike" u="sng">
                <a:solidFill>
                  <a:srgbClr val="ff33cc"/>
                </a:solidFill>
                <a:uFillTx/>
                <a:latin typeface="Times New Roman"/>
                <a:hlinkClick r:id="rId2"/>
              </a:rPr>
              <a:t>wu5148@tjcu.edu.c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电话：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26684017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页脚占位符 4"/>
          <p:cNvSpPr/>
          <p:nvPr/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淘花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/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百度专用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0" name="灯片编号占位符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22E79-E727-4750-B2F8-BF710E406190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66"/>
                </a:solidFill>
                <a:latin typeface="Times New Roman"/>
              </a:rPr>
              <a:t>（三）限制检索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1932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限制检索是缩小或约束检索结果的方法，主要是指限定字段检索，即是指定检索词在记录中出现的字段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eaeaea"/>
                </a:solidFill>
                <a:latin typeface="Times New Roman"/>
              </a:rPr>
              <a:t>常用的字段代码有：</a:t>
            </a:r>
            <a:endParaRPr b="0" lang="en-US" sz="3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eaeaea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TI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（题名）      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AU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（作者）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AB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（文摘）     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JN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（刊名）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PY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（年代）     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LA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（语种）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          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……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aeaea"/>
                </a:solidFill>
                <a:latin typeface="Times New Roman"/>
              </a:rPr>
              <a:t>    </a:t>
            </a:r>
            <a:r>
              <a:rPr b="1" lang="zh-CN" sz="3000" spc="-1" strike="noStrike">
                <a:solidFill>
                  <a:srgbClr val="eaeaea"/>
                </a:solidFill>
                <a:latin typeface="Times New Roman"/>
              </a:rPr>
              <a:t>如：   </a:t>
            </a:r>
            <a:r>
              <a:rPr b="1" lang="en-US" sz="3000" spc="-1" strike="noStrike">
                <a:solidFill>
                  <a:srgbClr val="eaeaea"/>
                </a:solidFill>
                <a:latin typeface="Times New Roman"/>
              </a:rPr>
              <a:t>information science/TI</a:t>
            </a:r>
            <a:endParaRPr b="0" lang="en-US" sz="3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aeaea"/>
                </a:solidFill>
                <a:latin typeface="Times New Roman"/>
              </a:rPr>
              <a:t>               </a:t>
            </a:r>
            <a:r>
              <a:rPr b="1" lang="en-US" sz="3000" spc="-1" strike="noStrike">
                <a:solidFill>
                  <a:srgbClr val="eaeaea"/>
                </a:solidFill>
                <a:latin typeface="Times New Roman"/>
              </a:rPr>
              <a:t>LA=english</a:t>
            </a:r>
            <a:endParaRPr b="0" lang="en-US" sz="3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aeaea"/>
                </a:solidFill>
                <a:latin typeface="Times New Roman"/>
              </a:rPr>
              <a:t>               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文摘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=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网络信息资源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页脚占位符 4"/>
          <p:cNvSpPr/>
          <p:nvPr/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淘花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/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百度专用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4" name="灯片编号占位符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4F1AF-1DDF-47FD-BEBE-264AA064A559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四、机检系统常用检索方法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Times New Roman"/>
              </a:rPr>
              <a:t>简单检索</a:t>
            </a:r>
            <a:r>
              <a:rPr b="1" lang="zh-CN" sz="3000" spc="-1" strike="noStrike">
                <a:solidFill>
                  <a:srgbClr val="eaeaea"/>
                </a:solidFill>
                <a:latin typeface="Times New Roman"/>
              </a:rPr>
              <a:t>（</a:t>
            </a:r>
            <a:r>
              <a:rPr b="1" lang="en-US" sz="3000" spc="-1" strike="noStrike">
                <a:solidFill>
                  <a:srgbClr val="eaeaea"/>
                </a:solidFill>
                <a:latin typeface="Times New Roman"/>
              </a:rPr>
              <a:t>basic search</a:t>
            </a:r>
            <a:r>
              <a:rPr b="1" lang="zh-CN" sz="3000" spc="-1" strike="noStrike">
                <a:solidFill>
                  <a:srgbClr val="eaeaea"/>
                </a:solidFill>
                <a:latin typeface="Times New Roman"/>
              </a:rPr>
              <a:t>）：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是一种单项检索。一般只需输入一个检索词，辅以相应的途径即可进行检索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Times New Roman"/>
              </a:rPr>
              <a:t>二次检索</a:t>
            </a:r>
            <a:r>
              <a:rPr b="1" lang="zh-CN" sz="3000" spc="-1" strike="noStrike">
                <a:solidFill>
                  <a:srgbClr val="eaeaea"/>
                </a:solidFill>
                <a:latin typeface="Times New Roman"/>
              </a:rPr>
              <a:t>：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在原有简单检索的结果基础上，再进行检索。可反复使用，不断扩大或缩小检索范围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Times New Roman"/>
              </a:rPr>
              <a:t>高级检索</a:t>
            </a:r>
            <a:r>
              <a:rPr b="1" lang="zh-CN" sz="3000" spc="-1" strike="noStrike">
                <a:solidFill>
                  <a:srgbClr val="eaeaea"/>
                </a:solidFill>
                <a:latin typeface="Times New Roman"/>
              </a:rPr>
              <a:t>（</a:t>
            </a:r>
            <a:r>
              <a:rPr b="1" lang="en-US" sz="3000" spc="-1" strike="noStrike">
                <a:solidFill>
                  <a:srgbClr val="eaeaea"/>
                </a:solidFill>
                <a:latin typeface="Times New Roman"/>
              </a:rPr>
              <a:t>advanced search</a:t>
            </a:r>
            <a:r>
              <a:rPr b="1" lang="zh-CN" sz="3000" spc="-1" strike="noStrike">
                <a:solidFill>
                  <a:srgbClr val="eaeaea"/>
                </a:solidFill>
                <a:latin typeface="Times New Roman"/>
              </a:rPr>
              <a:t>）：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是一种多项组合检索，一般输入多个检索词进行组配。有的检索系统也称为复杂检索或扩展检索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Times New Roman"/>
              </a:rPr>
              <a:t>专家检索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：用多个检索词与各种运算符组成检索式，功能与高级检索相似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页脚占位符 4"/>
          <p:cNvSpPr/>
          <p:nvPr/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淘花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/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百度专用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灯片编号占位符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587EE-06A8-4EBB-BDFB-9C767CFC1A30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66"/>
                </a:solidFill>
                <a:latin typeface="Times New Roman"/>
              </a:rPr>
              <a:t>五、检索技巧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信息检索最重要的两个指标：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            “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检全率”与“检准率”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检准率：指检出的相关文献量与检出文献总量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                    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的比率。反应检索结果的准确性。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检全率：指检出的相 关文献量与检索系统中相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                    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关文献总量的比率。反映检索结果的   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                    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全面性。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页脚占位符 4"/>
          <p:cNvSpPr/>
          <p:nvPr/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淘花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/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百度专用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2" name="灯片编号占位符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D1EC6-D6C5-49F9-B207-0C8A5F9E57C3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aeaea"/>
                </a:solidFill>
                <a:latin typeface="Times New Roman"/>
              </a:rPr>
              <a:t>（一）提高检准率的方法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1932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使用高相关度的检索入口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            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题名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/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关键词 ——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&gt;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文摘 ——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&gt;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（全文）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使用限制检索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            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如：在百度中可以进行多种限制：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                      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限定搜索网站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(site:     )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；文档格式（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filetype:ppt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、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doc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、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pdf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、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xls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等）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反复使用二次检索（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and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使用“精确检索”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            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如：百度中的“”（双引号）与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《》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（书名号）等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                      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维普与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CNKI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中的“精确检索”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页脚占位符 4"/>
          <p:cNvSpPr/>
          <p:nvPr/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淘花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/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百度专用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6" name="灯片编号占位符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9FFCB-01D9-422C-ACDE-11A0B1FF862F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aeaea"/>
                </a:solidFill>
                <a:latin typeface="Times New Roman"/>
              </a:rPr>
              <a:t>（二）提高检全率的方法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21932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用“全文”等低相关度的检索途径进行检索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使用同、近义词（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or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使用“模糊检索”和“截词检索”等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利用文献后所附“参考文献”进行检索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页脚占位符 4"/>
          <p:cNvSpPr/>
          <p:nvPr/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淘花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/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百度专用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5" name="灯片编号占位符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34C1F-2E14-45AA-B837-AA792E2CC2C4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一、信息检索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1932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信息检索是将信息按一定的方式组织和存储起来，并根据信息用户的需要找出有关信息的过程和技术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  <a:ea typeface="隶书"/>
              </a:rPr>
              <a:t>。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对于信息用户而言，就是从信息集合中找出所需信息的过程。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信息检索基本原理：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          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提问标识（检索式）与文献标识的对比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Text Box 12"/>
          <p:cNvSpPr/>
          <p:nvPr/>
        </p:nvSpPr>
        <p:spPr>
          <a:xfrm>
            <a:off x="3811680" y="5257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页脚占位符 4"/>
          <p:cNvSpPr/>
          <p:nvPr/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淘花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/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百度专用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灯片编号占位符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C3551-91AE-4481-8360-463B50704505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二、信息检索途径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检索途径：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            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又称为检索点。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             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依据文献的</a:t>
            </a:r>
            <a:r>
              <a:rPr b="1" lang="zh-CN" sz="2800" spc="-1" strike="noStrike">
                <a:solidFill>
                  <a:srgbClr val="ffcc66"/>
                </a:solidFill>
                <a:latin typeface="Times New Roman"/>
                <a:ea typeface="黑体"/>
              </a:rPr>
              <a:t>外部特征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（题名、责任者、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出版者、出版时间等）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             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和</a:t>
            </a:r>
            <a:r>
              <a:rPr b="1" lang="zh-CN" sz="2800" spc="-1" strike="noStrike">
                <a:solidFill>
                  <a:srgbClr val="ffcc66"/>
                </a:solidFill>
                <a:latin typeface="Times New Roman"/>
                <a:ea typeface="黑体"/>
              </a:rPr>
              <a:t>内容特征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（分类号、主题词、关键词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或自由词等）来确定，是信息检索的入口点。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          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页脚占位符 4"/>
          <p:cNvSpPr/>
          <p:nvPr/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淘花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/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百度专用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4" name="灯片编号占位符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2D965-900F-4150-A7E5-41F143EF2098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常用检索途径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Times New Roman"/>
              </a:rPr>
              <a:t>题名（篇名）途径：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利用篇名中的字词或篇名的一部分进行检索。其结果是所有在篇名中出现该字、该词或该部分的文章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Times New Roman"/>
              </a:rPr>
              <a:t>著者途径</a:t>
            </a: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：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利用文献作者名字进行检索。可查到该作者的所有文献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Times New Roman"/>
              </a:rPr>
              <a:t>分类途径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：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利用分类名和分类号进行检索。其结果是该类目所有的文献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页脚占位符 4"/>
          <p:cNvSpPr/>
          <p:nvPr/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淘花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/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百度专用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8" name="灯片编号占位符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0E214-E499-404E-B11F-E6E46B7B6813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121932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Times New Roman"/>
              </a:rPr>
              <a:t>主题途径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：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利用与该篇文献主题相关的规范词（主题词）进行检索，其结果是包含该主题词的所有文献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Times New Roman"/>
              </a:rPr>
              <a:t>关键词途径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：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利用与该篇文献主题相关的关键词（自由词）进行检索，其结果是包含该关键词的所有文献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Times New Roman"/>
              </a:rPr>
              <a:t>序号途径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：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利用文献的各种代码、数字编制的索引查找文献，如专利号、技术标准的标准号、科技报告的报告号等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Times New Roman"/>
              </a:rPr>
              <a:t>其他途径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：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如文献类型、参考文献、语种、出版（发表）年份、作者机构、出版机构等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页脚占位符 4"/>
          <p:cNvSpPr/>
          <p:nvPr/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淘花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/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百度专用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1" name="灯片编号占位符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F0A49-2BC1-4C6F-99F7-419A444A6A84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三、信息检索常用方法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ffcc66"/>
                </a:solidFill>
                <a:latin typeface="Times New Roman"/>
              </a:rPr>
              <a:t>一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)</a:t>
            </a:r>
            <a:r>
              <a:rPr b="1" lang="zh-CN" sz="3200" spc="-1" strike="noStrike">
                <a:solidFill>
                  <a:srgbClr val="ffcc66"/>
                </a:solidFill>
                <a:latin typeface="Times New Roman"/>
              </a:rPr>
              <a:t>布尔逻辑</a:t>
            </a:r>
            <a:r>
              <a:rPr b="0" lang="zh-CN" sz="3200" spc="-1" strike="noStrike">
                <a:solidFill>
                  <a:srgbClr val="ffcc66"/>
                </a:solidFill>
                <a:latin typeface="Times New Roman"/>
              </a:rPr>
              <a:t>：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         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用布尔逻辑算符来表达检索词间的逻辑组配关系，是最基本、最常用的检索技术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en-US" sz="3100" spc="-1" strike="noStrike">
                <a:solidFill>
                  <a:srgbClr val="ff0000"/>
                </a:solidFill>
                <a:latin typeface="Times New Roman"/>
              </a:rPr>
              <a:t>--</a:t>
            </a:r>
            <a:r>
              <a:rPr b="1" lang="zh-CN" sz="3100" spc="-1" strike="noStrike">
                <a:solidFill>
                  <a:srgbClr val="ff0000"/>
                </a:solidFill>
                <a:latin typeface="Times New Roman"/>
              </a:rPr>
              <a:t>逻辑或</a:t>
            </a:r>
            <a:r>
              <a:rPr b="1" lang="zh-CN" sz="3100" spc="-1" strike="noStrike">
                <a:solidFill>
                  <a:srgbClr val="eaeaea"/>
                </a:solidFill>
                <a:latin typeface="Times New Roman"/>
              </a:rPr>
              <a:t>（</a:t>
            </a:r>
            <a:r>
              <a:rPr b="1" lang="en-US" sz="3100" spc="-1" strike="noStrike">
                <a:solidFill>
                  <a:srgbClr val="eaeaea"/>
                </a:solidFill>
                <a:latin typeface="Times New Roman"/>
              </a:rPr>
              <a:t>+</a:t>
            </a:r>
            <a:r>
              <a:rPr b="1" lang="zh-CN" sz="3100" spc="-1" strike="noStrike">
                <a:solidFill>
                  <a:srgbClr val="eaeaea"/>
                </a:solidFill>
                <a:latin typeface="Times New Roman"/>
              </a:rPr>
              <a:t>，</a:t>
            </a:r>
            <a:r>
              <a:rPr b="1" lang="en-US" sz="3100" spc="-1" strike="noStrike">
                <a:solidFill>
                  <a:srgbClr val="eaeaea"/>
                </a:solidFill>
                <a:latin typeface="Times New Roman"/>
              </a:rPr>
              <a:t>OR</a:t>
            </a:r>
            <a:r>
              <a:rPr b="1" lang="zh-CN" sz="3100" spc="-1" strike="noStrike">
                <a:solidFill>
                  <a:srgbClr val="eaeaea"/>
                </a:solidFill>
                <a:latin typeface="Times New Roman"/>
              </a:rPr>
              <a:t>）：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表达检索词间的并列关系。可扩大检索范围，提高查全率。如：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A+B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，表明结果中含有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或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都为检索命中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4" name="Oval 9"/>
          <p:cNvSpPr/>
          <p:nvPr/>
        </p:nvSpPr>
        <p:spPr>
          <a:xfrm>
            <a:off x="2895480" y="4800600"/>
            <a:ext cx="1905120" cy="1523880"/>
          </a:xfrm>
          <a:prstGeom prst="ellipse">
            <a:avLst/>
          </a:prstGeom>
          <a:solidFill>
            <a:srgbClr val="ffcc99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cc"/>
                </a:solidFill>
                <a:latin typeface="Times New Roman"/>
              </a:rPr>
              <a:t>A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5" name="Oval 10"/>
          <p:cNvSpPr/>
          <p:nvPr/>
        </p:nvSpPr>
        <p:spPr>
          <a:xfrm>
            <a:off x="5105520" y="4800600"/>
            <a:ext cx="1752480" cy="1523880"/>
          </a:xfrm>
          <a:prstGeom prst="ellipse">
            <a:avLst/>
          </a:prstGeom>
          <a:solidFill>
            <a:srgbClr val="ffcc99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cc"/>
                </a:solidFill>
                <a:latin typeface="Times New Roman"/>
              </a:rPr>
              <a:t>B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页脚占位符 4"/>
          <p:cNvSpPr/>
          <p:nvPr/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淘花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/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百度专用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7" name="灯片编号占位符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0F979-D74A-4AF9-AE36-66B5B7F17F18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1371600" y="304920"/>
            <a:ext cx="77724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en-US" sz="3100" spc="-1" strike="noStrike">
                <a:solidFill>
                  <a:srgbClr val="ff0000"/>
                </a:solidFill>
                <a:latin typeface="Times New Roman"/>
              </a:rPr>
              <a:t>--</a:t>
            </a:r>
            <a:r>
              <a:rPr b="1" lang="zh-CN" sz="3100" spc="-1" strike="noStrike">
                <a:solidFill>
                  <a:srgbClr val="ff0000"/>
                </a:solidFill>
                <a:latin typeface="Times New Roman"/>
              </a:rPr>
              <a:t>逻辑与</a:t>
            </a:r>
            <a:r>
              <a:rPr b="1" lang="zh-CN" sz="3100" spc="-1" strike="noStrike">
                <a:solidFill>
                  <a:srgbClr val="eaeaea"/>
                </a:solidFill>
                <a:latin typeface="Times New Roman"/>
              </a:rPr>
              <a:t>（</a:t>
            </a:r>
            <a:r>
              <a:rPr b="1" lang="zh-CN" sz="3100" spc="-1" strike="noStrike">
                <a:solidFill>
                  <a:srgbClr val="eaeaea"/>
                </a:solidFill>
                <a:latin typeface="Times New Roman"/>
              </a:rPr>
              <a:t>*</a:t>
            </a:r>
            <a:r>
              <a:rPr b="1" lang="zh-CN" sz="3100" spc="-1" strike="noStrike">
                <a:solidFill>
                  <a:srgbClr val="eaeaea"/>
                </a:solidFill>
                <a:latin typeface="Times New Roman"/>
              </a:rPr>
              <a:t>，</a:t>
            </a:r>
            <a:r>
              <a:rPr b="1" lang="en-US" sz="3100" spc="-1" strike="noStrike">
                <a:solidFill>
                  <a:srgbClr val="eaeaea"/>
                </a:solidFill>
                <a:latin typeface="Times New Roman"/>
              </a:rPr>
              <a:t>AND</a:t>
            </a:r>
            <a:r>
              <a:rPr b="1" lang="zh-CN" sz="3100" spc="-1" strike="noStrike">
                <a:solidFill>
                  <a:srgbClr val="eaeaea"/>
                </a:solidFill>
                <a:latin typeface="Times New Roman"/>
              </a:rPr>
              <a:t>）：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表达检索词间的交叉关系。可缩小检索范围，提高查准率。如：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A*B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，表明结果必须同时含有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和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才为命中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1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en-US" sz="3100" spc="-1" strike="noStrike">
                <a:solidFill>
                  <a:srgbClr val="ff0000"/>
                </a:solidFill>
                <a:latin typeface="Times New Roman"/>
              </a:rPr>
              <a:t>--</a:t>
            </a:r>
            <a:r>
              <a:rPr b="1" lang="zh-CN" sz="3100" spc="-1" strike="noStrike">
                <a:solidFill>
                  <a:srgbClr val="ff0000"/>
                </a:solidFill>
                <a:latin typeface="Times New Roman"/>
              </a:rPr>
              <a:t>逻辑非</a:t>
            </a:r>
            <a:r>
              <a:rPr b="1" lang="zh-CN" sz="3100" spc="-1" strike="noStrike">
                <a:solidFill>
                  <a:srgbClr val="eaeaea"/>
                </a:solidFill>
                <a:latin typeface="Times New Roman"/>
              </a:rPr>
              <a:t>（</a:t>
            </a:r>
            <a:r>
              <a:rPr b="1" lang="en-US" sz="3100" spc="-1" strike="noStrike">
                <a:solidFill>
                  <a:srgbClr val="eaeaea"/>
                </a:solidFill>
                <a:latin typeface="Times New Roman"/>
              </a:rPr>
              <a:t>-</a:t>
            </a:r>
            <a:r>
              <a:rPr b="1" lang="zh-CN" sz="3100" spc="-1" strike="noStrike">
                <a:solidFill>
                  <a:srgbClr val="eaeaea"/>
                </a:solidFill>
                <a:latin typeface="Times New Roman"/>
              </a:rPr>
              <a:t>，</a:t>
            </a:r>
            <a:r>
              <a:rPr b="1" lang="en-US" sz="3100" spc="-1" strike="noStrike">
                <a:solidFill>
                  <a:srgbClr val="eaeaea"/>
                </a:solidFill>
                <a:latin typeface="Times New Roman"/>
              </a:rPr>
              <a:t>NOT</a:t>
            </a:r>
            <a:r>
              <a:rPr b="1" lang="zh-CN" sz="3100" spc="-1" strike="noStrike">
                <a:solidFill>
                  <a:srgbClr val="eaeaea"/>
                </a:solidFill>
                <a:latin typeface="Times New Roman"/>
              </a:rPr>
              <a:t>）：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表达检索词间的排除关系。可缩小检索范围，提高查准率，但要慎用。如：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A-B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，表明结果是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中不包含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的那部分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9" name="Oval 11"/>
          <p:cNvSpPr/>
          <p:nvPr/>
        </p:nvSpPr>
        <p:spPr>
          <a:xfrm>
            <a:off x="3733920" y="4724280"/>
            <a:ext cx="2438280" cy="1600200"/>
          </a:xfrm>
          <a:prstGeom prst="ellipse">
            <a:avLst/>
          </a:prstGeom>
          <a:solidFill>
            <a:srgbClr val="ffcc99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Times New Roman"/>
              </a:rPr>
              <a:t>  </a:t>
            </a:r>
            <a:r>
              <a:rPr b="0" lang="en-US" sz="4000" spc="-1" strike="noStrike">
                <a:solidFill>
                  <a:srgbClr val="ff33cc"/>
                </a:solidFill>
                <a:latin typeface="Times New Roman"/>
              </a:rPr>
              <a:t>A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0" name="Oval 12"/>
          <p:cNvSpPr/>
          <p:nvPr/>
        </p:nvSpPr>
        <p:spPr>
          <a:xfrm>
            <a:off x="4952880" y="5029200"/>
            <a:ext cx="1143000" cy="990720"/>
          </a:xfrm>
          <a:prstGeom prst="ellipse">
            <a:avLst/>
          </a:prstGeom>
          <a:solidFill>
            <a:srgbClr val="eaeaea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cc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1" name="Oval 20"/>
          <p:cNvSpPr/>
          <p:nvPr/>
        </p:nvSpPr>
        <p:spPr>
          <a:xfrm>
            <a:off x="2895480" y="1752480"/>
            <a:ext cx="2286000" cy="1447920"/>
          </a:xfrm>
          <a:prstGeom prst="ellipse">
            <a:avLst/>
          </a:prstGeom>
          <a:solidFill>
            <a:srgbClr val="eaeaea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cc"/>
                </a:solidFill>
                <a:latin typeface="Times New Roman"/>
              </a:rPr>
              <a:t>A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Oval 21"/>
          <p:cNvSpPr/>
          <p:nvPr/>
        </p:nvSpPr>
        <p:spPr>
          <a:xfrm>
            <a:off x="4495680" y="1752480"/>
            <a:ext cx="2133720" cy="1447920"/>
          </a:xfrm>
          <a:prstGeom prst="ellipse">
            <a:avLst/>
          </a:prstGeom>
          <a:solidFill>
            <a:srgbClr val="ffcc66">
              <a:alpha val="50000"/>
            </a:srgbClr>
          </a:solidFill>
          <a:ln cap="sq"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cc"/>
                </a:solidFill>
                <a:latin typeface="Times New Roman"/>
              </a:rPr>
              <a:t>B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页脚占位符 4"/>
          <p:cNvSpPr/>
          <p:nvPr/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淘花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/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百度专用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灯片编号占位符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97AA3-90E0-46F6-8B0A-A2CAAAABCF46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1371600" y="533520"/>
            <a:ext cx="77724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ffcc66"/>
                </a:solidFill>
                <a:latin typeface="Times New Roman"/>
              </a:rPr>
              <a:t>二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)</a:t>
            </a:r>
            <a:r>
              <a:rPr b="1" lang="zh-CN" sz="3200" spc="-1" strike="noStrike">
                <a:solidFill>
                  <a:srgbClr val="ffcc66"/>
                </a:solidFill>
                <a:latin typeface="Times New Roman"/>
              </a:rPr>
              <a:t>截词检索：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         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又称词干检索、模糊检索。检索时，只需用词干加截词符号，凡是含有与该词干相同的文献均能被检出。该方法能很好避免漏检现象的出现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5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检索系统不同，截词符也不同，常用的截词符号有：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？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，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等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5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分为有限截词（即一个截词符只代表一个字符）和无限截词（一个截词符可代表多个字符）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5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按截断的位置来分，截词可分为后截断、前截断、中截断三种类型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页脚占位符 4"/>
          <p:cNvSpPr/>
          <p:nvPr/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淘花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/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百度专用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灯片编号占位符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6232F-2DEE-4A9D-A363-C55721C7FBED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1371600" y="457200"/>
            <a:ext cx="77724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spcAft>
                <a:spcPts val="601"/>
              </a:spcAft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举例说明</a:t>
            </a: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后截断，前方一致。如：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           </a:t>
            </a: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comput*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    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           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表示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computer,computers,computing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等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           </a:t>
            </a:r>
            <a:r>
              <a:rPr b="1" lang="zh-CN" sz="2400" spc="-1" strike="noStrike">
                <a:solidFill>
                  <a:srgbClr val="ffff66"/>
                </a:solidFill>
                <a:latin typeface="Times New Roman"/>
              </a:rPr>
              <a:t>王伟？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      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           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可查出所有名字中含“王伟”的作者的文献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前截断，后方一致。如：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          </a:t>
            </a:r>
            <a:r>
              <a:rPr b="1" lang="zh-CN" sz="24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ffff66"/>
                </a:solidFill>
                <a:latin typeface="Times New Roman"/>
              </a:rPr>
              <a:t>*</a:t>
            </a: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Computer 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           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表示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minicomputer,microcomputer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等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中截断，中间一致。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           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*</a:t>
            </a: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comput*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            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表示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minicomputer,microcomputers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等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            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作者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=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张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?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静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            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检索出张亚静、张雪静、张宇静等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1896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1896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7T09:52:10Z</dcterms:created>
  <dc:creator>liu</dc:creator>
  <dc:description/>
  <dc:language>en-US</dc:language>
  <cp:lastModifiedBy>thinkpad</cp:lastModifiedBy>
  <cp:lastPrinted>1899-12-30T00:00:00Z</cp:lastPrinted>
  <dcterms:modified xsi:type="dcterms:W3CDTF">2011-08-11T06:18:51Z</dcterms:modified>
  <cp:revision>152</cp:revision>
  <dc:subject/>
  <dc:title>信息检索基础知识与信息 检索技巧专题讲座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998</vt:lpwstr>
  </property>
</Properties>
</file>