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607-EFD9-47CF-ADF6-515318B5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3EA9-06D7-4BB3-AA56-09FB8EF8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7E8-486F-4A77-B966-D7D178AFF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9E2-C640-4ADE-9B92-E34CBAD7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1098-D5C5-44E8-BBB6-1112EB65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6E8A-9DC3-4C5F-B796-D89A5400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E7D9-7506-4600-B76E-99D4C7B8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344C-C061-49CD-9A1F-1D73C540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8A1B-3FDD-4758-B6B9-6239D234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78C3-987E-4CC1-AC14-DF0B1736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48D2-B4AA-48D4-A00A-138414A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519-46E0-4681-B69C-3BCC03B7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A404-AE4A-4C72-AC00-B1CB3AD0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7179-3E79-4141-9788-76FF2F68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4CA3-D9C3-46F0-AECE-1163A55B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7E38-6853-47EC-9881-C200A4D2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799E2-4542-4828-B50A-BB452B93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928C-61F5-4D6A-885F-FF7EE7E6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2ECF-AC4C-4F2D-B4CB-11738AC6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5572-8538-404F-9CB9-1A290D8F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C9A-DE8F-4C1C-B1FB-EB8C1B67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0AC-984B-46B9-9962-73D679EA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C9B5-B47C-4901-B8B8-08E97B82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CDD-7BA3-4AF3-9E9E-27B0DB6A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834C6-A320-4A57-AEB1-1AC8DD254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D303-6993-4F05-B8A8-DF8D5DBC6BD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wu5148@tjcu.edu.cn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7914-BD80-49EE-9093-4A0F58A882D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信息检索基础知识与信息</a:t>
            </a:r>
            <a:br>
              <a:rPr sz="4400"/>
            </a:b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检索技巧专题讲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津商学院图书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吴凤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-mail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0" lang="en-US" sz="32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wu5148@tjcu.edu.c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电话：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668401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06AA-ED2B-4892-9E40-86EFF85E173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（三）限制检索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制检索是缩小或约束检索结果的方法，主要是指限定字段检索，即是指定检索词在记录中出现的字段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常用的字段代码有：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题名）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U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作者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文摘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JN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刊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PY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年代）    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L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语种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如：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information science/TI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LA=english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文摘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网络信息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CE71-7FF3-4199-811B-943D6863E9E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四、机检系统常用检索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简单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asic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单项检索。一般只需输入一个检索词，辅以相应的途径即可进行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二次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在原有简单检索的结果基础上，再进行检索。可反复使用，不断扩大或缩小检索范围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高级检索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advanced search</a:t>
            </a:r>
            <a:r>
              <a:rPr b="1" lang="zh-CN" sz="30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是一种多项组合检索，一般输入多个检索词进行组配。有的检索系统也称为复杂检索或扩展检索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专家检索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：用多个检索词与各种运算符组成检索式，功能与高级检索相似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BA6A-2B55-4149-AFB4-56E4B999720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五、检索技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最重要的两个指标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“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”与“检准率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准率：指检出的相关文献量与检出文献总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的比率。反应检索结果的准确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检全率：指检出的相 关文献量与检索系统中相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关文献总量的比率。反映检索结果的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全面性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A0AE-4AF2-4993-8895-108556F2F43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一）提高检准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高相关度的检索入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题名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关键词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文摘 ——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全文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限制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在百度中可以进行多种限制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限定搜索网站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(site:     )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；文档格式（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filetype:pp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do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pdf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xl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反复使用二次检索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精确检索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：百度中的“”（双引号）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《》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（书名号）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维普与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NKI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的“精确检索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4D93-F4E6-4F49-9ED8-7640EB50574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（二）提高检全率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用“全文”等低相关度的检索途径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同、近义词（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使用“模糊检索”和“截词检索”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利用文献后所附“参考文献”进行检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24D0-9A13-4615-8BB8-5A8B9C2E990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一、信息检索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信息检索是将信息按一定的方式组织和存储起来，并根据信息用户的需要找出有关信息的过程和技术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对于信息用户而言，就是从信息集合中找出所需信息的过程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信息检索基本原理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提问标识（检索式）与文献标识的对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81168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E73B-10CD-4200-9339-F08850B46CD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二、信息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检索途径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又称为检索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依据文献的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外部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题名、责任者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出版者、出版时间等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黑体"/>
              </a:rPr>
              <a:t>内容特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分类号、主题词、关键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或自由词等）来确定，是信息检索的入口点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E7E3-C319-44D4-9405-999C8047F45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常用检索途径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题名（篇名）途径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篇名中的字词或篇名的一部分进行检索。其结果是所有在篇名中出现该字、该词或该部分的文章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著者途径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作者名字进行检索。可查到该作者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分类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分类名和分类号进行检索。其结果是该类目所有的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F330-718B-4CCC-840F-5033A3DFF99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1932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主题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规范词（主题词）进行检索，其结果是包含该主题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关键词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与该篇文献主题相关的关键词（自由词）进行检索，其结果是包含该关键词的所有文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序号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利用文献的各种代码、数字编制的索引查找文献，如专利号、技术标准的标准号、科技报告的报告号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其他途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如文献类型、参考文献、语种、出版（发表）年份、作者机构、出版机构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EFA3-1D66-4DBD-8CB1-3FDDC3F5861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三、信息检索常用方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布尔逻辑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用布尔逻辑算符来表达检索词间的逻辑组配关系，是最基本、最常用的检索技术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或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并列关系。可扩大检索范围，提高查全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中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都为检索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2895480" y="4800600"/>
            <a:ext cx="190512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Oval 10"/>
          <p:cNvSpPr/>
          <p:nvPr/>
        </p:nvSpPr>
        <p:spPr>
          <a:xfrm>
            <a:off x="5105520" y="4800600"/>
            <a:ext cx="1752480" cy="15238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A8CD-0E1D-4C71-9D74-EDC81A70D18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与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AND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交叉关系。可缩小检索范围，提高查准率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*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必须同时含有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才为命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逻辑非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en-US" sz="3100" spc="-1" strike="noStrike">
                <a:solidFill>
                  <a:srgbClr val="eaeaea"/>
                </a:solidFill>
                <a:latin typeface="Times New Roman"/>
              </a:rPr>
              <a:t>NOT</a:t>
            </a:r>
            <a:r>
              <a:rPr b="1" lang="zh-CN" sz="3100" spc="-1" strike="noStrike">
                <a:solidFill>
                  <a:srgbClr val="eaeaea"/>
                </a:solidFill>
                <a:latin typeface="Times New Roman"/>
              </a:rPr>
              <a:t>）：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达检索词间的排除关系。可缩小检索范围，提高查准率，但要慎用。如：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-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表明结果是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不包含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那部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3733920" y="4724280"/>
            <a:ext cx="2438280" cy="16002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Oval 12"/>
          <p:cNvSpPr/>
          <p:nvPr/>
        </p:nvSpPr>
        <p:spPr>
          <a:xfrm>
            <a:off x="4952880" y="5029200"/>
            <a:ext cx="1143000" cy="9907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Oval 20"/>
          <p:cNvSpPr/>
          <p:nvPr/>
        </p:nvSpPr>
        <p:spPr>
          <a:xfrm>
            <a:off x="2895480" y="1752480"/>
            <a:ext cx="2286000" cy="1447920"/>
          </a:xfrm>
          <a:prstGeom prst="ellipse">
            <a:avLst/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Oval 21"/>
          <p:cNvSpPr/>
          <p:nvPr/>
        </p:nvSpPr>
        <p:spPr>
          <a:xfrm>
            <a:off x="4495680" y="1752480"/>
            <a:ext cx="2133720" cy="1447920"/>
          </a:xfrm>
          <a:prstGeom prst="ellipse">
            <a:avLst/>
          </a:prstGeom>
          <a:solidFill>
            <a:srgbClr val="ffcc66">
              <a:alpha val="50000"/>
            </a:srgbClr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03B-6E0B-4EF8-B094-B60DA8B8B1E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截词检索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又称词干检索、模糊检索。检索时，只需用词干加截词符号，凡是含有与该词干相同的文献均能被检出。该方法能很好避免漏检现象的出现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系统不同，截词符也不同，常用的截词符号有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分为有限截词（即一个截词符只代表一个字符）和无限截词（一个截词符可代表多个字符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按截断的位置来分，截词可分为后截断、前截断、中截断三种类型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淘花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/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百度专用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灯片编号占位符 5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E7AB-144D-4135-A47B-D5B95CBED27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371600" y="4572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举例说明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后截断，前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omputer,computers,computing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王伟？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可查出所有名字中含“王伟”的作者的文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前截断，后方一致。如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er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中截断，中间一致。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mput*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minicomputer,microcomputers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作者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张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?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检索出张亚静、张雪静、张宇静等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9:52:10Z</dcterms:created>
  <dc:creator>liu</dc:creator>
  <dc:description/>
  <dc:language>en-US</dc:language>
  <cp:lastModifiedBy>thinkpad</cp:lastModifiedBy>
  <cp:lastPrinted>1899-12-30T00:00:00Z</cp:lastPrinted>
  <dcterms:modified xsi:type="dcterms:W3CDTF">2011-08-11T06:18:51Z</dcterms:modified>
  <cp:revision>152</cp:revision>
  <dc:subject/>
  <dc:title>信息检索基础知识与信息 检索技巧专题讲座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