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comments/comment1.xml" ContentType="application/vnd.openxmlformats-officedocument.presentationml.comments+xml"/>
  <Override PartName="/ppt/comments/comment2.xml" ContentType="application/vnd.openxmlformats-officedocument.presentationml.comments+xml"/>
  <Override PartName="/ppt/comments/comment3.xml" ContentType="application/vnd.openxmlformats-officedocument.presentationml.comments+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Lst>
  <p:sldSz cx="9144000" cy="6858000"/>
  <p:notesSz cx="6858000" cy="9144000"/>
</p:presentation>
</file>

<file path=ppt/commentAuthors.xml><?xml version="1.0" encoding="utf-8"?>
<p:cmAuthorLst xmlns:p="http://schemas.openxmlformats.org/presentationml/2006/main">
  <p:cmAuthor id="0" name="harold" initials="h" lastIdx="5"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presProps" Target="presProps.xml"/><Relationship Id="rId14" Type="http://schemas.openxmlformats.org/officeDocument/2006/relationships/commentAuthors" Target="commentAuthors.xml"/>
</Relationships>
</file>

<file path=ppt/comments/comment1.xml><?xml version="1.0" encoding="utf-8"?>
<p:cmLst xmlns:p="http://schemas.openxmlformats.org/presentationml/2006/main">
  <p:cm authorId="0" dt="2012-01-30T19:59:21.877000000" idx="1">
    <p:pos x="10" y="10"/>
    <p:text>My dear,
This is your Bitácora 0.
</p:text>
  </p:cm>
</p:cmLst>
</file>

<file path=ppt/comments/comment2.xml><?xml version="1.0" encoding="utf-8"?>
<p:cmLst xmlns:p="http://schemas.openxmlformats.org/presentationml/2006/main">
  <p:cm authorId="0" dt="2012-01-30T20:00:07.829000000" idx="2">
    <p:pos x="10" y="10"/>
    <p:text>OK!!! I hope we can get this balance!!!</p:text>
  </p:cm>
</p:cmLst>
</file>

<file path=ppt/comments/comment3.xml><?xml version="1.0" encoding="utf-8"?>
<p:cmLst xmlns:p="http://schemas.openxmlformats.org/presentationml/2006/main">
  <p:cm authorId="0" dt="2012-01-30T20:01:01.181000000" idx="3">
    <p:pos x="10" y="10"/>
    <p:text>Good! Maybe we can implement other practices!!!</p:text>
  </p:cm>
</p:cmLst>
</file>

<file path=ppt/comments/comment4.xml><?xml version="1.0" encoding="utf-8"?>
<p:cmLst xmlns:p="http://schemas.openxmlformats.org/presentationml/2006/main">
  <p:cm authorId="0" dt="2012-01-30T20:01:53.005000000" idx="4">
    <p:pos x="10" y="-6"/>
    <p:text>Yes, this supplementary function is really important.</p:text>
  </p:cm>
  <p:cm authorId="0" dt="2012-01-30T20:09:06.335000000" idx="5">
    <p:pos x="146" y="146"/>
    <p:text>Dear Marisela,
Interesting ideas and hope we all learn sharing experiences. I feel you can contribute a lot.
4,3/5,0
Harold</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1976C-EB7B-4D73-82D7-706545DDE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24785-E2AF-4722-AE6E-5FA32A5D4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DB74E-85FA-4826-9C2C-D1F3891A2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6C375-EB59-4B9C-89E4-1E78BD8F7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5FD1E9-A93B-43AF-BCF6-E37916F42C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4CF98-4BD6-4292-B50B-58A0376B3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21408-0D30-4176-AC0F-0C751D405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2AD9A-ED3C-4473-B907-8ADA855E5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630B8-D045-4803-8D10-2D02D3648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1237F-5DD2-428A-B92C-F90FB815D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67385-FA2D-4D47-AF16-70091E242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232C6-86D9-456B-8804-1A4A0ECD2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ED3ED-39C4-4FC3-A6A8-D3B6A6055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F5A10-BDFA-41E0-8FD1-C0DB2AAB4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7D94DD-A8B3-4BAE-B4AB-73C8E7CBD0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E0877D-30BE-4449-962D-91E6C8CA00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1E5E78-3C10-4B4C-B4DD-47A04C57F4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35682F-1AC4-4B68-823C-80B149589D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6BC871-E883-44B8-BE0D-F35498A39D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64205D-B2CF-4B21-84AF-A3DF89DD84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BB4A49-DF4A-41E5-A58E-493804BDE8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A24E81-D9D5-4BBE-A06F-7DC32B8FBC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E0D7D-6594-4D07-BF77-569A89E26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760E1E-2B9C-4E1D-BDA2-EFB0DB547A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EA7AAB-B078-4A0C-9259-8B548CD842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2E75B1-618C-4208-AE62-321FB09AD4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E35E5B-51B2-4CBF-8C57-9B1FCBE8CF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98AAAC-55D5-4A2F-8965-322ABC7F23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9C35F9-6951-47AA-BFC8-EAB561E297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59239B-A35E-42C8-A304-46782D80C2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49C965-E096-4F64-934C-FFE37BD715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6DB8BA-DC82-4FE0-865E-7D4BC1C1B5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7BFF58-8864-46B1-806B-4BD2C692B3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AB221-4D8D-4840-9DFF-F2134F745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842F54-CF8D-46D6-BB96-B6314BE708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1775B4-F474-4C22-B99C-433B55A524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71C41D-B09B-4141-A4C9-EDCF1513F1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B0019B-A59F-4F05-9C45-F6EBAC6972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FD9017-F012-4423-A8AC-0A57306380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ACB756-DC52-4488-A541-207FB69CEA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3C575C-8A61-4AA9-8195-894E1E8B3C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D6EF82-0110-457F-A6B5-8DFE79F659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733BDC-1D20-43E6-8577-CF4B1E3336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228D5C-0201-4239-ADF3-83EEAB1079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E41CE-8E6E-4FB7-8B67-3DFC0D556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5E629D-E7F9-4E99-813F-83C497A88A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04A798-B416-47DF-94FF-87B1B89B0B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6CBE50-7A6C-40E7-BC7B-DF1E0101CD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C118AB-44BB-46D9-9BE2-E1C8E5E0F2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82534A-113E-4E56-8080-CC0F81107E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7E7C6B-E322-4738-B5A9-BA2E04EC5C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D5DE10-6B78-4E2D-B693-C62082BF29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85568C-8A78-4A2A-86F7-5B82CDBE12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A42732-7F84-4FAC-8A56-F661BBF715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F12527-5175-490C-9115-4AB220A933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0D35D-551B-462E-88C2-7BB09ECC0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4F23DF-AF59-4B7C-AD6B-77571EEAF4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D392BD-6C3F-4605-8BD6-11AE4F71ED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B3AF48-F604-4806-9009-2107C4D30E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4C8C45-D73A-4744-814D-19EE0FB8F2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CA9CB1-C1BF-4058-AE09-2EC4E90523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654B54-56A9-42A0-B1EE-43FA809863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BF5FFD-FD6B-49B4-84AB-DA79C8F35E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38F9D2-CA51-4039-BEBE-50DEC0A485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D236C3-E23A-4EA7-B607-430140729D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EDDB3B-0A11-4427-9108-B2B35B0F93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B1B56-B3E7-4422-885B-7EA96D009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4C8CB1-22F4-4E55-B7F2-686759477A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C795FE-4C4D-4D93-A23B-ED85E42DCB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53E060-E55E-4963-B952-F47BD1F309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497FA2-D515-4664-922A-4048B2BAD1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FE27DB-A902-444A-967B-510F5F0544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11595B-CA08-4281-9B2B-F878CB81B9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DAE82F-2695-4D4A-AD9A-3FB6B7F02F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51881C-A0F8-46A4-8DFD-CD78762478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9661A2-DEBC-42A2-A2A1-14485E1AFD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FC01DF-5524-4520-8CA6-6D8E9589AD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9F3E3-FAE7-4818-B2C0-4B2660841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B0472E-9E87-4A5E-A5AF-B717F7B3FF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CBD12C-78AC-49BE-BD66-2041505ABB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68893C-68E3-4576-9A13-23D3AB4C44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F8ED61-C5E3-4844-BCAB-F502CEDAC4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95B461-057F-439A-A8EE-5472D1A1AD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1BB17-8DEA-486B-9B98-210C1F220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9DDD5-FF24-4564-9D0C-32E6CB65CBB4}"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17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18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19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20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23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24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25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26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27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E974D-E2FE-4B32-98E3-926F8BA6721A}"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17 Forma libre"/>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18 Forma libre"/>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19 Forma libre"/>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20 Forma libre"/>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23 Forma libre"/>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24 Forma libre"/>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25 Forma libre"/>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26 Forma libre"/>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27 Forma libre"/>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28 Forma libre"/>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29 Forma libre"/>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30 Forma libre"/>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31 Forma libre"/>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32 Forma libre"/>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33 Forma libre"/>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34 Rectángulo"/>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35 Rectángulo"/>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36 Rectángulo"/>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37 Rectángulo"/>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38 Rectángulo"/>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39 Rectángulo"/>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6A2B4-26E1-4BD9-83E4-B11417F65533}"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EF4B5-16B2-44FA-A8BA-6E2443ABD6A9}"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17 Rectángulo"/>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18 Rectángulo"/>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19 Rectángulo"/>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20 Rectángulo"/>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23 Rectángulo"/>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24 Rectángulo"/>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25 Rectángulo"/>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26 Rectángulo"/>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27 Rectángulo"/>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28 Rectángulo"/>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0F79E-BA9A-406D-9DEE-EB565C0AB664}"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33323-6C9F-4128-86E2-BBA773DE9BBE}"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17 Rectángulo"/>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18 Conector recto"/>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19 Grupo"/>
          <p:cNvGrpSpPr/>
          <p:nvPr/>
        </p:nvGrpSpPr>
        <p:grpSpPr>
          <a:xfrm>
            <a:off x="8516880" y="1217520"/>
            <a:ext cx="128160" cy="131400"/>
            <a:chOff x="8516880" y="1217520"/>
            <a:chExt cx="128160" cy="131400"/>
          </a:xfrm>
        </p:grpSpPr>
        <p:sp>
          <p:nvSpPr>
            <p:cNvPr id="316" name="20 Conector recto"/>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23 Conector recto"/>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24 Conector recto"/>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25 Grupo"/>
          <p:cNvGrpSpPr/>
          <p:nvPr/>
        </p:nvGrpSpPr>
        <p:grpSpPr>
          <a:xfrm>
            <a:off x="8669160" y="1370160"/>
            <a:ext cx="129240" cy="131400"/>
            <a:chOff x="8669160" y="1370160"/>
            <a:chExt cx="129240" cy="131400"/>
          </a:xfrm>
        </p:grpSpPr>
        <p:sp>
          <p:nvSpPr>
            <p:cNvPr id="320" name="26 Conector recto"/>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27 Conector recto"/>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28 Conector recto"/>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29 Grupo"/>
          <p:cNvGrpSpPr/>
          <p:nvPr/>
        </p:nvGrpSpPr>
        <p:grpSpPr>
          <a:xfrm>
            <a:off x="8321760" y="1473120"/>
            <a:ext cx="128160" cy="131400"/>
            <a:chOff x="8321760" y="1473120"/>
            <a:chExt cx="128160" cy="131400"/>
          </a:xfrm>
        </p:grpSpPr>
        <p:sp>
          <p:nvSpPr>
            <p:cNvPr id="324" name="30 Conector recto"/>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31 Conector recto"/>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32 Conector recto"/>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2D34F-D06F-4E04-84DB-F99264F9645A}"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comments" Target="../comments/commen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comments" Target="../comments/commen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4343400"/>
            <a:ext cx="7772400" cy="1974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1eeff"/>
                </a:solidFill>
                <a:latin typeface="Consolas"/>
              </a:rPr>
              <a:t>BITÁCORA 0</a:t>
            </a:r>
            <a:endParaRPr b="0" lang="en-US" sz="4400" spc="-1" strike="noStrike">
              <a:solidFill>
                <a:srgbClr val="c1eeff"/>
              </a:solidFill>
              <a:latin typeface="Consolas"/>
            </a:endParaRPr>
          </a:p>
        </p:txBody>
      </p:sp>
      <p:sp>
        <p:nvSpPr>
          <p:cNvPr id="369" name="PlaceHolder 2"/>
          <p:cNvSpPr>
            <a:spLocks noGrp="1"/>
          </p:cNvSpPr>
          <p:nvPr>
            <p:ph type="subTitle"/>
          </p:nvPr>
        </p:nvSpPr>
        <p:spPr>
          <a:xfrm>
            <a:off x="914400" y="2835000"/>
            <a:ext cx="7772400" cy="1508040"/>
          </a:xfrm>
          <a:prstGeom prst="rect">
            <a:avLst/>
          </a:prstGeom>
          <a:noFill/>
          <a:ln w="9360">
            <a:solidFill>
              <a:srgbClr val="138677"/>
            </a:solidFill>
            <a:miter/>
          </a:ln>
        </p:spPr>
        <p:txBody>
          <a:bodyPr lIns="100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RICHARD CARDOZO</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eeff"/>
                </a:solidFill>
                <a:latin typeface="Consolas"/>
              </a:rPr>
              <a:t>What are you expectations of this course?</a:t>
            </a:r>
            <a:endParaRPr b="0" lang="en-US" sz="3600" spc="-1" strike="noStrike">
              <a:solidFill>
                <a:srgbClr val="c1eeff"/>
              </a:solidFill>
              <a:latin typeface="Consolas"/>
            </a:endParaRPr>
          </a:p>
        </p:txBody>
      </p:sp>
      <p:sp>
        <p:nvSpPr>
          <p:cNvPr id="37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I have high expectations because in our days the use of technology in education is necessary and if a teacher does not function in this area he is destined to be replaced by the generation of new teacher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eeff"/>
                </a:solidFill>
                <a:latin typeface="Consolas"/>
              </a:rPr>
              <a:t>Have you taught? If so, have you used ICTs?</a:t>
            </a:r>
            <a:endParaRPr b="0" lang="en-US" sz="3600" spc="-1" strike="noStrike">
              <a:solidFill>
                <a:srgbClr val="c1eeff"/>
              </a:solidFill>
              <a:latin typeface="Consolas"/>
            </a:endParaRPr>
          </a:p>
        </p:txBody>
      </p:sp>
      <p:sp>
        <p:nvSpPr>
          <p:cNvPr id="373" name=""/>
          <p:cNvSpPr txBox="1"/>
          <p:nvPr/>
        </p:nvSpPr>
        <p:spPr>
          <a:xfrm>
            <a:off x="914400" y="1784160"/>
            <a:ext cx="7772400" cy="2292120"/>
          </a:xfrm>
          <a:prstGeom prst="rect">
            <a:avLst/>
          </a:prstGeom>
          <a:noFill/>
          <a:ln w="0">
            <a:noFill/>
          </a:ln>
        </p:spPr>
        <p:txBody>
          <a:bodyPr anchor="t">
            <a:normAutofit fontScale="91000"/>
          </a:bodyPr>
          <a:p>
            <a:pPr marL="6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yes, I have taught in this class to use different things to facebook, twitter and blogs. It's common to see in languages teaching the use of those tools but like teachers don't know another way to use the ICTs.</a:t>
            </a:r>
            <a:endParaRPr b="0" lang="en-US" sz="3000" spc="-1" strike="noStrike">
              <a:solidFill>
                <a:srgbClr val="ffffff"/>
              </a:solidFill>
              <a:latin typeface="Corbel"/>
            </a:endParaRPr>
          </a:p>
          <a:p>
            <a:pPr marL="6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74" name="Picture 2" descr="http://diarium.usal.es/saramoyano/files/2011/10/las-tics.jpg"/>
          <p:cNvPicPr/>
          <p:nvPr/>
        </p:nvPicPr>
        <p:blipFill>
          <a:blip r:embed="rId1"/>
          <a:stretch/>
        </p:blipFill>
        <p:spPr>
          <a:xfrm rot="713400">
            <a:off x="5579640" y="4076280"/>
            <a:ext cx="3143160" cy="240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42560" y="691920"/>
            <a:ext cx="70246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2. What do you think about using ICTs for language teaching?</a:t>
            </a:r>
            <a:br>
              <a:rPr sz="3200"/>
            </a:br>
            <a:endParaRPr b="0" lang="en-US" sz="3200" spc="-1" strike="noStrike">
              <a:solidFill>
                <a:srgbClr val="c1eeff"/>
              </a:solidFill>
              <a:latin typeface="Consolas"/>
            </a:endParaRPr>
          </a:p>
        </p:txBody>
      </p:sp>
      <p:sp>
        <p:nvSpPr>
          <p:cNvPr id="376" name=""/>
          <p:cNvSpPr txBox="1"/>
          <p:nvPr/>
        </p:nvSpPr>
        <p:spPr>
          <a:xfrm>
            <a:off x="1042560" y="1916280"/>
            <a:ext cx="6777000" cy="2520720"/>
          </a:xfrm>
          <a:prstGeom prst="rect">
            <a:avLst/>
          </a:prstGeom>
          <a:noFill/>
          <a:ln w="0">
            <a:noFill/>
          </a:ln>
        </p:spPr>
        <p:txBody>
          <a:bodyPr anchor="t">
            <a:normAutofit fontScale="97000"/>
          </a:bodyPr>
          <a:p>
            <a:pPr marL="398520" indent="-332280" algn="r">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 think that in our days it's necessary to know about the use of places as SL in order to carry our students in a different technology level. The ICTs in education is not an option, it is an obligation.</a:t>
            </a:r>
            <a:endParaRPr b="0" lang="en-US" sz="3000" spc="-1" strike="noStrike">
              <a:solidFill>
                <a:srgbClr val="ffffff"/>
              </a:solidFill>
              <a:latin typeface="Corbel"/>
            </a:endParaRPr>
          </a:p>
        </p:txBody>
      </p:sp>
      <p:pic>
        <p:nvPicPr>
          <p:cNvPr id="377" name="Picture 2" descr="http://www.itu.int/council/C2008/hls/images/green-globe.jpg"/>
          <p:cNvPicPr/>
          <p:nvPr/>
        </p:nvPicPr>
        <p:blipFill>
          <a:blip r:embed="rId1"/>
          <a:stretch/>
        </p:blipFill>
        <p:spPr>
          <a:xfrm rot="21153000">
            <a:off x="1547280" y="4292640"/>
            <a:ext cx="2381400" cy="211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5:00:13Z</dcterms:created>
  <dc:creator>Marisela</dc:creator>
  <dc:description/>
  <dc:language>en-US</dc:language>
  <cp:lastModifiedBy>harold</cp:lastModifiedBy>
  <dcterms:modified xsi:type="dcterms:W3CDTF">2012-02-19T22:25:14Z</dcterms:modified>
  <cp:revision>9</cp:revision>
  <dc:subject/>
  <dc:title>1ST POP-UP QUIZZ</dc:title>
</cp:coreProperties>
</file>