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s/comment3.xml" ContentType="application/vnd.openxmlformats-officedocument.presentationml.comments+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Lst>
  <p:sldSz cx="9144000" cy="6858000"/>
  <p:notesSz cx="6858000" cy="9144000"/>
</p:presentation>
</file>

<file path=ppt/commentAuthors.xml><?xml version="1.0" encoding="utf-8"?>
<p:cmAuthorLst xmlns:p="http://schemas.openxmlformats.org/presentationml/2006/main">
  <p:cmAuthor id="0" name="harold" initials="h"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presProps" Target="presProps.xml"/><Relationship Id="rId14" Type="http://schemas.openxmlformats.org/officeDocument/2006/relationships/commentAuthors" Target="commentAuthors.xml"/>
</Relationships>
</file>

<file path=ppt/comments/comment1.xml><?xml version="1.0" encoding="utf-8"?>
<p:cmLst xmlns:p="http://schemas.openxmlformats.org/presentationml/2006/main">
  <p:cm authorId="0" dt="2012-01-30T19:59:21.877000000" idx="1">
    <p:pos x="10" y="10"/>
    <p:text>My dear,
This is your Bitácora 0.
</p:text>
  </p:cm>
</p:cmLst>
</file>

<file path=ppt/comments/comment2.xml><?xml version="1.0" encoding="utf-8"?>
<p:cmLst xmlns:p="http://schemas.openxmlformats.org/presentationml/2006/main">
  <p:cm authorId="0" dt="2012-01-30T20:00:07.829000000" idx="2">
    <p:pos x="10" y="10"/>
    <p:text>OK!!! I hope we can get this balance!!!</p:text>
  </p:cm>
</p:cmLst>
</file>

<file path=ppt/comments/comment3.xml><?xml version="1.0" encoding="utf-8"?>
<p:cmLst xmlns:p="http://schemas.openxmlformats.org/presentationml/2006/main">
  <p:cm authorId="0" dt="2012-01-30T20:01:01.181000000" idx="3">
    <p:pos x="10" y="10"/>
    <p:text>Good! Maybe we can implement other practices!!!</p:text>
  </p:cm>
</p:cmLst>
</file>

<file path=ppt/comments/comment4.xml><?xml version="1.0" encoding="utf-8"?>
<p:cmLst xmlns:p="http://schemas.openxmlformats.org/presentationml/2006/main">
  <p:cm authorId="0" dt="2012-01-30T20:01:53.005000000" idx="4">
    <p:pos x="10" y="-6"/>
    <p:text>Yes, this supplementary function is really important.</p:text>
  </p:cm>
  <p:cm authorId="0" dt="2012-01-30T20:09:06.335000000" idx="5">
    <p:pos x="146" y="146"/>
    <p:text>Dear Marisela,
Interesting ideas and hope we all learn sharing experiences. I feel you can contribute a lot.
4,3/5,0
Harold</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BBEB0-54BF-4E8A-A5C4-96D87FA51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F735A-3F3B-42ED-BD8B-D4E88419A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798B5-B7B3-4AC8-BD9C-9B5B7BA66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FDC82-8B39-404C-8EB8-E554ABFAC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06AAE-05CB-4AAF-B8B9-0D1E6839D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43191-3F13-4B1B-99EF-AC476B2C0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BECA8-C25C-48D4-9468-AFB56A544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2868D-898F-4D0D-AFA2-EA7F51154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8C9C8-BFBB-47C0-82D3-B540F87F5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3C666-08EB-4178-AD93-A55280CEF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F3027-6DD4-4D70-8C0C-91531E925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48A6-A8AE-451B-A889-EC0357EDE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FEF96-0472-49D6-93B9-ADB2D0384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3AAF8-6828-4E61-828B-6024F4B10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16B58-871A-4587-877F-65ED65B04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A84FB-80FE-4C0F-AFF6-AF7864299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52186-9549-41B9-A7CE-58C6D1BF9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78E6CB-6844-4CBE-9557-B0EFDAACCC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07C17C-D559-4F27-92F0-D26419507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B9C4DC-A4F8-4C06-8661-360EE7994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552F5-114A-49EA-B6D9-5776782F5B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E899A7-C6D6-4C09-B5D8-EEF7AF508E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B571-A47A-4A2A-8F49-2A84C9E1E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65D296-A368-4171-8646-A7C4668B1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ECF45-A51B-4EB7-9C0E-B4BA51760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3E654-8C18-49A1-A2BD-4EB942618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91EF5-0D9E-4FF1-8096-B33D8CF15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C495EE-72AD-4CAC-BC36-858EA11E38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6139FB-D113-486B-8755-64D3ED065A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2F467E-BF8E-439D-98B1-3849D3B01E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EA0DF0-7DAB-491F-9A15-CC4E83914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8E2BD6-288F-4112-AE18-F982BCF95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B71BCD-DA18-414A-AC9E-4C3929F7A9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3EF5A-4CCA-4864-BB3D-07EE32497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DD14EE-845F-4AD0-BC96-E8C85D4CFF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6CAF4C-4DE9-4518-9EF6-9F344E6C90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60EC77-66D3-4485-A608-F8D1D488C2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2FC2E-F243-4691-896A-10D14D696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2E849C-CA41-4CB9-AA64-52122C737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82B303-E262-4884-9F34-C9F12CD62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7A66EA-C54D-4F62-A0EC-5BB2C96300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3FF70C-65EF-4F46-9D69-B555E3099A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DC4D93-9FE2-4627-97C7-CC99C5C556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A2EEA9-CD49-4F1C-A2AC-72F735A7FF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C8F93-B787-44AB-9A4C-AB07059D1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B71074-3D13-493D-9140-AC3FCB2F89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258530-B6F9-4508-AF1F-860FE886F8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C87E39-8239-466C-B803-548B767CC2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76BE9B-8B94-44DD-A97F-0D9D3BA9BC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FA7E79-95A8-48EE-BFC1-E2257D4EA7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2F2B30-2C9B-4650-99A6-E1701E84B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651735-4BDC-423A-BA7C-FABF278ED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E4122A-72CF-405D-9E97-07B0B6B6A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639D28-B769-421A-8328-A281CE59E4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4C70FB-0F65-400A-BD59-7BD22568F3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1C323-7761-4132-B628-233D691A4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6966C6-5DBE-44E2-A10B-A8CF2796C9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35F487-95A9-4975-A231-E63453570C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1575AD-EA4F-4BE6-B09B-5A5189542A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22E4D2-1044-43B9-A6FC-8C63F9CB46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54B7DD-3F03-4E25-B0EB-A4C273B4C0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C1AF34-2504-45AA-9825-7862FB1E57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A5D499-2D56-46B1-BB42-0158CE7024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60FC57-A90C-4253-8E3A-1357C29395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773EE4-C306-4A5D-A499-D6481FE17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DDACE-863A-4602-A754-B3E288E770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4A769-27C0-41BB-9A70-15186EABE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14A752-EC8C-4281-A648-3819E27717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73DED7-4FF9-478F-83A4-6B34056FE0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6D44E8-2A54-4D7F-86C0-4E9475CD8F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2B570E-0304-49A1-881F-49373B2D01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7D0D75-29FF-4E97-A3CE-F2EB749AD6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26DD66-AD3A-48BB-87FC-DDE518F155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D702CB-E6D3-4DAD-AC6F-76AD9622B8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B7778B-8D19-4CEA-94BB-2B21A6ABDC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D24B3E-A802-4E1C-A09B-CD81C39C1C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5D1484-6383-466B-A64D-8D1F32458F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DCA8F-9F20-4DD5-9BDC-E6FD595A4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AF2385-B9ED-47A5-A98D-157CCFFB64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06065B-8F2B-4975-85BC-8F5E680AE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A01E60-517F-4352-9C38-CAAC536686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0CEB97-DC32-4EC9-84E3-0BEB565A73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C0B40A-C31A-4249-B22B-C8B0938D0B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64F22-A1F0-4BF5-A6BD-282123614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F378-C44D-4B33-974F-85098F02F3D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72B5-F0AC-44E8-AFFB-0211A64645E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09B2-A918-488F-AEFA-5856613A49E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8369-62BA-4828-A0D0-EBF39E691A7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8ACB-7EF6-4727-93D5-AFDC97CF53C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474B-33F4-4F63-AF25-B14F1436D18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19 Grupo"/>
          <p:cNvGrpSpPr/>
          <p:nvPr/>
        </p:nvGrpSpPr>
        <p:grpSpPr>
          <a:xfrm>
            <a:off x="8516880" y="1217520"/>
            <a:ext cx="128160" cy="131400"/>
            <a:chOff x="8516880" y="1217520"/>
            <a:chExt cx="128160" cy="131400"/>
          </a:xfrm>
        </p:grpSpPr>
        <p:sp>
          <p:nvSpPr>
            <p:cNvPr id="316" name="20 Conector recto"/>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23 Conector recto"/>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24 Conector recto"/>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25 Grupo"/>
          <p:cNvGrpSpPr/>
          <p:nvPr/>
        </p:nvGrpSpPr>
        <p:grpSpPr>
          <a:xfrm>
            <a:off x="8669160" y="1370160"/>
            <a:ext cx="129240" cy="131400"/>
            <a:chOff x="8669160" y="1370160"/>
            <a:chExt cx="129240" cy="131400"/>
          </a:xfrm>
        </p:grpSpPr>
        <p:sp>
          <p:nvSpPr>
            <p:cNvPr id="320" name="26 Conector recto"/>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27 Conector recto"/>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28 Conector recto"/>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29 Grupo"/>
          <p:cNvGrpSpPr/>
          <p:nvPr/>
        </p:nvGrpSpPr>
        <p:grpSpPr>
          <a:xfrm>
            <a:off x="8321760" y="1473120"/>
            <a:ext cx="128160" cy="131400"/>
            <a:chOff x="8321760" y="1473120"/>
            <a:chExt cx="128160" cy="131400"/>
          </a:xfrm>
        </p:grpSpPr>
        <p:sp>
          <p:nvSpPr>
            <p:cNvPr id="324" name="30 Conector recto"/>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31 Conector recto"/>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32 Conector recto"/>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8855-18DC-46D8-9334-DD4ABC4EB33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comments" Target="../comments/commen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4343400"/>
            <a:ext cx="7772400" cy="1974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1eeff"/>
                </a:solidFill>
                <a:latin typeface="Consolas"/>
              </a:rPr>
              <a:t>BITÁCORA 0</a:t>
            </a:r>
            <a:endParaRPr b="0" lang="en-US" sz="4400" spc="-1" strike="noStrike">
              <a:solidFill>
                <a:srgbClr val="c1eeff"/>
              </a:solidFill>
              <a:latin typeface="Consolas"/>
            </a:endParaRPr>
          </a:p>
        </p:txBody>
      </p:sp>
      <p:sp>
        <p:nvSpPr>
          <p:cNvPr id="369" name="PlaceHolder 2"/>
          <p:cNvSpPr>
            <a:spLocks noGrp="1"/>
          </p:cNvSpPr>
          <p:nvPr>
            <p:ph type="subTitle"/>
          </p:nvPr>
        </p:nvSpPr>
        <p:spPr>
          <a:xfrm>
            <a:off x="914400" y="2835000"/>
            <a:ext cx="7772400" cy="1508040"/>
          </a:xfrm>
          <a:prstGeom prst="rect">
            <a:avLst/>
          </a:prstGeom>
          <a:noFill/>
          <a:ln w="9360">
            <a:solidFill>
              <a:srgbClr val="138677"/>
            </a:solidFill>
            <a:miter/>
          </a:ln>
        </p:spPr>
        <p:txBody>
          <a:bodyPr lIns="100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RICHARD CARDOZO</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eeff"/>
                </a:solidFill>
                <a:latin typeface="Consolas"/>
              </a:rPr>
              <a:t>What are you expectations of this course?</a:t>
            </a:r>
            <a:endParaRPr b="0" lang="en-US" sz="36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I have high expectations because in our days the use of technology in education is necessary and if a teacher does not function in this area he is destined to be replaced by the generation of new teacher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eeff"/>
                </a:solidFill>
                <a:latin typeface="Consolas"/>
              </a:rPr>
              <a:t>Have you taught? If so, have you used ICTs?</a:t>
            </a:r>
            <a:endParaRPr b="0" lang="en-US" sz="3600" spc="-1" strike="noStrike">
              <a:solidFill>
                <a:srgbClr val="c1eeff"/>
              </a:solidFill>
              <a:latin typeface="Consolas"/>
            </a:endParaRPr>
          </a:p>
        </p:txBody>
      </p:sp>
      <p:sp>
        <p:nvSpPr>
          <p:cNvPr id="373" name=""/>
          <p:cNvSpPr txBox="1"/>
          <p:nvPr/>
        </p:nvSpPr>
        <p:spPr>
          <a:xfrm>
            <a:off x="914400" y="1784160"/>
            <a:ext cx="7772400" cy="2292120"/>
          </a:xfrm>
          <a:prstGeom prst="rect">
            <a:avLst/>
          </a:prstGeom>
          <a:noFill/>
          <a:ln w="0">
            <a:noFill/>
          </a:ln>
        </p:spPr>
        <p:txBody>
          <a:bodyPr anchor="t">
            <a:normAutofit fontScale="91000"/>
          </a:bodyPr>
          <a:p>
            <a:pPr marL="6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es, I have taught in this class to use different things to facebook, twitter and blogs. It's common to see in languages teaching the use of those tools but like teachers don't know another way to use the ICTs.</a:t>
            </a:r>
            <a:endParaRPr b="0" lang="en-US" sz="3000" spc="-1" strike="noStrike">
              <a:solidFill>
                <a:srgbClr val="ffffff"/>
              </a:solidFill>
              <a:latin typeface="Corbel"/>
            </a:endParaRPr>
          </a:p>
          <a:p>
            <a:pPr marL="6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4" name="Picture 2" descr="http://diarium.usal.es/saramoyano/files/2011/10/las-tics.jpg"/>
          <p:cNvPicPr/>
          <p:nvPr/>
        </p:nvPicPr>
        <p:blipFill>
          <a:blip r:embed="rId1"/>
          <a:stretch/>
        </p:blipFill>
        <p:spPr>
          <a:xfrm rot="713400">
            <a:off x="5579640" y="4076280"/>
            <a:ext cx="3143160" cy="24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691920"/>
            <a:ext cx="70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2. What do you think about using ICTs for language teaching?</a:t>
            </a:r>
            <a:br>
              <a:rPr sz="3200"/>
            </a:br>
            <a:endParaRPr b="0" lang="en-US" sz="3200" spc="-1" strike="noStrike">
              <a:solidFill>
                <a:srgbClr val="c1eeff"/>
              </a:solidFill>
              <a:latin typeface="Consolas"/>
            </a:endParaRPr>
          </a:p>
        </p:txBody>
      </p:sp>
      <p:sp>
        <p:nvSpPr>
          <p:cNvPr id="376" name=""/>
          <p:cNvSpPr txBox="1"/>
          <p:nvPr/>
        </p:nvSpPr>
        <p:spPr>
          <a:xfrm>
            <a:off x="1042560" y="1916280"/>
            <a:ext cx="6777000" cy="2520720"/>
          </a:xfrm>
          <a:prstGeom prst="rect">
            <a:avLst/>
          </a:prstGeom>
          <a:noFill/>
          <a:ln w="0">
            <a:noFill/>
          </a:ln>
        </p:spPr>
        <p:txBody>
          <a:bodyPr anchor="t">
            <a:normAutofit fontScale="97000"/>
          </a:bodyPr>
          <a:p>
            <a:pPr marL="398520" indent="-332280" algn="r">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 think that in our days it's necessary to know about the use of places as SL in order to carry our students in a different technology level. The ICTs in education is not an option, it is an obligation.</a:t>
            </a:r>
            <a:endParaRPr b="0" lang="en-US" sz="3000" spc="-1" strike="noStrike">
              <a:solidFill>
                <a:srgbClr val="ffffff"/>
              </a:solidFill>
              <a:latin typeface="Corbel"/>
            </a:endParaRPr>
          </a:p>
        </p:txBody>
      </p:sp>
      <p:pic>
        <p:nvPicPr>
          <p:cNvPr id="377" name="Picture 2" descr="http://www.itu.int/council/C2008/hls/images/green-globe.jpg"/>
          <p:cNvPicPr/>
          <p:nvPr/>
        </p:nvPicPr>
        <p:blipFill>
          <a:blip r:embed="rId1"/>
          <a:stretch/>
        </p:blipFill>
        <p:spPr>
          <a:xfrm rot="21153000">
            <a:off x="1547280" y="4292640"/>
            <a:ext cx="2381400" cy="21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5:00:13Z</dcterms:created>
  <dc:creator>Marisela</dc:creator>
  <dc:description/>
  <dc:language>en-US</dc:language>
  <cp:lastModifiedBy>harold</cp:lastModifiedBy>
  <dcterms:modified xsi:type="dcterms:W3CDTF">2012-02-19T22:25:14Z</dcterms:modified>
  <cp:revision>9</cp:revision>
  <dc:subject/>
  <dc:title>1ST POP-UP QUIZZ</dc:title>
</cp:coreProperties>
</file>