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DE8-D8F6-4834-A1B4-D3EB6718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A35-1751-47D6-95F4-0D2BEF71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E2F-FED1-42BD-9715-B7603219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3DF-8A6A-4771-81F2-AEA64ACD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44C-3032-4848-B37E-C05070E3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F2D-0E99-445A-957B-D3561850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651-6F11-4B27-81B7-BCC0C0D9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CA6-60C6-4784-97AE-6DB33BC2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5B3-D6CC-4B8E-89BA-E9DD1D13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591-1E44-45EF-9DFC-3DF377E8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E716-EAB9-4C51-8951-78006695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5CF-FD8E-4B05-BA98-23485FD4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B257-2DBD-43D0-941F-8E60C758A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" Target="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6920" y="3780000"/>
            <a:ext cx="73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QUIZ – A QUICK 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22440" y="4913280"/>
            <a:ext cx="131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228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1. How to feed a ham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163600"/>
            <a:ext cx="53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. By pinching its cheeks to f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2004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. By putting in yr hands to f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1148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. Ask Police to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096920"/>
            <a:ext cx="53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. By grabbing its ears to f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7086600" y="121932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7086600" y="213372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7162920" y="426708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5120" y="378000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hat’s Correct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24840" y="3780000"/>
            <a:ext cx="742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hat’s Wrong!!!! Try Agai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7162920" y="487692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o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2:20:24Z</dcterms:created>
  <dc:creator>NIE</dc:creator>
  <dc:description/>
  <dc:language>en-US</dc:language>
  <cp:lastModifiedBy>NIE</cp:lastModifiedBy>
  <dcterms:modified xsi:type="dcterms:W3CDTF">2011-05-05T08:16:12Z</dcterms:modified>
  <cp:revision>5</cp:revision>
  <dc:subject/>
  <dc:title>Slide 1</dc:title>
</cp:coreProperties>
</file>