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BA9-7387-41D6-9D52-F9827D62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C3E2-4EFB-4E1A-94F9-7B1FBCB7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878-25E0-486A-89F3-9C824C53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2CC0-9281-4DA0-93A9-B3B73952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CF8C-5DA4-4684-B538-4CE37AF1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BF1-286E-4266-8813-0A92AF68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CC2C-1D13-44F6-B973-4285F042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4377-23EB-4C91-BF27-3DFF6E49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502C-34F8-4008-88D5-D2744022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568-D6E9-44C4-9379-AA7643C2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FA00-6816-47E2-9EEF-0A278DDA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2D3-038C-4E29-A9E3-F927E10D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1C48-1748-44A7-BE9D-180A298C7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slide" Target="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6920" y="3780000"/>
            <a:ext cx="73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QUIZ – A QUICK 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22440" y="4913280"/>
            <a:ext cx="131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2286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Q1. How to feed a ham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163600"/>
            <a:ext cx="533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. By pinching its cheeks to f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2004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. By putting in yr hands to f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1148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. Ask Police to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096920"/>
            <a:ext cx="533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. By grabbing its ears to f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7086600" y="121932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7086600" y="213372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7162920" y="426708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05120" y="378000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hat’s Correct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24840" y="3780000"/>
            <a:ext cx="742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hat’s Wrong!!!! Try Agai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7162920" y="487692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o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2:20:24Z</dcterms:created>
  <dc:creator>NIE</dc:creator>
  <dc:description/>
  <dc:language>en-US</dc:language>
  <cp:lastModifiedBy>NIE</cp:lastModifiedBy>
  <dcterms:modified xsi:type="dcterms:W3CDTF">2011-05-05T08:16:12Z</dcterms:modified>
  <cp:revision>5</cp:revision>
  <dc:subject/>
  <dc:title>Slide 1</dc:title>
</cp:coreProperties>
</file>