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D6EA-6274-42B7-AAA4-877147816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EF6E-7C12-4576-B090-F0D50560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9778-9F5E-45E2-BAD7-F78BC9273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35AD-66EE-4D03-A828-0ABA105A82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D466-1C07-4E58-8080-ACBA6AD1E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3DB4-6E76-4C8E-B600-C8A10DFB9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6F7D-8BB8-4629-9AE2-A288300A2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A655-9642-4B71-BAEF-76BCA63C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7005-AB58-49EF-B31A-5FD41963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A3C7-BB75-438D-BBC3-31CAD70E4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88B6-1C88-47C8-BBA5-01B81FAC7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EA46-059D-4C54-A768-47464EABB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4C38-D16E-415D-8D52-811BDFB28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slide3.xml"/><Relationship Id="rId5" Type="http://schemas.openxmlformats.org/officeDocument/2006/relationships/slide" Target="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916920" y="3780000"/>
            <a:ext cx="73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QUIZ – A QUICK REVIE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422440" y="4913280"/>
            <a:ext cx="1311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52280" y="22860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1. How to feed a ham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2163600"/>
            <a:ext cx="53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b. By pinching its cheeks to f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32004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. By putting in yr hands to f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04920" y="41148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d. Ask Police to hel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4920" y="1096920"/>
            <a:ext cx="5333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. By grabbing its ears to fe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2" action="ppaction://hlinksldjump"/>
          </p:cNvPr>
          <p:cNvSpPr/>
          <p:nvPr/>
        </p:nvSpPr>
        <p:spPr>
          <a:xfrm>
            <a:off x="7086600" y="121932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>
            <a:hlinkClick r:id="rId3" action="ppaction://hlinksldjump"/>
          </p:cNvPr>
          <p:cNvSpPr/>
          <p:nvPr/>
        </p:nvSpPr>
        <p:spPr>
          <a:xfrm>
            <a:off x="7086600" y="213372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>
            <a:hlinkClick r:id="rId5" action="ppaction://hlinksldjump"/>
          </p:cNvPr>
          <p:cNvSpPr/>
          <p:nvPr/>
        </p:nvSpPr>
        <p:spPr>
          <a:xfrm>
            <a:off x="7162920" y="426708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ANS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905120" y="3780000"/>
            <a:ext cx="525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hat’s Correct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924840" y="3780000"/>
            <a:ext cx="742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Arial"/>
              </a:rPr>
              <a:t>That’s Wrong!!!! Try Again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2" action="ppaction://hlinksldjump"/>
          </p:cNvPr>
          <p:cNvSpPr/>
          <p:nvPr/>
        </p:nvSpPr>
        <p:spPr>
          <a:xfrm>
            <a:off x="7162920" y="4876920"/>
            <a:ext cx="10666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Go 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2:20:24Z</dcterms:created>
  <dc:creator>NIE</dc:creator>
  <dc:description/>
  <dc:language>en-US</dc:language>
  <cp:lastModifiedBy>NIE</cp:lastModifiedBy>
  <dcterms:modified xsi:type="dcterms:W3CDTF">2011-05-05T08:16:12Z</dcterms:modified>
  <cp:revision>5</cp:revision>
  <dc:subject/>
  <dc:title>Slide 1</dc:title>
</cp:coreProperties>
</file>