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F25-35CC-400A-B657-A25231C1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3C7-AD40-4A2E-A5F1-D53139BA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F89-FE8F-4292-AF75-1F7E1402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0DA-F9CB-450C-89D7-98719E3F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0B74-571F-4DE6-AB92-7511416E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8646-2231-428E-B569-F29BFBA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B3E7-AC0A-45BA-B669-6796F6F1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B5C0-EDED-42E6-8073-2CAD46F4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0A7F-BDAA-4DF0-9DA8-013F7A20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8244-E603-4E83-8F8E-D283A220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E2AD-5B22-45E1-9B29-75A129DB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457-97DB-4B75-9A56-87BA3824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77C2-834F-431E-A3CA-9D4119E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1892-C90C-461C-B602-FA19EDFD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9510-175F-4B02-A92D-ECDF9D14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E330-F0E7-401A-8EBF-2A9B28F0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2EF9-51F9-49F1-A91C-C5EDA30A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B0F-870B-49BC-8101-2E73F4C9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86D-8324-4A33-B3D8-D7062A7C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7E4-2166-4ECC-B57A-5316506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C18-8A42-4703-9871-7A925CA1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BA0-57C6-4299-AD07-6A03BC3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60A-4774-43B9-8062-21D2768D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0B2-3E98-4298-BACF-AE55093C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2C6D-80F5-4EC4-BF24-6515A56C0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5D8F-1FF2-4E40-9574-D7D9DA26F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371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1 – Which bicycle can be ride on ro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147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UNI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9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TRI-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72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RACING BIC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2096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NEED TO TRAIN MOR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4114800" y="37339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10805" y="3837"/>
                </a:moveTo>
                <a:lnTo>
                  <a:pt x="13381" y="6448"/>
                </a:ln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4" y="10800"/>
                </a:lnTo>
                <a:lnTo>
                  <a:pt x="16114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0" h="21600">
                <a:moveTo>
                  <a:pt x="13381" y="6448"/>
                </a:move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0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4" y="17989"/>
                </a:lnTo>
                <a:lnTo>
                  <a:pt x="16114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124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ARE CHAMPIO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05:24Z</dcterms:created>
  <dc:creator>NIE</dc:creator>
  <dc:description/>
  <dc:language>en-US</dc:language>
  <cp:lastModifiedBy>NIE</cp:lastModifiedBy>
  <dcterms:modified xsi:type="dcterms:W3CDTF">2011-05-05T08:16:54Z</dcterms:modified>
  <cp:revision>6</cp:revision>
  <dc:subject/>
  <dc:title>Slide 1</dc:title>
</cp:coreProperties>
</file>