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24F3-DB28-4E75-85B1-6ED2A4506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9478-E0E3-48F9-9BB2-1A45AB49B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D7FD1-0683-4D64-BFA5-F57D5DBD7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97D2-20CE-403E-A819-946A0F422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A60CD-C1E5-4AF1-9A68-F32072A18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89E7-F071-4CE1-9F44-11A3DBDE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8EFA6-9D5D-4537-81DD-D91400E1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0057-A07B-4128-8CC5-11D34BEF6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338A8-2473-4621-B79E-213B365F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D6047-CC0C-4958-AC9A-AD5DB998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BE92-62A8-4322-8917-D02B5F68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B3BF-A9A4-4EE5-9506-18D65DB10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2EF35-05E0-42F0-A1B0-2026DBC8B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5E60A-6D6C-46C1-BD13-CEADB115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90EAA-E49A-433E-94FB-DE4EEA71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F010B-0867-4028-B001-50043856E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F6DE-3146-4647-992C-EC2FCB4E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DCCC-559C-4035-B00D-EC6030C87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AFF3-13ED-400C-94F4-8A5BEEB28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2492-CBAB-4471-831C-E32132EBE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4506-246D-46ED-9313-937432349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12C-ACC5-4A3C-B40D-34917F005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0F5E-BE83-49DB-8837-5D2787D7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5BCB-8CD2-443C-AF9A-2BE5BA9EE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9EDC8-DC7A-424E-97F6-5C2BDB921C9B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5E193-F42D-4693-9B81-0769D6A8815F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POR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62120" y="1295280"/>
            <a:ext cx="3124080" cy="234468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4952880" y="1219320"/>
            <a:ext cx="2816280" cy="251460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066680" y="4114800"/>
            <a:ext cx="2819520" cy="2514600"/>
          </a:xfrm>
          <a:prstGeom prst="rect">
            <a:avLst/>
          </a:prstGeom>
          <a:ln w="25560">
            <a:solidFill>
              <a:srgbClr val="ffcc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724280" y="3962520"/>
            <a:ext cx="3505320" cy="2666880"/>
          </a:xfrm>
          <a:prstGeom prst="rect">
            <a:avLst/>
          </a:prstGeom>
          <a:ln w="25560">
            <a:solidFill>
              <a:srgbClr val="eec85e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04920" y="6858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ich of the following is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TEAM SPORT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?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2362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.) Basketba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) Bow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3809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.) Badmint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362320"/>
            <a:ext cx="1524240" cy="40500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124080"/>
            <a:ext cx="1524240" cy="40500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2" action="ppaction://hlinksldjump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10280" y="3886200"/>
            <a:ext cx="1524240" cy="40500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3" action="ppaction://hlinksldjump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3352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ext Ques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04920" y="6858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ich of the following is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INDIVIUAL SPORT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?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2362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.) Basketba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) Socc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3809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.) Badmint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10280" y="2362320"/>
            <a:ext cx="1524240" cy="40500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1" action="ppaction://hlinksldjump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7010280" y="3124080"/>
            <a:ext cx="1524240" cy="36828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010280" y="3886200"/>
            <a:ext cx="1524240" cy="40500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ec85e"/>
                </a:solidFill>
                <a:uFillTx/>
                <a:latin typeface="Verdana"/>
                <a:hlinkClick r:id="rId3" action="ppaction://hlinksldjump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52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Next Question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04920" y="6858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Which of the following is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not a SPORT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?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236232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A.) Basketbal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57200" y="31240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B.) Bowl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38098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C.) Cook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10280" y="2362320"/>
            <a:ext cx="1524240" cy="36828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010280" y="3124080"/>
            <a:ext cx="1524240" cy="36828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3886200"/>
            <a:ext cx="1524240" cy="368280"/>
          </a:xfrm>
          <a:prstGeom prst="rect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NSWER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63244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Verdana"/>
              </a:rPr>
              <a:t>Homepage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914400" y="2057400"/>
            <a:ext cx="7010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Verdana"/>
              </a:rPr>
              <a:t>WELL DON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00"/>
                </a:solidFill>
                <a:latin typeface="Verdana"/>
              </a:rPr>
              <a:t>THAT’S CORRECT!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3" name="">
            <a:hlinkClick r:id="" action="ppaction://hlinkshowjump?jump=previousslide"/>
          </p:cNvPr>
          <p:cNvSpPr/>
          <p:nvPr/>
        </p:nvSpPr>
        <p:spPr>
          <a:xfrm>
            <a:off x="6705720" y="5867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7301" y="10806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5456" y="3800"/>
                </a:lnTo>
                <a:lnTo>
                  <a:pt x="5456" y="17813"/>
                </a:lnTo>
                <a:lnTo>
                  <a:pt x="3794" y="17813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914400" y="2057400"/>
            <a:ext cx="7010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THAT’S WRO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PLEASE TRY AGAIN </a:t>
            </a:r>
            <a:r>
              <a:rPr b="0" lang="en-US" sz="3200" spc="-1" strike="noStrike">
                <a:solidFill>
                  <a:srgbClr val="ffcc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45" name="">
            <a:hlinkClick r:id="" action="ppaction://hlinkshowjump?jump=previousslide"/>
          </p:cNvPr>
          <p:cNvSpPr/>
          <p:nvPr/>
        </p:nvSpPr>
        <p:spPr>
          <a:xfrm>
            <a:off x="6705720" y="5867280"/>
            <a:ext cx="609480" cy="609840"/>
          </a:xfrm>
          <a:custGeom>
            <a:avLst/>
            <a:gdLst>
              <a:gd name="textAreaLeft" fmla="*/ 39240 w 609480"/>
              <a:gd name="textAreaRight" fmla="*/ 570240 w 60948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7301" y="10806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  <a:path fill="darken" w="21600" h="21613">
                <a:moveTo>
                  <a:pt x="3794" y="3800"/>
                </a:moveTo>
                <a:lnTo>
                  <a:pt x="5456" y="3800"/>
                </a:lnTo>
                <a:lnTo>
                  <a:pt x="5456" y="17813"/>
                </a:lnTo>
                <a:lnTo>
                  <a:pt x="3794" y="17813"/>
                </a:lnTo>
                <a:close/>
              </a:path>
            </a:pathLst>
          </a:cu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7:17:24Z</dcterms:created>
  <dc:creator>NIE</dc:creator>
  <dc:description/>
  <dc:language>en-US</dc:language>
  <cp:lastModifiedBy>NIE</cp:lastModifiedBy>
  <dcterms:modified xsi:type="dcterms:W3CDTF">2011-05-05T07:42:12Z</dcterms:modified>
  <cp:revision>14</cp:revision>
  <dc:subject/>
  <dc:title>SPORTS</dc:title>
</cp:coreProperties>
</file>