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B317-93B9-4A5B-A405-6436BE5EC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E2E4-085E-4FF9-9B93-158FD2AD8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FA1D-75DE-404D-9A02-F864A58DB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218C-E7B6-4DC4-A077-151BB71DD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20E95-C4C9-4AD1-AD85-ABF08E0FB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534F5-7593-4977-B3DD-37E304246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D2ACA-F536-4E10-8750-B46D9AC68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84A3D-6861-42DD-B40A-A7FB1B7E1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A5EE4-EAD9-4233-A62F-CDB01FBD2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D14CD-1232-489B-8C5D-5FE3A8B60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3D1BD-B622-4FD3-B530-5B270319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5E57-32B9-49B7-8454-89F8183E6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D50FE-06E5-4C0B-BDBD-6E26B51B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EBBE8-7793-46CC-B5C4-8C30BE4F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6CA50-4726-49D3-ADBD-0329C1CFF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591B5-EFF5-481F-9472-936E0B306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C64CB-083C-405C-887E-C4E8335D0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305A-409B-4AA5-9377-A7C78A305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ACA2-589E-4C64-B4D5-8356B1008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A520-B50D-4FBB-8E8E-BC34C2D25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58BA-8B99-45EE-B98F-6380452A3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4284-F386-4A46-8E0B-A234CD5E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3E67-A631-47D1-BE4E-71D4E19B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CE6B-9B96-415B-8A53-EC33C619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D2112-2990-47DD-93B2-DDB17F351ACA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13EDE-6853-4889-8CFD-6ED191B6D50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PORT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3124080" cy="2344680"/>
          </a:xfrm>
          <a:prstGeom prst="rect">
            <a:avLst/>
          </a:prstGeom>
          <a:ln w="25560">
            <a:solidFill>
              <a:srgbClr val="ffcc00"/>
            </a:solidFill>
            <a:miter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952880" y="1219320"/>
            <a:ext cx="2816280" cy="2514600"/>
          </a:xfrm>
          <a:prstGeom prst="rect">
            <a:avLst/>
          </a:prstGeom>
          <a:ln w="25560">
            <a:solidFill>
              <a:srgbClr val="ffcc00"/>
            </a:solidFill>
            <a:miter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066680" y="4114800"/>
            <a:ext cx="2819520" cy="2514600"/>
          </a:xfrm>
          <a:prstGeom prst="rect">
            <a:avLst/>
          </a:prstGeom>
          <a:ln w="25560">
            <a:solidFill>
              <a:srgbClr val="ffcc00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4724280" y="3962520"/>
            <a:ext cx="3505320" cy="2666880"/>
          </a:xfrm>
          <a:prstGeom prst="rect">
            <a:avLst/>
          </a:prstGeom>
          <a:ln w="25560">
            <a:solidFill>
              <a:srgbClr val="eec85e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04920" y="6858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hich of the following is a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TEAM SPORT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?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23623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.) Basketbal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3124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.) Bowl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3809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.) Badmint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362320"/>
            <a:ext cx="1524240" cy="405000"/>
          </a:xfrm>
          <a:prstGeom prst="rect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ec85e"/>
                </a:solidFill>
                <a:uFillTx/>
                <a:latin typeface="Verdana"/>
                <a:hlinkClick r:id="rId1" action="ppaction://hlinksldjump"/>
              </a:rPr>
              <a:t>ANSWER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124080"/>
            <a:ext cx="1524240" cy="405000"/>
          </a:xfrm>
          <a:prstGeom prst="rect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ec85e"/>
                </a:solidFill>
                <a:uFillTx/>
                <a:latin typeface="Verdana"/>
                <a:hlinkClick r:id="rId2" action="ppaction://hlinksldjump"/>
              </a:rPr>
              <a:t>ANSWER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010280" y="3886200"/>
            <a:ext cx="1524240" cy="405000"/>
          </a:xfrm>
          <a:prstGeom prst="rect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ec85e"/>
                </a:solidFill>
                <a:uFillTx/>
                <a:latin typeface="Verdana"/>
                <a:hlinkClick r:id="rId3" action="ppaction://hlinksldjump"/>
              </a:rPr>
              <a:t>ANSWER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63244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Next Questio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04920" y="6858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hich of the following is a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INDIVIUAL SPORT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?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23623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.) Basketbal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3124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.) Socc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3809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.) Badmint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010280" y="2362320"/>
            <a:ext cx="1524240" cy="405000"/>
          </a:xfrm>
          <a:prstGeom prst="rect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ec85e"/>
                </a:solidFill>
                <a:uFillTx/>
                <a:latin typeface="Verdana"/>
                <a:hlinkClick r:id="rId1" action="ppaction://hlinksldjump"/>
              </a:rPr>
              <a:t>ANSWER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7010280" y="3124080"/>
            <a:ext cx="1524240" cy="368280"/>
          </a:xfrm>
          <a:prstGeom prst="rect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NSWER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010280" y="3886200"/>
            <a:ext cx="1524240" cy="405000"/>
          </a:xfrm>
          <a:prstGeom prst="rect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ec85e"/>
                </a:solidFill>
                <a:uFillTx/>
                <a:latin typeface="Verdana"/>
                <a:hlinkClick r:id="rId3" action="ppaction://hlinksldjump"/>
              </a:rPr>
              <a:t>ANSWER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63244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Next Questio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04920" y="6858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hich of the following is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not a SPORT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?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23623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.) Basketbal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3124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.) Bowl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3809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.) Cook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010280" y="2362320"/>
            <a:ext cx="1524240" cy="368280"/>
          </a:xfrm>
          <a:prstGeom prst="rect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NSWER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10280" y="3124080"/>
            <a:ext cx="1524240" cy="368280"/>
          </a:xfrm>
          <a:prstGeom prst="rect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NSWER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010280" y="3886200"/>
            <a:ext cx="1524240" cy="368280"/>
          </a:xfrm>
          <a:prstGeom prst="rect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NSWER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63244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Homepag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914400" y="2057400"/>
            <a:ext cx="7010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Verdana"/>
              </a:rPr>
              <a:t>WELL DON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Verdana"/>
              </a:rPr>
              <a:t>THAT’S CORRECT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">
            <a:hlinkClick r:id="" action="ppaction://hlinkshowjump?jump=previousslide"/>
          </p:cNvPr>
          <p:cNvSpPr/>
          <p:nvPr/>
        </p:nvSpPr>
        <p:spPr>
          <a:xfrm>
            <a:off x="6705720" y="58672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7301" y="10806"/>
                </a:moveTo>
                <a:lnTo>
                  <a:pt x="17806" y="3800"/>
                </a:lnTo>
                <a:lnTo>
                  <a:pt x="17806" y="17813"/>
                </a:lnTo>
                <a:close/>
              </a:path>
              <a:path fill="darken" w="21600" h="21613">
                <a:moveTo>
                  <a:pt x="3794" y="3800"/>
                </a:moveTo>
                <a:lnTo>
                  <a:pt x="5456" y="3800"/>
                </a:lnTo>
                <a:lnTo>
                  <a:pt x="5456" y="17813"/>
                </a:lnTo>
                <a:lnTo>
                  <a:pt x="3794" y="17813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914400" y="2057400"/>
            <a:ext cx="7010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HAT’S WRO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PLEASE TRY AGAIN </a:t>
            </a:r>
            <a:r>
              <a:rPr b="0" lang="en-US" sz="3200" spc="-1" strike="noStrike">
                <a:solidFill>
                  <a:srgbClr val="ffcc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">
            <a:hlinkClick r:id="" action="ppaction://hlinkshowjump?jump=previousslide"/>
          </p:cNvPr>
          <p:cNvSpPr/>
          <p:nvPr/>
        </p:nvSpPr>
        <p:spPr>
          <a:xfrm>
            <a:off x="6705720" y="58672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7301" y="10806"/>
                </a:moveTo>
                <a:lnTo>
                  <a:pt x="17806" y="3800"/>
                </a:lnTo>
                <a:lnTo>
                  <a:pt x="17806" y="17813"/>
                </a:lnTo>
                <a:close/>
              </a:path>
              <a:path fill="darken" w="21600" h="21613">
                <a:moveTo>
                  <a:pt x="3794" y="3800"/>
                </a:moveTo>
                <a:lnTo>
                  <a:pt x="5456" y="3800"/>
                </a:lnTo>
                <a:lnTo>
                  <a:pt x="5456" y="17813"/>
                </a:lnTo>
                <a:lnTo>
                  <a:pt x="3794" y="17813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5T07:17:24Z</dcterms:created>
  <dc:creator>NIE</dc:creator>
  <dc:description/>
  <dc:language>en-US</dc:language>
  <cp:lastModifiedBy>NIE</cp:lastModifiedBy>
  <dcterms:modified xsi:type="dcterms:W3CDTF">2011-05-05T07:42:12Z</dcterms:modified>
  <cp:revision>14</cp:revision>
  <dc:subject/>
  <dc:title>SPORTS</dc:title>
</cp:coreProperties>
</file>