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BF8-231C-45ED-BDD5-243B2E92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8398-A84C-409F-97E8-070AA79E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E359-430B-4E6F-9F07-A461EDCA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549E-92AB-4EC9-8F59-D4043333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858E-36B9-4CB8-A627-84D31B51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FFE8-5687-4A24-9684-56F03526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B149-E022-49BD-8A78-789EF4C5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DEE9-353C-47FB-B642-61CE35A0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11CC-A3B5-4265-945A-C5B351DC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8435-506F-4C25-84CF-0B66AE70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DE3F-C061-4531-849D-232F9381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D28B-C53E-47EA-93EB-D5E81A78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8EFB-FE3D-4734-953E-171DA98F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7A26-A9D2-4505-8469-9E0467F8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667C-B9DD-4CE1-9EBA-D46B0047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84DB-A533-44EE-BA82-1C380354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7DFA-EECC-4C28-ABE8-7DD23B13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9D14-CDA8-456A-941A-83D0970F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902-22A6-446D-9E2E-20810386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B16-E4B9-4871-9691-1ED91258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61C-5CCF-4AC9-9C88-6D637EAC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6ED6-CEF3-43EA-9927-671BD9C6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84D-EDAC-4BF8-B75E-9BD6A843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F75-0882-4180-ACB9-0FEC1D34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055B-3716-478B-8BB4-78522901264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B2BB-21D2-4DF6-B018-D613E378665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OR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3124080" cy="234468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2816280" cy="251460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066680" y="4114800"/>
            <a:ext cx="2819520" cy="251460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724280" y="3962520"/>
            <a:ext cx="3505320" cy="2666880"/>
          </a:xfrm>
          <a:prstGeom prst="rect">
            <a:avLst/>
          </a:prstGeom>
          <a:ln w="25560">
            <a:solidFill>
              <a:srgbClr val="eec85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6858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ich of the following is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TEAM SPORT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?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362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.) Basketba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) Bow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809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.) Badmint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362320"/>
            <a:ext cx="1524240" cy="40500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124080"/>
            <a:ext cx="1524240" cy="40500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2" action="ppaction://hlinksldjump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3886200"/>
            <a:ext cx="1524240" cy="40500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3" action="ppaction://hlinksldjump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ext Ques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6858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ich of the following is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INDIVIUAL SPORT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?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2362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.) Basketba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) Socc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809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.) Badmint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2362320"/>
            <a:ext cx="1524240" cy="40500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7010280" y="3124080"/>
            <a:ext cx="1524240" cy="36828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10280" y="3886200"/>
            <a:ext cx="1524240" cy="40500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3" action="ppaction://hlinksldjump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ext Ques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6858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ich of the following is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not a SPORT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?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362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.) Basketba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) Bow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809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.) Coo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2362320"/>
            <a:ext cx="1524240" cy="36828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3124080"/>
            <a:ext cx="1524240" cy="36828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3886200"/>
            <a:ext cx="1524240" cy="36828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omepag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2057400"/>
            <a:ext cx="7010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Verdana"/>
              </a:rPr>
              <a:t>WELL DO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Verdana"/>
              </a:rPr>
              <a:t>THAT’S CORREC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6705720" y="5867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7301" y="10806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5456" y="3800"/>
                </a:lnTo>
                <a:lnTo>
                  <a:pt x="5456" y="17813"/>
                </a:lnTo>
                <a:lnTo>
                  <a:pt x="3794" y="17813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14400" y="2057400"/>
            <a:ext cx="7010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AT’S WRO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PLEASE TRY AGAIN </a:t>
            </a: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6705720" y="5867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7301" y="10806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5456" y="3800"/>
                </a:lnTo>
                <a:lnTo>
                  <a:pt x="5456" y="17813"/>
                </a:lnTo>
                <a:lnTo>
                  <a:pt x="3794" y="17813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7:17:24Z</dcterms:created>
  <dc:creator>NIE</dc:creator>
  <dc:description/>
  <dc:language>en-US</dc:language>
  <cp:lastModifiedBy>NIE</cp:lastModifiedBy>
  <dcterms:modified xsi:type="dcterms:W3CDTF">2011-05-05T07:42:12Z</dcterms:modified>
  <cp:revision>14</cp:revision>
  <dc:subject/>
  <dc:title>SPORTS</dc:title>
</cp:coreProperties>
</file>