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C9E-03F0-4AE9-B360-F3B65CE5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223-2FA2-4DFC-8014-A905D47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676-374E-4545-9A1A-C47CA6D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30D-081A-44EB-9378-6C1408BE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652-485C-42FE-AC72-BC7DECC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3F9-AEE4-4A22-841A-D4B2DB4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1BE-E517-4E9E-9710-F968E7A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867-3BCB-49E6-9ECD-4D9ADB2F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F80-DDFF-43CC-8992-BE48A87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6CC-EDD6-41F8-A42A-331EA67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056-9790-4253-9366-52D8A95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3C4-C0FF-4EF6-AEFE-1C49E16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BB2-F5EF-4F8B-B2E2-0AEE0E53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128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251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657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34:00Z</dcterms:created>
  <dc:creator>NIE</dc:creator>
  <dc:description/>
  <dc:language>en-US</dc:language>
  <cp:lastModifiedBy>NIE</cp:lastModifiedBy>
  <dcterms:modified xsi:type="dcterms:W3CDTF">2010-01-20T08:34:10Z</dcterms:modified>
  <cp:revision>1</cp:revision>
  <dc:subject/>
  <dc:title>Dog</dc:title>
</cp:coreProperties>
</file>