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3447-B227-4AD7-BC0F-314E0308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C09-5336-4781-949E-AD5F136E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7C2-9066-43CA-ADDC-5A407D32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72F-020D-4610-988F-24E131EA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CBB-481F-4CC7-A82F-9E21E383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422B-6CC6-4054-A460-4942F493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5F5-3CF5-4F03-A5F8-7567AB98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C6A2-DA27-473E-96EC-BE3AA129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EF5-C095-4949-9BF3-15C48BE4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566B-BC5F-4228-8335-6A4F7D77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A15B-0C4A-47F6-96DA-A7DCA791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6EC-5A4B-4D50-B1D0-5C2C8C16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0A5C-5132-4502-9CBD-2A3624B67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8128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19520" y="2666880"/>
            <a:ext cx="3251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36576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8:34:00Z</dcterms:created>
  <dc:creator>NIE</dc:creator>
  <dc:description/>
  <dc:language>en-US</dc:language>
  <cp:lastModifiedBy>NIE</cp:lastModifiedBy>
  <dcterms:modified xsi:type="dcterms:W3CDTF">2010-01-20T08:34:10Z</dcterms:modified>
  <cp:revision>1</cp:revision>
  <dc:subject/>
  <dc:title>Dog</dc:title>
</cp:coreProperties>
</file>