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7AC4-50A8-42E5-8949-D55F784AF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95C2-35F4-4D89-A6DE-DD83F37E8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F533-D585-41E2-9EFE-176E9046B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67AF-862E-46EA-9E1D-2085BA194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E7CD-AF02-40C7-9570-4D99DD0E2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B5596-D1AD-42F6-A59F-F06939256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3494-4F00-470E-BEA3-2AAD2B6B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E421-2A49-47C7-923B-25FCD380E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0D11-4D3D-4519-9A49-27F55F045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6810-9300-4A48-AC96-A123AFC2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DD6A-4F81-40C5-B072-AC390957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F651-D313-41C0-8C7F-F2D0048B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1ABEA-7C88-4F08-B6B9-747B22AA21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85800" y="2209680"/>
            <a:ext cx="8128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819520" y="2666880"/>
            <a:ext cx="3251160" cy="21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438280" y="2590920"/>
            <a:ext cx="3657600" cy="22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34:00Z</dcterms:created>
  <dc:creator>NIE</dc:creator>
  <dc:description/>
  <dc:language>en-US</dc:language>
  <cp:lastModifiedBy>NIE</cp:lastModifiedBy>
  <dcterms:modified xsi:type="dcterms:W3CDTF">2010-01-20T08:34:10Z</dcterms:modified>
  <cp:revision>1</cp:revision>
  <dc:subject/>
  <dc:title>Dog</dc:title>
</cp:coreProperties>
</file>