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09F3-9C1B-4FE3-97CB-543D75545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15EC-A5C4-4F0A-8923-8A45C3ACC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3248-3D92-4685-8C1E-AFC672031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F440-916C-4006-8FC2-9276AD1B0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8BB8-EC59-464F-9BB7-2915ABB82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A617-1DA7-42D3-B35D-CF1A1CAB8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F5BD-E8BC-479F-B829-36FBCD3E7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5C6B3-42BA-4614-9743-A015773C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020A-0D00-41F1-85F8-6B85C6AB4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55C8-EB81-4930-9DB4-5A4DA927E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5F0F-FFDA-4C67-B39B-7A4EDFA2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9683F-396A-4F64-AB46-D1C851724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7857E-2FDF-4F6C-8BF2-9DEA14870D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Radio Set Power Point Quiz 2.ppt" TargetMode="External"/><Relationship Id="rId2" Type="http://schemas.openxmlformats.org/officeDocument/2006/relationships/hyperlink" Target="Power Point Ex Correct Answer.ppt" TargetMode="External"/><Relationship Id="rId3" Type="http://schemas.openxmlformats.org/officeDocument/2006/relationships/hyperlink" Target="Radio Set Power Point Quiz 2.ppt" TargetMode="External"/><Relationship Id="rId4" Type="http://schemas.openxmlformats.org/officeDocument/2006/relationships/hyperlink" Target="Power Point Ex Correct Answer.ppt" TargetMode="External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adio Set Quiz</a:t>
            </a:r>
            <a:br>
              <a:rPr sz="36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estion 3. The set is made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22096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ngap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29718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 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373392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  Rus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441972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.  Swe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81680" y="4419720"/>
            <a:ext cx="19051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Cho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781680" y="3733920"/>
            <a:ext cx="19814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res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to Cho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781680" y="2971800"/>
            <a:ext cx="19814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res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to Cho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781680" y="2286000"/>
            <a:ext cx="19051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res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to Cho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01:39:27Z</dcterms:created>
  <dc:creator>NIE</dc:creator>
  <dc:description/>
  <dc:language>en-US</dc:language>
  <cp:lastModifiedBy>NIE</cp:lastModifiedBy>
  <dcterms:modified xsi:type="dcterms:W3CDTF">2010-01-20T07:32:45Z</dcterms:modified>
  <cp:revision>12</cp:revision>
  <dc:subject/>
  <dc:title>1. How do you pick up a kitten?</dc:title>
</cp:coreProperties>
</file>