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900-1C83-4E81-B659-54C37B33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849-2983-473D-9C22-DA7350D4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DB1-2AE9-4A93-AA97-7359813E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06D2-0FD2-45D9-88B5-1C5A48BB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B50-D5EA-4164-892E-39B0401A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315-5C58-4663-B481-90EDC124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B36-C8D4-4255-9D6A-D8B0E95E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A5F-1670-4D17-AD60-38567F06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0DC-2D3D-45E3-8F36-02E8CB6F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D8F-77EF-450A-AD2E-3C170672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911-3343-4119-A525-1AC29A79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19D-C9C4-4651-97A3-F363EDC1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98FB-06DE-457E-AAF3-6CC81BF1B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Radio Set Power Point Quiz 2.ppt" TargetMode="External"/><Relationship Id="rId2" Type="http://schemas.openxmlformats.org/officeDocument/2006/relationships/hyperlink" Target="Power Point Ex Correct Answer.ppt" TargetMode="External"/><Relationship Id="rId3" Type="http://schemas.openxmlformats.org/officeDocument/2006/relationships/hyperlink" Target="Radio Set Power Point Quiz 2.ppt" TargetMode="External"/><Relationship Id="rId4" Type="http://schemas.openxmlformats.org/officeDocument/2006/relationships/hyperlink" Target="Power Point Ex Correct Answer.ppt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dio Set Quiz</a:t>
            </a:r>
            <a:br>
              <a:rPr sz="36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3. The set is mad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971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7339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4197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 Sw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4419720"/>
            <a:ext cx="1905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373392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297180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2286000"/>
            <a:ext cx="1905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32:45Z</dcterms:modified>
  <cp:revision>12</cp:revision>
  <dc:subject/>
  <dc:title>1. How do you pick up a kitten?</dc:title>
</cp:coreProperties>
</file>