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51C-FC4D-4C85-9F5C-E5E81936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9FC-65E1-4423-AE88-B75FE6BE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64B-3A16-4641-A754-198F6207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DDC-6026-44E7-AECC-924CFDCB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C3A-2A8B-4742-AF03-38F9D75D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273-A1C7-40E3-8F49-CFAA3475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BFC-FB1D-43A8-849A-25F91607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716-5F9E-45E1-836D-570A7DAF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BDD-4EF3-4B6C-95E3-D6245DDF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76F-35D0-457E-A559-DD8A9A99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020-349F-466A-BF16-529F1C17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0A4-7A04-4023-A032-40906B61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E817-964E-413D-A7B6-5A798E2D1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Radio Set Power Point Quiz 2.ppt" TargetMode="External"/><Relationship Id="rId2" Type="http://schemas.openxmlformats.org/officeDocument/2006/relationships/hyperlink" Target="Power Point Ex Correct Answer.ppt" TargetMode="External"/><Relationship Id="rId3" Type="http://schemas.openxmlformats.org/officeDocument/2006/relationships/hyperlink" Target="Radio Set Power Point Quiz 2.ppt" TargetMode="External"/><Relationship Id="rId4" Type="http://schemas.openxmlformats.org/officeDocument/2006/relationships/hyperlink" Target="Power Point Ex Correct Answer.ppt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dio Set Quiz</a:t>
            </a:r>
            <a:br>
              <a:rPr sz="36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3. The set is mad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971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7339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4197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 Sw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4419720"/>
            <a:ext cx="1905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373392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297180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2286000"/>
            <a:ext cx="1905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32:45Z</dcterms:modified>
  <cp:revision>12</cp:revision>
  <dc:subject/>
  <dc:title>1. How do you pick up a kitten?</dc:title>
</cp:coreProperties>
</file>