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981-140D-4D07-B708-2A862BC6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FB4-FC18-4C3B-910E-24FF56F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419-5F9F-4E55-9AEF-2F78E2E6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009-4A37-48C1-8C08-8FA9C966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F5A-0A7C-46F6-B953-F29C0E9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E72-ACC7-4970-9E60-2DAFE362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C9A-A2D7-4264-A9A9-F778C70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514-2631-4728-A332-B0C95639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61B-10EC-478C-BD0D-0DB7209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F3D-E5D5-4D83-BBAC-1003968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CF3-24A6-4F77-8154-4EF4E32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9ED-011D-4D8D-AD51-F1C33BB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220-BD17-4FD2-928D-5DA9C2B4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 Point Ex Wrong Answer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Power Point Ex Wrong Answer.ppt" TargetMode="External"/><Relationship Id="rId4" Type="http://schemas.openxmlformats.org/officeDocument/2006/relationships/hyperlink" Target="Power Point Ex Wrong Answer 1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witch to on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3:56Z</dcterms:modified>
  <cp:revision>10</cp:revision>
  <dc:subject/>
  <dc:title>1. How do you pick up a kitten?</dc:title>
</cp:coreProperties>
</file>