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B79B-34AC-410D-9AB7-C0CD01BE8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D909-50B8-4842-8E1C-95319828A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A3BA-629F-423B-8543-DE618EFD9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AB9F4-B342-4A76-89DD-D27D62335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1CE5-2130-4BCB-AAC6-7FF277615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1EA72-66AE-41E6-95A9-D223743A3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BFF7D-0AA6-472C-B7DD-BCFF8228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6D1F-E4D0-43B6-9457-FBB1096D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3F1E-4F79-45E4-A375-247560064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203F-8911-41C3-B771-98EBC9E7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0FF3-4527-4CD9-8151-5CB9B0EE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4ADD-FB2E-4FE2-9E08-128BA0E9A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979A-6079-4994-9715-8D57B3B35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Power Point Ex Wrong Answer.ppt" TargetMode="External"/><Relationship Id="rId2" Type="http://schemas.openxmlformats.org/officeDocument/2006/relationships/hyperlink" Target="Radio Set Power Point Quiz 2.ppt" TargetMode="External"/><Relationship Id="rId3" Type="http://schemas.openxmlformats.org/officeDocument/2006/relationships/hyperlink" Target="Power Point Ex Wrong Answer.ppt" TargetMode="External"/><Relationship Id="rId4" Type="http://schemas.openxmlformats.org/officeDocument/2006/relationships/hyperlink" Target="Power Point Ex Wrong Answer 1.ppt" TargetMode="Externa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adio Set Quiz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 1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ich switch to on the Radio S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220968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rol Swit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219320" y="297180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  Auxilliary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373392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 Power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4419720"/>
            <a:ext cx="6400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  Back Panel Swi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781680" y="4419720"/>
            <a:ext cx="190512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res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to Ch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81680" y="3733920"/>
            <a:ext cx="19814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to Ch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781680" y="2971800"/>
            <a:ext cx="198144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res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to Ch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781680" y="2286000"/>
            <a:ext cx="190512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ress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to Cho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1:39:27Z</dcterms:created>
  <dc:creator>NIE</dc:creator>
  <dc:description/>
  <dc:language>en-US</dc:language>
  <cp:lastModifiedBy>NIE</cp:lastModifiedBy>
  <dcterms:modified xsi:type="dcterms:W3CDTF">2010-01-20T07:13:56Z</dcterms:modified>
  <cp:revision>10</cp:revision>
  <dc:subject/>
  <dc:title>1. How do you pick up a kitten?</dc:title>
</cp:coreProperties>
</file>