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56A-4E9B-45AD-9BD3-876CB22A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825-0B9B-4CB4-9743-B2C263C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D37-A23E-46E2-872B-91482DB3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42D-D171-4B24-8E06-AFC53204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50E-2DF5-412B-B896-6177FE6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DB8-BD35-4B7E-A3A2-9CC39B2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E2E-233F-4A48-9CFE-4CF1B10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1F5-4C73-455D-A695-BBDA8EF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6CB-0362-4FDC-A598-5C309D6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2FD-D4F7-43FB-BD46-0E5E867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C0F-DFF7-43F0-8219-DF9C1070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72D-91D3-4F97-B2E8-9BB1BF9C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5B6C-A175-43F8-9855-CF07EC95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 Point Ex Wrong Answer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Power Point Ex Wrong Answer.ppt" TargetMode="External"/><Relationship Id="rId4" Type="http://schemas.openxmlformats.org/officeDocument/2006/relationships/hyperlink" Target="Power Point Ex Wrong Answer 1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witch to on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3:56Z</dcterms:modified>
  <cp:revision>10</cp:revision>
  <dc:subject/>
  <dc:title>1. How do you pick up a kitten?</dc:title>
</cp:coreProperties>
</file>