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C0F98-20E2-47D4-BC79-8B0EAADAB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2AA01-ACA4-4E23-B448-D12C6335C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64AA-C4C4-44EF-AF1E-F223421BB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EF23-AA05-4449-B118-0F06AD23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88D-397B-4AF6-8A0E-57A953BC4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7504-5E9C-4D05-AAFD-03F830E0B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451F-8C6E-4DA2-8F3C-15B5E2B56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F702-E34A-4B23-A470-BB3142E8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A193-79B6-4D88-B9C2-725DF5DA4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F839-AA5C-4BA3-A6AA-ACDCD5D9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D3E3-6B20-48BF-A7A1-9C17D50E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D78F-AB72-4B11-991E-90049AB93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74F2C-977B-42BA-8ACB-458986F42E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io%20Set%20Power%20Point%20Quiz%201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ong.  Tr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248520" y="487692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Click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o Try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10:15Z</dcterms:modified>
  <cp:revision>9</cp:revision>
  <dc:subject/>
  <dc:title>1. How do you pick up a kitten?</dc:title>
</cp:coreProperties>
</file>