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BB4-3C2E-4ECD-B213-14E7083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261-D396-46DE-A26F-A16AE5B1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080-950D-4FB0-B0E2-7722CCD1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533-267F-4DF6-9288-F86C98D0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D80-2F48-419E-9EF2-C95BAB15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147-867C-44EF-ABF4-27818C3C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DD-FDE5-4664-BC08-3BC44295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F7C-0BF5-4641-894E-D235D6B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319-79FC-48AE-9275-09F9DC53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665-C963-4D94-92B4-01E127AC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3C7-D848-4F50-AD0A-4EB050A1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526-8B63-4CCF-8A30-37B5A9ED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A9CC-3D0D-481E-B93C-47AAB90A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io%20Set%20Power%20Point%20Quiz%201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. 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48769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10:15Z</dcterms:modified>
  <cp:revision>9</cp:revision>
  <dc:subject/>
  <dc:title>1. How do you pick up a kitten?</dc:title>
</cp:coreProperties>
</file>