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D68D-3418-41D3-8CCD-38E7F3898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6F5B-6BE4-44DD-B269-7E2F8D98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B1E2-0C60-4B10-9140-C7AB637F7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5303-98F4-4F5F-85FA-325D5BA29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FA67-9856-460F-B301-0419CDBE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1FBF-71B9-4F6C-8CEB-ECFED3A0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ECE7-74F6-44DF-9FCB-56665F80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D0B9-DDAA-4E19-9D18-973FC30D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C6D7-F5AD-4A98-8515-DB671845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8D79-83DF-4125-8C9D-59365566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47B6-1004-42AA-8667-CC87905B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2C70-55E3-44B6-8A59-5EC38C60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859D-F7CF-4D86-B829-C611E6CF3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Radio%20Set%20Power%20Point%20Quiz%201.ppt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ong.  Try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219456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4876920"/>
            <a:ext cx="2209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ic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o Try Ag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1:39:27Z</dcterms:created>
  <dc:creator>NIE</dc:creator>
  <dc:description/>
  <dc:language>en-US</dc:language>
  <cp:lastModifiedBy>NIE</cp:lastModifiedBy>
  <dcterms:modified xsi:type="dcterms:W3CDTF">2010-01-20T07:10:15Z</dcterms:modified>
  <cp:revision>9</cp:revision>
  <dc:subject/>
  <dc:title>1. How do you pick up a kitten?</dc:title>
</cp:coreProperties>
</file>