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4A3B-2B05-40A5-B5AA-22868C8A4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8ABB8-32DF-410C-BF03-D5EB53EFB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9A7C-E732-4D0E-8208-80E3DE1CC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14F5-A2FB-46E5-8433-213545A93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22D8-9B98-420B-B07B-327C17ACB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D0084-73DB-4B9C-B4CD-BEB9EA997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9609B-6E7C-4D2B-9908-F55AA213D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79E1-8F65-474C-8161-61F9D8023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4A25-7F8A-4FAF-ABA6-A1C3453E4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94EA-F58C-4540-8A3E-102A6150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E68A-B829-4317-9DD3-FDB89B9E2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820F-BF46-48D8-8DCA-8BD08AC5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6DBF-2EC2-4EC3-83EA-492449A9B6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Radio Set HF 123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209320"/>
            <a:ext cx="6400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c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quipment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stion and Anw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 of Radio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Video C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SAF eqpt – Past and Pres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8:01:09Z</dcterms:created>
  <dc:creator>NIE</dc:creator>
  <dc:description/>
  <dc:language>en-US</dc:language>
  <cp:lastModifiedBy>NIE</cp:lastModifiedBy>
  <dcterms:modified xsi:type="dcterms:W3CDTF">2010-01-20T08:02:39Z</dcterms:modified>
  <cp:revision>1</cp:revision>
  <dc:subject/>
  <dc:title>  Radio Set HF 123A</dc:title>
</cp:coreProperties>
</file>