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CCB-E18B-450C-81C1-97B26E3C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AE8-3A92-42E4-9302-1525561A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9AC-7F42-496E-B0A3-03D9BE2E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517-AD19-4AFD-BCD4-6CFB2B0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183-6836-4189-9982-B3DBC86F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4B1-1AB9-4C15-B169-9115B701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0B6-6101-4A32-8663-2545642A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F6B-4233-4C4E-8A5F-BBEFE71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9F4-A3D8-4E08-8BE2-BE68200C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668-4CEB-4126-A689-C663CDD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00F-BAB2-4294-A7C8-F6E3342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4F2-B9A5-423D-AF2B-55AF6207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28DA-C50D-4A7C-AB68-A2A855D4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dio Set HF 12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and An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Radi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AF eqpt – Past and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8:01:09Z</dcterms:created>
  <dc:creator>NIE</dc:creator>
  <dc:description/>
  <dc:language>en-US</dc:language>
  <cp:lastModifiedBy>NIE</cp:lastModifiedBy>
  <dcterms:modified xsi:type="dcterms:W3CDTF">2010-01-20T08:02:39Z</dcterms:modified>
  <cp:revision>1</cp:revision>
  <dc:subject/>
  <dc:title>  Radio Set HF 123A</dc:title>
</cp:coreProperties>
</file>