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5AA-C020-4BBB-BCDE-B1792CB5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3E3-7011-498C-899F-C5FF8340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8FA-FBAC-47E7-A4A4-A9D40689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F8B-8E94-439D-B412-3A1F8227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E52-C787-458D-B9C9-7FEE1F6E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67A-7EBC-44A5-A590-9F171E72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957-7D59-400F-A7D3-5AF7FC93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F22-3659-422F-93D4-3C710D06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31D-5191-4E23-AE1B-009999E2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605-DE7D-4A4B-9F3C-4381359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782-1D79-41D4-A8BC-DFF9C012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68C-688C-4AC4-92DD-B0218C4A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2E7E-8F58-4834-9261-0545EFE2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dio Set HF 12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and An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Radi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Video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AF eqpt – Past and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8:01:09Z</dcterms:created>
  <dc:creator>NIE</dc:creator>
  <dc:description/>
  <dc:language>en-US</dc:language>
  <cp:lastModifiedBy>NIE</cp:lastModifiedBy>
  <dcterms:modified xsi:type="dcterms:W3CDTF">2010-01-20T08:02:39Z</dcterms:modified>
  <cp:revision>1</cp:revision>
  <dc:subject/>
  <dc:title>  Radio Set HF 123A</dc:title>
</cp:coreProperties>
</file>