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5EC-2BE4-4966-96A4-3DA61FDF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6CB-14D6-4C7C-A520-F3B7DB58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4DF-AB0A-48E5-8FE2-F721409A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3B1-F4DD-41E1-852B-7426B780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290-FF9F-4535-A705-E8719B3A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0F1-91FC-4EF7-B08C-1C4DB159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E85-BE87-4D6E-B959-3E468216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E4A-0AAF-4E06-995D-26EB29B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E49-B8BA-438F-89EA-197476D9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473-A52F-4FD7-A890-8DDCA6B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14C-8F93-4629-8A68-0B98BBE5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E61-09AB-4EF8-B835-6E35DE1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019E-9BB9-4320-B280-9039C1ACB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io%20Set%20Power%20Point%20Quiz%201.ppt" TargetMode="External"/><Relationship Id="rId2" Type="http://schemas.openxmlformats.org/officeDocument/2006/relationships/hyperlink" Target="file:///Radio%20Set%20Power%20Point%20Quiz%202.ppt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g. 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7692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to Try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28:49Z</dcterms:modified>
  <cp:revision>11</cp:revision>
  <dc:subject/>
  <dc:title>1. How do you pick up a kitten?</dc:title>
</cp:coreProperties>
</file>