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9593-F183-4AB2-844B-2A0217FAA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13B9-25EC-4105-8C2B-25296C945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737-C9D5-4FBB-9487-F06D4826E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C2EB-6E36-45CB-8E60-495D53E82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BAA0-5655-44CB-BE71-D0B87BF7A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7DF-1A1F-4002-8E83-47046772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A373-8551-4B9A-BA56-29A84A6C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8572-18B7-4E76-922D-690A1E07E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FF0E-A141-4AFC-B2CA-019534A3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7C0-C5F1-40DD-9072-48E0D042E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6BD6-1930-4593-9BDD-61EAFE6EE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E43E-D68B-4A0C-AA0E-A0AA7E093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C7DA-D058-4F01-A288-7A8EA850CC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file:///Radio%20Set%20Power%20Point%20Quiz%201.ppt" TargetMode="External"/><Relationship Id="rId2" Type="http://schemas.openxmlformats.org/officeDocument/2006/relationships/hyperlink" Target="file:///Radio%20Set%20Power%20Point%20Quiz%202.ppt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514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rong.  Try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2194560"/>
            <a:ext cx="640080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1"/>
          </p:cNvPr>
          <p:cNvSpPr/>
          <p:nvPr/>
        </p:nvSpPr>
        <p:spPr>
          <a:xfrm>
            <a:off x="6248520" y="4876920"/>
            <a:ext cx="2209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ere to Try Aga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0T01:39:27Z</dcterms:created>
  <dc:creator>NIE</dc:creator>
  <dc:description/>
  <dc:language>en-US</dc:language>
  <cp:lastModifiedBy>NIE</cp:lastModifiedBy>
  <dcterms:modified xsi:type="dcterms:W3CDTF">2010-01-20T07:28:49Z</dcterms:modified>
  <cp:revision>11</cp:revision>
  <dc:subject/>
  <dc:title>1. How do you pick up a kitten?</dc:title>
</cp:coreProperties>
</file>