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624-F30B-4CE2-9241-250001D7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F1E-5601-44EB-BDB8-70688BAE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2F3-E98C-4BC2-951F-464704FE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0DE-1B70-467B-923D-39297805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7C0-DBFE-41D8-B866-BBAB48C2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C8C-314E-49AB-A6B5-01178256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2B4-CAA0-4B93-972D-179603EF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9A0-56E0-4A4D-AAE4-89872075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90F-3105-4DD6-AF52-C8A95A26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138-B8CE-449B-AB39-E10053D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2EA-B2F8-4ED5-9566-083B1944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643-9AD7-4CBC-B6CD-1CCA53DF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28EC-0EE9-4330-85A1-FA719ED82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io%20Set%20Power%20Point%20Quiz%201.ppt" TargetMode="External"/><Relationship Id="rId2" Type="http://schemas.openxmlformats.org/officeDocument/2006/relationships/hyperlink" Target="file:///Radio%20Set%20Power%20Point%20Quiz%202.ppt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ong.  Tr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6248520" y="487692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 to Try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28:49Z</dcterms:modified>
  <cp:revision>11</cp:revision>
  <dc:subject/>
  <dc:title>1. How do you pick up a kitten?</dc:title>
</cp:coreProperties>
</file>