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34B-6B11-4177-B8B1-2D29B4E4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DB3-E5D1-4E44-A459-EFE20B6D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971-CDB3-45E2-B4D0-2063DE1D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DAC-57DA-40E3-AFBF-9BB4D7EA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E89-0BB2-41B5-A630-974948B4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89C-E62E-4966-98C0-6C3D4AD3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3CF-A9CB-4341-BC42-0591C3C2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86B-1DD3-47C9-B1C7-E148667E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952-3EFF-41CA-82D0-E1B592A2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6F1-1648-4500-BA82-AB6E5A7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613-CA36-4621-96A7-B10DAD4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DFE-E207-4B54-A5E4-43349CA4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0CD8-B458-4D7B-9A95-35DDD24C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ower%20Point%20Ex.ppt" TargetMode="External"/><Relationship Id="rId2" Type="http://schemas.openxmlformats.org/officeDocument/2006/relationships/hyperlink" Target="file:///Radio%20Set%20Power%20Point%20Quiz%203.ppt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. Well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0060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Next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0:35Z</dcterms:modified>
  <cp:revision>6</cp:revision>
  <dc:subject/>
  <dc:title>1. How do you pick up a kitten?</dc:title>
</cp:coreProperties>
</file>