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8304-FDF6-4D90-9BD6-ACF44C9B2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8FBE-29A0-4B99-A6E4-4CC6A98D9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C39C-104A-48F8-9330-9FC322ED7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79E1-F96F-4D3C-99BE-59FC77C09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DAB5-85B7-4E7D-A751-4ECE2A9BE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F672-8D2A-4316-A032-474BD3276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42ED-9810-4C96-9D48-EED8F2A0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AA7C-25C6-4116-8331-8C4D51821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0295-81AE-404F-B8E4-80C907FB4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B90E-43A9-4D69-B89A-1045DD17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A73C-BA12-489F-85AA-D78882A7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FA7E-EB7F-4342-9097-B5132676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2B5D4-45E4-4CEC-B616-76BA08956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Power%20Point%20Ex.ppt" TargetMode="External"/><Relationship Id="rId2" Type="http://schemas.openxmlformats.org/officeDocument/2006/relationships/hyperlink" Target="file:///Radio%20Set%20Power%20Point%20Quiz%203.ppt" TargetMode="Externa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rect. Well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219456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1"/>
          </p:cNvPr>
          <p:cNvSpPr/>
          <p:nvPr/>
        </p:nvSpPr>
        <p:spPr>
          <a:xfrm>
            <a:off x="6248520" y="4800600"/>
            <a:ext cx="2590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lick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o Next Ques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01:39:27Z</dcterms:created>
  <dc:creator>NIE</dc:creator>
  <dc:description/>
  <dc:language>en-US</dc:language>
  <cp:lastModifiedBy>NIE</cp:lastModifiedBy>
  <dcterms:modified xsi:type="dcterms:W3CDTF">2010-01-20T07:30:35Z</dcterms:modified>
  <cp:revision>6</cp:revision>
  <dc:subject/>
  <dc:title>1. How do you pick up a kitten?</dc:title>
</cp:coreProperties>
</file>