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9935-09F2-4A4D-8DF0-6811487EC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20D62-B441-4EF7-98FD-096512891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EB6B-FDAB-4EEF-8D50-5D5033D78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CAD2-EA6C-48CD-A0EC-B31D32B1E2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B327-4A09-41A3-9AF6-FC3D99613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005C-9CF7-40BC-9B86-93ECF3A6C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B059-7EB0-4390-AD7C-A537674A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CF1CF-2BB3-421C-B6ED-14A3A2558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1513-2EE3-485D-BC11-67A4DCFE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5383-C7F3-4FB0-905B-531A3A988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4707-4255-4799-8440-ECF736B4A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4F4D-F9AF-4D89-882E-CCA479AE1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2A2B-18FF-4358-B264-C2C2ABC708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.ppt" TargetMode="External"/><Relationship Id="rId2" Type="http://schemas.openxmlformats.org/officeDocument/2006/relationships/hyperlink" Target="file:///Radio%20Set%20Power%20Point%20Quiz%203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Next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35Z</dcterms:modified>
  <cp:revision>6</cp:revision>
  <dc:subject/>
  <dc:title>1. How do you pick up a kitten?</dc:title>
</cp:coreProperties>
</file>