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CA7-03BD-47F7-88E4-F4A9B69E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10ED-F8DB-4132-BE8E-480F0F76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8F3B-C418-414F-86C8-002E4B0F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A31-5AF9-4D9A-A56F-5C72B12E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057-56D7-45D4-B3AA-223B49FC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956-7D77-4A4C-BC77-550D9BE4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1BF-4D2C-43C5-8C2F-F0C88EB8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4F09-93DA-45FE-AB35-082CA714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E4BC-9886-464C-9D6D-50876864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65FE-DB8E-4E91-94FB-CAAA7E0B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CB5-4725-4283-8033-4A0CFB95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EBE2-3A9C-40AB-8DD3-615F13D7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574D-29B5-4BB0-A9CA-BDDCA29F5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ower%20Point%20Ex%20Correct%20Answer.ppt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dio Set Quiz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item to off the Radio 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Swi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9718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 Auxilliary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7339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Power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4197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 Back Panel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4419720"/>
            <a:ext cx="1905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373392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297180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2286000"/>
            <a:ext cx="1905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9:27Z</dcterms:created>
  <dc:creator>NIE</dc:creator>
  <dc:description/>
  <dc:language>en-US</dc:language>
  <cp:lastModifiedBy>NIE</cp:lastModifiedBy>
  <dcterms:modified xsi:type="dcterms:W3CDTF">2010-01-20T07:33:35Z</dcterms:modified>
  <cp:revision>13</cp:revision>
  <dc:subject/>
  <dc:title>1. How do you pick up a kitten?</dc:title>
</cp:coreProperties>
</file>