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598-3194-471C-8CF4-DEEF7E08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212-7200-4E80-ABCE-A8CAC6FE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67F-19C8-4D53-8590-815657D8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93D-F2E4-4ACA-9F33-161FE27B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060-940F-4E7C-A959-323C3BE5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196-F262-430A-8D20-371D2EC1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C9E-72BA-4EE1-B7F4-7541293D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8EC-836A-4AE2-91DD-616EAA4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90C-A8F9-41F7-A606-B110749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774-38A6-4350-8911-6B107D04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EEA-69BC-451A-97E8-4D41A06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9F0-C5AA-4259-8B88-4EC12C9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CFA-5958-4082-BA5E-83C57AB4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%20Correct%20Answer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tem to off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3:35Z</dcterms:modified>
  <cp:revision>13</cp:revision>
  <dc:subject/>
  <dc:title>1. How do you pick up a kitten?</dc:title>
</cp:coreProperties>
</file>