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D8E-A427-4297-8E8A-7A235C1A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B70B-EF25-43F3-BC91-1AF4DF55A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B43-3C63-4CBA-9793-3F46946C5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52A-DE4A-4921-8DEF-F72B8BAB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EAFF-F57E-4F4F-BD83-2CD14383C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260E-0DFA-4DBA-A05E-2475FCDD4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99B3-75FC-4A70-B249-E611096E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2F913-580C-4289-985D-47D97281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2F16-8601-4ECB-97F3-6833EDF54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A188-F1F4-47F0-B399-4EB7F8FA8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40C22-9C36-4ACB-A214-20C05FC4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DFA4-AE04-45AA-A52E-7615C8A44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C24E8-33A9-42FF-95E4-153623CB5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Power%20Point%20Ex%20Correct%20Answer.ppt" TargetMode="Externa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 2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item to off the Radio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S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Auxillia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ower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Back Panel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ss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33:35Z</dcterms:modified>
  <cp:revision>13</cp:revision>
  <dc:subject/>
  <dc:title>1. How do you pick up a kitten?</dc:title>
</cp:coreProperties>
</file>