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FF2-C885-400E-933B-68DB956F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A98-57EC-4F08-8A5C-4B65830D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AC9-A080-4CF1-93B3-31A33D4D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49D-C9E9-4DB3-9DDB-A42BA48C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B6E-5830-459B-88CC-E208185A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12C-E46F-42BB-B436-44B57F2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1D2-36AC-4FC3-B23C-D8D77CF9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CDB-E89B-4238-9F84-C121C07C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9F9-FCD7-4894-B9B9-6481B84C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298-4790-457D-B739-E025B7D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3BC-898F-4FBF-9615-B922775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EC7-5019-4F6D-984A-BDB827F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B16E-0FE3-43E0-8358-E6E547AA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ower%20Point%20Ex.ppt" TargetMode="External"/><Relationship Id="rId2" Type="http://schemas.openxmlformats.org/officeDocument/2006/relationships/hyperlink" Target="Radio Set Power Point Quiz 2.ppt" TargetMode="External"/><Relationship Id="rId3" Type="http://schemas.openxmlformats.org/officeDocument/2006/relationships/hyperlink" Target="Radio Set Power Point Quiz 3.ppt" TargetMode="External"/><Relationship Id="rId4" Type="http://schemas.openxmlformats.org/officeDocument/2006/relationships/hyperlink" Target="Power Point Ex 2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. Well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0060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e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0:02Z</dcterms:modified>
  <cp:revision>6</cp:revision>
  <dc:subject/>
  <dc:title>1. How do you pick up a kitten?</dc:title>
</cp:coreProperties>
</file>