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637C-CB5A-4A80-8FF2-4E09251C1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FBDD-D852-4780-AD16-519F90376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5CB8-76C9-42C4-AECB-CF086F83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301C-6DDF-42D5-9515-20B0B34C0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7E16-7EA2-4431-80BA-24483A8D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8C82-DD5D-4270-A4CB-308C23A32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32F-20D8-4AF5-8063-B65C6A6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D686-CE89-4879-B227-6BBB0F2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C8989-4D64-4A02-AC7C-18B5F471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E2C09-43D5-42B0-AC94-B2C1D235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E12A-B633-4C0F-A0B1-A61FD6C6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378-701F-42B5-B6B8-EC7F39D7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3F92-35D2-4DBF-930A-C53218C639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%20Point%20Ex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Radio Set Power Point Quiz 3.ppt" TargetMode="External"/><Relationship Id="rId4" Type="http://schemas.openxmlformats.org/officeDocument/2006/relationships/hyperlink" Target="Power Point Ex 2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rrect. Well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00600"/>
            <a:ext cx="25905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tr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ne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Ques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0:02Z</dcterms:modified>
  <cp:revision>6</cp:revision>
  <dc:subject/>
  <dc:title>1. How do you pick up a kitten?</dc:title>
</cp:coreProperties>
</file>