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06C-BF91-4EA1-8853-D470F64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EE4-AEBC-46A1-AD76-4FDA5F7F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2AD-1E5E-45DA-A5EF-388166EA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830-4431-42AB-B067-4041F049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752-EDA3-4DD8-89EA-18C71255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C1D-34C0-428A-A58D-96F3F4C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006-1B12-4FFC-A70A-28306C9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2EE-970C-4A56-81CF-574CA628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183-C4A2-4FED-B97F-6CD0BAD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6A6-A9D8-43B1-A8ED-426B6D6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077-7885-45B8-95E6-E5D1F5D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CDB-49F1-4D19-B117-1582D96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4B91-31D8-4A4F-ACE4-66E6F776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%20Point%20Ex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Radio Set Power Point Quiz 3.ppt" TargetMode="External"/><Relationship Id="rId4" Type="http://schemas.openxmlformats.org/officeDocument/2006/relationships/hyperlink" Target="Power Point Ex 2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02Z</dcterms:modified>
  <cp:revision>6</cp:revision>
  <dc:subject/>
  <dc:title>1. How do you pick up a kitten?</dc:title>
</cp:coreProperties>
</file>