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7A6-7D79-43EC-AAE8-8608F4A79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CAA9-28D2-4CE8-BB85-E2E971D9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6CA-F131-4BE9-85B7-2C11B4F14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078-8ED0-4FB0-BA47-80D909C40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E8410-84C1-4D2D-8BCD-03E473D1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F53B-6518-4D6E-8422-334B90322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414A-78F1-4D15-9D03-30EC4264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6C7FE-832D-416F-8275-C7A39FBD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05278-B10C-4A1F-A5CC-D4C1607CA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9723-9C6D-4CB4-96FC-7F92396D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10DF9-B74F-4A54-9DE3-0202B9E44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7AE5-64F1-413C-9DD0-58D7EC8DA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10879-0BBE-416E-B80C-169701D70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21F52-FC8D-4A90-8420-26ABB8AD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D72B8-CF48-4060-B1D3-40CC77AAF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13291-0CAB-4688-9B14-AD42CB6DB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324CB-F25A-4A63-94F0-BAF08D806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924F-6E6D-4AB7-88FB-EEE3C019D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1A24-FBC3-4DC0-AAAD-CC134C1B2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7B36-F43E-40EE-B9D6-C6F8E39BF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84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29CD-4515-4DBD-A89A-D8F3B3F5E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C99-833C-47E6-96DE-2DB143AB4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FEB7-B68E-41FF-86F9-CE5928F21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C814-FF61-4A48-9E34-FC00D978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1" marL="594360" indent="-22860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2" marL="914400" indent="-1828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3" marL="1280160" indent="-182880">
              <a:spcBef>
                <a:spcPts val="1100"/>
              </a:spcBef>
              <a:buClr>
                <a:srgbClr val="99cc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4" marL="1645920" indent="-1828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5" marL="1645920" indent="-182880">
              <a:spcBef>
                <a:spcPts val="11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lvl="6" marL="1645920" indent="-182880">
              <a:spcBef>
                <a:spcPts val="11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B2352-E18F-4F3A-91E2-78B1C55576F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98EE2-F918-443A-B3CF-16F9E387E25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indent="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lick to edit the outline text format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  <a:p>
            <a:pPr lvl="1" marL="438840"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ccff"/>
                </a:solidFill>
                <a:latin typeface="Arial"/>
              </a:rPr>
              <a:t>Second Outline Level</a:t>
            </a:r>
            <a:endParaRPr b="0" lang="en-US" sz="4000" spc="-1" strike="noStrike">
              <a:solidFill>
                <a:srgbClr val="99ccff"/>
              </a:solidFill>
              <a:latin typeface="Arial"/>
            </a:endParaRPr>
          </a:p>
          <a:p>
            <a:pPr lvl="2" marL="87768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cc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99ccff"/>
              </a:solidFill>
              <a:latin typeface="Arial"/>
            </a:endParaRPr>
          </a:p>
          <a:p>
            <a:pPr lvl="3" marL="1316520" algn="ctr">
              <a:spcBef>
                <a:spcPts val="499"/>
              </a:spcBef>
              <a:buClr>
                <a:srgbClr val="99cc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4" marL="175536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5" marL="175536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  <a:p>
            <a:pPr lvl="6" marL="175536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cc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99cc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2.xml"/><Relationship Id="rId9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" Target="slide2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Where is the location?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81080" y="28954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 – NUS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B – NTU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 – NIE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D – My house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64" name="">
            <a:hlinkClick r:id="rId5" action="ppaction://hlinksldjump"/>
          </p:cNvPr>
          <p:cNvSpPr/>
          <p:nvPr/>
        </p:nvSpPr>
        <p:spPr>
          <a:xfrm>
            <a:off x="1905120" y="2971800"/>
            <a:ext cx="4495680" cy="685800"/>
          </a:xfrm>
          <a:custGeom>
            <a:avLst/>
            <a:gdLst>
              <a:gd name="textAreaLeft" fmla="*/ 44280 w 4495680"/>
              <a:gd name="textAreaRight" fmla="*/ 4451400 w 44956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41533" h="21600">
                <a:moveTo>
                  <a:pt x="0" y="0"/>
                </a:moveTo>
                <a:lnTo>
                  <a:pt x="141533" y="0"/>
                </a:lnTo>
                <a:lnTo>
                  <a:pt x="141533" y="21600"/>
                </a:lnTo>
                <a:lnTo>
                  <a:pt x="0" y="21600"/>
                </a:lnTo>
                <a:close/>
              </a:path>
              <a:path fill="lightenLess" w="141533" h="21600">
                <a:moveTo>
                  <a:pt x="0" y="0"/>
                </a:moveTo>
                <a:lnTo>
                  <a:pt x="141533" y="0"/>
                </a:lnTo>
                <a:lnTo>
                  <a:pt x="140133" y="1400"/>
                </a:lnTo>
                <a:lnTo>
                  <a:pt x="1400" y="1400"/>
                </a:lnTo>
                <a:close/>
              </a:path>
              <a:path fill="darken" w="141533" h="21600">
                <a:moveTo>
                  <a:pt x="141533" y="0"/>
                </a:moveTo>
                <a:lnTo>
                  <a:pt x="141533" y="21600"/>
                </a:lnTo>
                <a:lnTo>
                  <a:pt x="140133" y="20200"/>
                </a:lnTo>
                <a:lnTo>
                  <a:pt x="140133" y="1400"/>
                </a:lnTo>
                <a:close/>
              </a:path>
              <a:path fill="darkenLess" w="141533" h="21600">
                <a:moveTo>
                  <a:pt x="1415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133" y="20200"/>
                </a:lnTo>
                <a:close/>
              </a:path>
              <a:path fill="lighten" w="1415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>
            <a:hlinkClick r:id="rId6" action="ppaction://hlinksldjump"/>
          </p:cNvPr>
          <p:cNvSpPr/>
          <p:nvPr/>
        </p:nvSpPr>
        <p:spPr>
          <a:xfrm>
            <a:off x="1981080" y="3733920"/>
            <a:ext cx="4496040" cy="685800"/>
          </a:xfrm>
          <a:custGeom>
            <a:avLst/>
            <a:gdLst>
              <a:gd name="textAreaLeft" fmla="*/ 44280 w 4496040"/>
              <a:gd name="textAreaRight" fmla="*/ 4451760 w 449604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41545" h="21600">
                <a:moveTo>
                  <a:pt x="0" y="0"/>
                </a:moveTo>
                <a:lnTo>
                  <a:pt x="141545" y="0"/>
                </a:lnTo>
                <a:lnTo>
                  <a:pt x="141545" y="21600"/>
                </a:lnTo>
                <a:lnTo>
                  <a:pt x="0" y="21600"/>
                </a:lnTo>
                <a:close/>
              </a:path>
              <a:path fill="lightenLess" w="141545" h="21600">
                <a:moveTo>
                  <a:pt x="0" y="0"/>
                </a:moveTo>
                <a:lnTo>
                  <a:pt x="141545" y="0"/>
                </a:lnTo>
                <a:lnTo>
                  <a:pt x="140145" y="1400"/>
                </a:lnTo>
                <a:lnTo>
                  <a:pt x="1400" y="1400"/>
                </a:lnTo>
                <a:close/>
              </a:path>
              <a:path fill="darken" w="141545" h="21600">
                <a:moveTo>
                  <a:pt x="141545" y="0"/>
                </a:moveTo>
                <a:lnTo>
                  <a:pt x="141545" y="21600"/>
                </a:lnTo>
                <a:lnTo>
                  <a:pt x="140145" y="20200"/>
                </a:lnTo>
                <a:lnTo>
                  <a:pt x="140145" y="1400"/>
                </a:lnTo>
                <a:close/>
              </a:path>
              <a:path fill="darkenLess" w="141545" h="21600">
                <a:moveTo>
                  <a:pt x="141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0145" y="20200"/>
                </a:lnTo>
                <a:close/>
              </a:path>
              <a:path fill="lighten" w="141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>
            <a:hlinkClick r:id="rId7" action="ppaction://hlinksldjump"/>
          </p:cNvPr>
          <p:cNvSpPr/>
          <p:nvPr/>
        </p:nvSpPr>
        <p:spPr>
          <a:xfrm>
            <a:off x="1981080" y="4572000"/>
            <a:ext cx="5029200" cy="685800"/>
          </a:xfrm>
          <a:custGeom>
            <a:avLst/>
            <a:gdLst>
              <a:gd name="textAreaLeft" fmla="*/ 44280 w 5029200"/>
              <a:gd name="textAreaRight" fmla="*/ 4984920 w 50292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58328" h="21600">
                <a:moveTo>
                  <a:pt x="0" y="0"/>
                </a:moveTo>
                <a:lnTo>
                  <a:pt x="158328" y="0"/>
                </a:lnTo>
                <a:lnTo>
                  <a:pt x="158328" y="21600"/>
                </a:lnTo>
                <a:lnTo>
                  <a:pt x="0" y="21600"/>
                </a:lnTo>
                <a:close/>
              </a:path>
              <a:path fill="lightenLess" w="158328" h="21600">
                <a:moveTo>
                  <a:pt x="0" y="0"/>
                </a:moveTo>
                <a:lnTo>
                  <a:pt x="158328" y="0"/>
                </a:lnTo>
                <a:lnTo>
                  <a:pt x="156928" y="1400"/>
                </a:lnTo>
                <a:lnTo>
                  <a:pt x="1400" y="1400"/>
                </a:lnTo>
                <a:close/>
              </a:path>
              <a:path fill="darken" w="158328" h="21600">
                <a:moveTo>
                  <a:pt x="158328" y="0"/>
                </a:moveTo>
                <a:lnTo>
                  <a:pt x="158328" y="21600"/>
                </a:lnTo>
                <a:lnTo>
                  <a:pt x="156928" y="20200"/>
                </a:lnTo>
                <a:lnTo>
                  <a:pt x="156928" y="1400"/>
                </a:lnTo>
                <a:close/>
              </a:path>
              <a:path fill="darkenLess" w="158328" h="21600">
                <a:moveTo>
                  <a:pt x="1583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6928" y="20200"/>
                </a:lnTo>
                <a:close/>
              </a:path>
              <a:path fill="lighten" w="1583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>
            <a:hlinkClick r:id="rId8" action="ppaction://hlinksldjump"/>
          </p:cNvPr>
          <p:cNvSpPr/>
          <p:nvPr/>
        </p:nvSpPr>
        <p:spPr>
          <a:xfrm>
            <a:off x="1981080" y="5410080"/>
            <a:ext cx="5715000" cy="685800"/>
          </a:xfrm>
          <a:custGeom>
            <a:avLst/>
            <a:gdLst>
              <a:gd name="textAreaLeft" fmla="*/ 44280 w 5715000"/>
              <a:gd name="textAreaRight" fmla="*/ 5670720 w 5715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179917" h="21600">
                <a:moveTo>
                  <a:pt x="0" y="0"/>
                </a:moveTo>
                <a:lnTo>
                  <a:pt x="179917" y="0"/>
                </a:lnTo>
                <a:lnTo>
                  <a:pt x="179917" y="21600"/>
                </a:lnTo>
                <a:lnTo>
                  <a:pt x="0" y="21600"/>
                </a:lnTo>
                <a:close/>
              </a:path>
              <a:path fill="lightenLess" w="179917" h="21600">
                <a:moveTo>
                  <a:pt x="0" y="0"/>
                </a:moveTo>
                <a:lnTo>
                  <a:pt x="179917" y="0"/>
                </a:lnTo>
                <a:lnTo>
                  <a:pt x="178517" y="1400"/>
                </a:lnTo>
                <a:lnTo>
                  <a:pt x="1400" y="1400"/>
                </a:lnTo>
                <a:close/>
              </a:path>
              <a:path fill="darken" w="179917" h="21600">
                <a:moveTo>
                  <a:pt x="179917" y="0"/>
                </a:moveTo>
                <a:lnTo>
                  <a:pt x="179917" y="21600"/>
                </a:lnTo>
                <a:lnTo>
                  <a:pt x="178517" y="20200"/>
                </a:lnTo>
                <a:lnTo>
                  <a:pt x="178517" y="1400"/>
                </a:lnTo>
                <a:close/>
              </a:path>
              <a:path fill="darkenLess" w="179917" h="21600">
                <a:moveTo>
                  <a:pt x="179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78517" y="20200"/>
                </a:lnTo>
                <a:close/>
              </a:path>
              <a:path fill="lighten" w="179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What application is taught?</a:t>
            </a:r>
            <a:endParaRPr b="0" lang="en-US" sz="4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A – Excel 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B – PPT,Hot potatoes, CMap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C – World of warcraft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99ccff"/>
                </a:solidFill>
                <a:latin typeface="Arial"/>
              </a:rPr>
              <a:t>D – Counterstrike </a:t>
            </a: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800600"/>
            <a:ext cx="4191120" cy="76212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39" h="21600">
                <a:moveTo>
                  <a:pt x="0" y="0"/>
                </a:moveTo>
                <a:lnTo>
                  <a:pt x="118739" y="0"/>
                </a:lnTo>
                <a:lnTo>
                  <a:pt x="118739" y="21600"/>
                </a:lnTo>
                <a:lnTo>
                  <a:pt x="0" y="21600"/>
                </a:lnTo>
                <a:close/>
              </a:path>
              <a:path fill="lightenLess" w="118739" h="21600">
                <a:moveTo>
                  <a:pt x="0" y="0"/>
                </a:moveTo>
                <a:lnTo>
                  <a:pt x="118739" y="0"/>
                </a:lnTo>
                <a:lnTo>
                  <a:pt x="117339" y="1400"/>
                </a:lnTo>
                <a:lnTo>
                  <a:pt x="1400" y="1400"/>
                </a:lnTo>
                <a:close/>
              </a:path>
              <a:path fill="darken" w="118739" h="21600">
                <a:moveTo>
                  <a:pt x="118739" y="0"/>
                </a:moveTo>
                <a:lnTo>
                  <a:pt x="118739" y="21600"/>
                </a:lnTo>
                <a:lnTo>
                  <a:pt x="117339" y="20200"/>
                </a:lnTo>
                <a:lnTo>
                  <a:pt x="117339" y="1400"/>
                </a:lnTo>
                <a:close/>
              </a:path>
              <a:path fill="darkenLess" w="118739" h="21600">
                <a:moveTo>
                  <a:pt x="118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39" y="20200"/>
                </a:lnTo>
                <a:close/>
              </a:path>
              <a:path fill="lighten" w="118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80880" y="3124080"/>
            <a:ext cx="4114800" cy="762120"/>
          </a:xfrm>
          <a:custGeom>
            <a:avLst/>
            <a:gdLst>
              <a:gd name="textAreaLeft" fmla="*/ 49320 w 4114800"/>
              <a:gd name="textAreaRight" fmla="*/ 4065480 w 411480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6577" h="21600">
                <a:moveTo>
                  <a:pt x="0" y="0"/>
                </a:moveTo>
                <a:lnTo>
                  <a:pt x="116577" y="0"/>
                </a:lnTo>
                <a:lnTo>
                  <a:pt x="116577" y="21600"/>
                </a:lnTo>
                <a:lnTo>
                  <a:pt x="0" y="21600"/>
                </a:lnTo>
                <a:close/>
              </a:path>
              <a:path fill="lightenLess" w="116577" h="21600">
                <a:moveTo>
                  <a:pt x="0" y="0"/>
                </a:moveTo>
                <a:lnTo>
                  <a:pt x="116577" y="0"/>
                </a:lnTo>
                <a:lnTo>
                  <a:pt x="115177" y="1400"/>
                </a:lnTo>
                <a:lnTo>
                  <a:pt x="1400" y="1400"/>
                </a:lnTo>
                <a:close/>
              </a:path>
              <a:path fill="darken" w="116577" h="21600">
                <a:moveTo>
                  <a:pt x="116577" y="0"/>
                </a:moveTo>
                <a:lnTo>
                  <a:pt x="116577" y="21600"/>
                </a:lnTo>
                <a:lnTo>
                  <a:pt x="115177" y="20200"/>
                </a:lnTo>
                <a:lnTo>
                  <a:pt x="115177" y="1400"/>
                </a:lnTo>
                <a:close/>
              </a:path>
              <a:path fill="darkenLess" w="116577" h="21600">
                <a:moveTo>
                  <a:pt x="116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5177" y="20200"/>
                </a:lnTo>
                <a:close/>
              </a:path>
              <a:path fill="lighten" w="116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>
            <a:hlinkClick r:id="rId5" action="ppaction://hlinksldjump"/>
          </p:cNvPr>
          <p:cNvSpPr/>
          <p:nvPr/>
        </p:nvSpPr>
        <p:spPr>
          <a:xfrm>
            <a:off x="533520" y="4800600"/>
            <a:ext cx="3962160" cy="762120"/>
          </a:xfrm>
          <a:custGeom>
            <a:avLst/>
            <a:gdLst>
              <a:gd name="textAreaLeft" fmla="*/ 49320 w 3962160"/>
              <a:gd name="textAreaRight" fmla="*/ 3912840 w 39621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2253" h="21600">
                <a:moveTo>
                  <a:pt x="0" y="0"/>
                </a:moveTo>
                <a:lnTo>
                  <a:pt x="112253" y="0"/>
                </a:lnTo>
                <a:lnTo>
                  <a:pt x="112253" y="21600"/>
                </a:lnTo>
                <a:lnTo>
                  <a:pt x="0" y="21600"/>
                </a:lnTo>
                <a:close/>
              </a:path>
              <a:path fill="lightenLess" w="112253" h="21600">
                <a:moveTo>
                  <a:pt x="0" y="0"/>
                </a:moveTo>
                <a:lnTo>
                  <a:pt x="112253" y="0"/>
                </a:lnTo>
                <a:lnTo>
                  <a:pt x="110853" y="1400"/>
                </a:lnTo>
                <a:lnTo>
                  <a:pt x="1400" y="1400"/>
                </a:lnTo>
                <a:close/>
              </a:path>
              <a:path fill="darken" w="112253" h="21600">
                <a:moveTo>
                  <a:pt x="112253" y="0"/>
                </a:moveTo>
                <a:lnTo>
                  <a:pt x="112253" y="21600"/>
                </a:lnTo>
                <a:lnTo>
                  <a:pt x="110853" y="20200"/>
                </a:lnTo>
                <a:lnTo>
                  <a:pt x="110853" y="1400"/>
                </a:lnTo>
                <a:close/>
              </a:path>
              <a:path fill="darkenLess" w="112253" h="21600">
                <a:moveTo>
                  <a:pt x="1122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0853" y="20200"/>
                </a:lnTo>
                <a:close/>
              </a:path>
              <a:path fill="lighten" w="1122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438280"/>
            <a:ext cx="4190760" cy="762120"/>
          </a:xfrm>
          <a:custGeom>
            <a:avLst/>
            <a:gdLst>
              <a:gd name="textAreaLeft" fmla="*/ 49320 w 4190760"/>
              <a:gd name="textAreaRight" fmla="*/ 4141440 w 41907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118729" h="21600">
                <a:moveTo>
                  <a:pt x="0" y="0"/>
                </a:moveTo>
                <a:lnTo>
                  <a:pt x="118729" y="0"/>
                </a:lnTo>
                <a:lnTo>
                  <a:pt x="118729" y="21600"/>
                </a:lnTo>
                <a:lnTo>
                  <a:pt x="0" y="21600"/>
                </a:lnTo>
                <a:close/>
              </a:path>
              <a:path fill="lightenLess" w="118729" h="21600">
                <a:moveTo>
                  <a:pt x="0" y="0"/>
                </a:moveTo>
                <a:lnTo>
                  <a:pt x="118729" y="0"/>
                </a:lnTo>
                <a:lnTo>
                  <a:pt x="117329" y="1400"/>
                </a:lnTo>
                <a:lnTo>
                  <a:pt x="1400" y="1400"/>
                </a:lnTo>
                <a:close/>
              </a:path>
              <a:path fill="darken" w="118729" h="21600">
                <a:moveTo>
                  <a:pt x="118729" y="0"/>
                </a:moveTo>
                <a:lnTo>
                  <a:pt x="118729" y="21600"/>
                </a:lnTo>
                <a:lnTo>
                  <a:pt x="117329" y="20200"/>
                </a:lnTo>
                <a:lnTo>
                  <a:pt x="117329" y="1400"/>
                </a:lnTo>
                <a:close/>
              </a:path>
              <a:path fill="darkenLess" w="118729" h="21600">
                <a:moveTo>
                  <a:pt x="11872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29" y="20200"/>
                </a:lnTo>
                <a:close/>
              </a:path>
              <a:path fill="lighten" w="11872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3962520"/>
            <a:ext cx="4191120" cy="761760"/>
          </a:xfrm>
          <a:custGeom>
            <a:avLst/>
            <a:gdLst>
              <a:gd name="textAreaLeft" fmla="*/ 49320 w 4191120"/>
              <a:gd name="textAreaRight" fmla="*/ 4141800 w 4191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18795" h="21600">
                <a:moveTo>
                  <a:pt x="0" y="0"/>
                </a:moveTo>
                <a:lnTo>
                  <a:pt x="118795" y="0"/>
                </a:lnTo>
                <a:lnTo>
                  <a:pt x="118795" y="21600"/>
                </a:lnTo>
                <a:lnTo>
                  <a:pt x="0" y="21600"/>
                </a:lnTo>
                <a:close/>
              </a:path>
              <a:path fill="lightenLess" w="118795" h="21600">
                <a:moveTo>
                  <a:pt x="0" y="0"/>
                </a:moveTo>
                <a:lnTo>
                  <a:pt x="118795" y="0"/>
                </a:lnTo>
                <a:lnTo>
                  <a:pt x="117395" y="1400"/>
                </a:lnTo>
                <a:lnTo>
                  <a:pt x="1400" y="1400"/>
                </a:lnTo>
                <a:close/>
              </a:path>
              <a:path fill="darken" w="118795" h="21600">
                <a:moveTo>
                  <a:pt x="118795" y="0"/>
                </a:moveTo>
                <a:lnTo>
                  <a:pt x="118795" y="21600"/>
                </a:lnTo>
                <a:lnTo>
                  <a:pt x="117395" y="20200"/>
                </a:lnTo>
                <a:lnTo>
                  <a:pt x="117395" y="1400"/>
                </a:lnTo>
                <a:close/>
              </a:path>
              <a:path fill="darkenLess" w="118795" h="21600">
                <a:moveTo>
                  <a:pt x="11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7395" y="20200"/>
                </a:lnTo>
                <a:close/>
              </a:path>
              <a:path fill="lighten" w="11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2362320"/>
            <a:ext cx="4267440" cy="761760"/>
          </a:xfrm>
          <a:custGeom>
            <a:avLst/>
            <a:gdLst>
              <a:gd name="textAreaLeft" fmla="*/ 49320 w 4267440"/>
              <a:gd name="textAreaRight" fmla="*/ 4218120 w 4267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20958" h="21600">
                <a:moveTo>
                  <a:pt x="0" y="0"/>
                </a:moveTo>
                <a:lnTo>
                  <a:pt x="120958" y="0"/>
                </a:lnTo>
                <a:lnTo>
                  <a:pt x="120958" y="21600"/>
                </a:lnTo>
                <a:lnTo>
                  <a:pt x="0" y="21600"/>
                </a:lnTo>
                <a:close/>
              </a:path>
              <a:path fill="lightenLess" w="120958" h="21600">
                <a:moveTo>
                  <a:pt x="0" y="0"/>
                </a:moveTo>
                <a:lnTo>
                  <a:pt x="120958" y="0"/>
                </a:lnTo>
                <a:lnTo>
                  <a:pt x="119558" y="1400"/>
                </a:lnTo>
                <a:lnTo>
                  <a:pt x="1400" y="1400"/>
                </a:lnTo>
                <a:close/>
              </a:path>
              <a:path fill="darken" w="120958" h="21600">
                <a:moveTo>
                  <a:pt x="120958" y="0"/>
                </a:moveTo>
                <a:lnTo>
                  <a:pt x="120958" y="21600"/>
                </a:lnTo>
                <a:lnTo>
                  <a:pt x="119558" y="20200"/>
                </a:lnTo>
                <a:lnTo>
                  <a:pt x="119558" y="1400"/>
                </a:lnTo>
                <a:close/>
              </a:path>
              <a:path fill="darkenLess" w="120958" h="21600">
                <a:moveTo>
                  <a:pt x="12095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9558" y="20200"/>
                </a:lnTo>
                <a:close/>
              </a:path>
              <a:path fill="lighten" w="12095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Sorry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228240" y="3886200"/>
            <a:ext cx="84582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That was the wrong answer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4" name="">
            <a:hlinkClick r:id="" action="ppaction://hlinkshowjump?jump=previous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Arial"/>
              </a:rPr>
              <a:t>Correct !</a:t>
            </a:r>
            <a:endParaRPr b="0" lang="en-US" sz="5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9ccff"/>
                </a:solidFill>
                <a:latin typeface="Arial"/>
              </a:rPr>
              <a:t>Congratulations</a:t>
            </a:r>
            <a:endParaRPr b="0" lang="en-US" sz="4800" spc="-1" strike="noStrike">
              <a:solidFill>
                <a:srgbClr val="99ccff"/>
              </a:solidFill>
              <a:latin typeface="Arial"/>
            </a:endParaRPr>
          </a:p>
        </p:txBody>
      </p:sp>
      <p:sp>
        <p:nvSpPr>
          <p:cNvPr id="187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9T19:50:36Z</dcterms:created>
  <dc:creator>Wendy Russell</dc:creator>
  <dc:description/>
  <dc:language>en-US</dc:language>
  <cp:lastModifiedBy>NIE</cp:lastModifiedBy>
  <dcterms:modified xsi:type="dcterms:W3CDTF">2010-01-20T07:39:52Z</dcterms:modified>
  <cp:revision>12</cp:revision>
  <dc:subject/>
  <dc:title>Multple Choice Quiz Template</dc:title>
</cp:coreProperties>
</file>