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947-7547-4D14-AB16-A6767CF1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10A-3BE5-47E2-B3DC-432773D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9D0-4438-40AA-B3E1-AA5CD802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91E-314F-4E1F-A52F-CF9502B0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C8CB-AA44-455D-A634-A1FF84B8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4995-4E0C-41A4-ABB3-EBA1AFCD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D3DC-08D5-4200-96E8-9C82E088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C803-D8C9-4220-AB75-134A6B34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8A27-7377-4768-AEFA-CA0BF788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F067-18B3-49E0-A7BA-6F980B3C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171E-3D05-4BEE-AA38-AF41782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CD5-A33D-4315-8C68-ABC7A10E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B129-778C-4838-A25D-38D7604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5EEB-9FF9-4696-B69B-3E3B480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1FDB-F9A5-4A53-ACAA-C3972DC4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02D0-B36B-4E51-AC3B-78493E42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970E-AABF-4484-A2D6-50B56EB6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35E-BBBD-49A2-8353-EB44F406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B9E-ADD0-4364-90BC-9E31B422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921-13DB-4CEE-B4BF-917262F0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A5F-AA11-4CDC-89E6-5CD9B8D7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B1E-797C-4239-A94C-F3ED7916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B30-64B2-4431-98A1-20C0441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ADC-0131-4368-8C70-D6CB4E90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3111-B4EF-43D4-BE10-8AE7A1832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078-A053-4A7F-8E83-35C36A2CAE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  <a:p>
            <a:pPr lvl="1" marL="4388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  <a:p>
            <a:pPr lvl="2" marL="87768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lvl="3" marL="1316520" algn="ctr"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4" marL="175536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5" marL="175536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6" marL="175536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ere is the locatio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81080" y="2895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 – NUS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B – NTU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 – NIE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 – My house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1905120" y="2971800"/>
            <a:ext cx="4495680" cy="685800"/>
          </a:xfrm>
          <a:custGeom>
            <a:avLst/>
            <a:gdLst>
              <a:gd name="textAreaLeft" fmla="*/ 44280 w 4495680"/>
              <a:gd name="textAreaRight" fmla="*/ 4451400 w 4495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1533" h="21600">
                <a:moveTo>
                  <a:pt x="0" y="0"/>
                </a:moveTo>
                <a:lnTo>
                  <a:pt x="141533" y="0"/>
                </a:lnTo>
                <a:lnTo>
                  <a:pt x="141533" y="21600"/>
                </a:lnTo>
                <a:lnTo>
                  <a:pt x="0" y="21600"/>
                </a:lnTo>
                <a:close/>
              </a:path>
              <a:path fill="lightenLess" w="141533" h="21600">
                <a:moveTo>
                  <a:pt x="0" y="0"/>
                </a:moveTo>
                <a:lnTo>
                  <a:pt x="141533" y="0"/>
                </a:lnTo>
                <a:lnTo>
                  <a:pt x="140133" y="1400"/>
                </a:lnTo>
                <a:lnTo>
                  <a:pt x="1400" y="1400"/>
                </a:lnTo>
                <a:close/>
              </a:path>
              <a:path fill="darken" w="141533" h="21600">
                <a:moveTo>
                  <a:pt x="141533" y="0"/>
                </a:moveTo>
                <a:lnTo>
                  <a:pt x="141533" y="21600"/>
                </a:lnTo>
                <a:lnTo>
                  <a:pt x="140133" y="20200"/>
                </a:lnTo>
                <a:lnTo>
                  <a:pt x="140133" y="1400"/>
                </a:lnTo>
                <a:close/>
              </a:path>
              <a:path fill="darkenLess" w="141533" h="21600">
                <a:moveTo>
                  <a:pt x="141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133" y="20200"/>
                </a:lnTo>
                <a:close/>
              </a:path>
              <a:path fill="lighten" w="141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6" action="ppaction://hlinksldjump"/>
          </p:cNvPr>
          <p:cNvSpPr/>
          <p:nvPr/>
        </p:nvSpPr>
        <p:spPr>
          <a:xfrm>
            <a:off x="1981080" y="3733920"/>
            <a:ext cx="4496040" cy="685800"/>
          </a:xfrm>
          <a:custGeom>
            <a:avLst/>
            <a:gdLst>
              <a:gd name="textAreaLeft" fmla="*/ 44280 w 4496040"/>
              <a:gd name="textAreaRight" fmla="*/ 4451760 w 4496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1545" h="21600">
                <a:moveTo>
                  <a:pt x="0" y="0"/>
                </a:moveTo>
                <a:lnTo>
                  <a:pt x="141545" y="0"/>
                </a:lnTo>
                <a:lnTo>
                  <a:pt x="141545" y="21600"/>
                </a:lnTo>
                <a:lnTo>
                  <a:pt x="0" y="21600"/>
                </a:lnTo>
                <a:close/>
              </a:path>
              <a:path fill="lightenLess" w="141545" h="21600">
                <a:moveTo>
                  <a:pt x="0" y="0"/>
                </a:moveTo>
                <a:lnTo>
                  <a:pt x="141545" y="0"/>
                </a:lnTo>
                <a:lnTo>
                  <a:pt x="140145" y="1400"/>
                </a:lnTo>
                <a:lnTo>
                  <a:pt x="1400" y="1400"/>
                </a:lnTo>
                <a:close/>
              </a:path>
              <a:path fill="darken" w="141545" h="21600">
                <a:moveTo>
                  <a:pt x="141545" y="0"/>
                </a:moveTo>
                <a:lnTo>
                  <a:pt x="141545" y="21600"/>
                </a:lnTo>
                <a:lnTo>
                  <a:pt x="140145" y="20200"/>
                </a:lnTo>
                <a:lnTo>
                  <a:pt x="140145" y="1400"/>
                </a:lnTo>
                <a:close/>
              </a:path>
              <a:path fill="darkenLess" w="141545" h="21600">
                <a:moveTo>
                  <a:pt x="141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145" y="20200"/>
                </a:lnTo>
                <a:close/>
              </a:path>
              <a:path fill="lighten" w="141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7" action="ppaction://hlinksldjump"/>
          </p:cNvPr>
          <p:cNvSpPr/>
          <p:nvPr/>
        </p:nvSpPr>
        <p:spPr>
          <a:xfrm>
            <a:off x="1981080" y="4572000"/>
            <a:ext cx="5029200" cy="685800"/>
          </a:xfrm>
          <a:custGeom>
            <a:avLst/>
            <a:gdLst>
              <a:gd name="textAreaLeft" fmla="*/ 44280 w 5029200"/>
              <a:gd name="textAreaRight" fmla="*/ 4984920 w 5029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58328" h="21600">
                <a:moveTo>
                  <a:pt x="0" y="0"/>
                </a:moveTo>
                <a:lnTo>
                  <a:pt x="158328" y="0"/>
                </a:lnTo>
                <a:lnTo>
                  <a:pt x="158328" y="21600"/>
                </a:lnTo>
                <a:lnTo>
                  <a:pt x="0" y="21600"/>
                </a:lnTo>
                <a:close/>
              </a:path>
              <a:path fill="lightenLess" w="158328" h="21600">
                <a:moveTo>
                  <a:pt x="0" y="0"/>
                </a:moveTo>
                <a:lnTo>
                  <a:pt x="158328" y="0"/>
                </a:lnTo>
                <a:lnTo>
                  <a:pt x="156928" y="1400"/>
                </a:lnTo>
                <a:lnTo>
                  <a:pt x="1400" y="1400"/>
                </a:lnTo>
                <a:close/>
              </a:path>
              <a:path fill="darken" w="158328" h="21600">
                <a:moveTo>
                  <a:pt x="158328" y="0"/>
                </a:moveTo>
                <a:lnTo>
                  <a:pt x="158328" y="21600"/>
                </a:lnTo>
                <a:lnTo>
                  <a:pt x="156928" y="20200"/>
                </a:lnTo>
                <a:lnTo>
                  <a:pt x="156928" y="1400"/>
                </a:lnTo>
                <a:close/>
              </a:path>
              <a:path fill="darkenLess" w="158328" h="21600">
                <a:moveTo>
                  <a:pt x="158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28" y="20200"/>
                </a:lnTo>
                <a:close/>
              </a:path>
              <a:path fill="lighten" w="158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981080" y="5410080"/>
            <a:ext cx="5715000" cy="685800"/>
          </a:xfrm>
          <a:custGeom>
            <a:avLst/>
            <a:gdLst>
              <a:gd name="textAreaLeft" fmla="*/ 44280 w 5715000"/>
              <a:gd name="textAreaRight" fmla="*/ 5670720 w 5715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9917" h="21600">
                <a:moveTo>
                  <a:pt x="0" y="0"/>
                </a:moveTo>
                <a:lnTo>
                  <a:pt x="179917" y="0"/>
                </a:lnTo>
                <a:lnTo>
                  <a:pt x="179917" y="21600"/>
                </a:lnTo>
                <a:lnTo>
                  <a:pt x="0" y="21600"/>
                </a:lnTo>
                <a:close/>
              </a:path>
              <a:path fill="lightenLess" w="179917" h="21600">
                <a:moveTo>
                  <a:pt x="0" y="0"/>
                </a:moveTo>
                <a:lnTo>
                  <a:pt x="179917" y="0"/>
                </a:lnTo>
                <a:lnTo>
                  <a:pt x="178517" y="1400"/>
                </a:lnTo>
                <a:lnTo>
                  <a:pt x="1400" y="1400"/>
                </a:lnTo>
                <a:close/>
              </a:path>
              <a:path fill="darken" w="179917" h="21600">
                <a:moveTo>
                  <a:pt x="179917" y="0"/>
                </a:moveTo>
                <a:lnTo>
                  <a:pt x="179917" y="21600"/>
                </a:lnTo>
                <a:lnTo>
                  <a:pt x="178517" y="20200"/>
                </a:lnTo>
                <a:lnTo>
                  <a:pt x="178517" y="1400"/>
                </a:lnTo>
                <a:close/>
              </a:path>
              <a:path fill="darkenLess" w="179917" h="21600">
                <a:moveTo>
                  <a:pt x="179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517" y="20200"/>
                </a:lnTo>
                <a:close/>
              </a:path>
              <a:path fill="lighten" w="179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hat application is taught?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 – Excel 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B – PPT,Hot potatoes, CMap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 – World of warcraf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 – Counterstrike 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800600"/>
            <a:ext cx="4191120" cy="76212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39" h="21600">
                <a:moveTo>
                  <a:pt x="0" y="0"/>
                </a:moveTo>
                <a:lnTo>
                  <a:pt x="118739" y="0"/>
                </a:lnTo>
                <a:lnTo>
                  <a:pt x="118739" y="21600"/>
                </a:lnTo>
                <a:lnTo>
                  <a:pt x="0" y="21600"/>
                </a:lnTo>
                <a:close/>
              </a:path>
              <a:path fill="lightenLess" w="118739" h="21600">
                <a:moveTo>
                  <a:pt x="0" y="0"/>
                </a:moveTo>
                <a:lnTo>
                  <a:pt x="118739" y="0"/>
                </a:lnTo>
                <a:lnTo>
                  <a:pt x="117339" y="1400"/>
                </a:lnTo>
                <a:lnTo>
                  <a:pt x="1400" y="1400"/>
                </a:lnTo>
                <a:close/>
              </a:path>
              <a:path fill="darken" w="118739" h="21600">
                <a:moveTo>
                  <a:pt x="118739" y="0"/>
                </a:moveTo>
                <a:lnTo>
                  <a:pt x="118739" y="21600"/>
                </a:lnTo>
                <a:lnTo>
                  <a:pt x="117339" y="20200"/>
                </a:lnTo>
                <a:lnTo>
                  <a:pt x="117339" y="1400"/>
                </a:lnTo>
                <a:close/>
              </a:path>
              <a:path fill="darkenLess" w="118739" h="21600">
                <a:moveTo>
                  <a:pt x="118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9" y="20200"/>
                </a:lnTo>
                <a:close/>
              </a:path>
              <a:path fill="lighten" w="118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12408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533520" y="4800600"/>
            <a:ext cx="3962160" cy="762120"/>
          </a:xfrm>
          <a:custGeom>
            <a:avLst/>
            <a:gdLst>
              <a:gd name="textAreaLeft" fmla="*/ 49320 w 3962160"/>
              <a:gd name="textAreaRight" fmla="*/ 3912840 w 39621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2253" h="21600">
                <a:moveTo>
                  <a:pt x="0" y="0"/>
                </a:moveTo>
                <a:lnTo>
                  <a:pt x="112253" y="0"/>
                </a:lnTo>
                <a:lnTo>
                  <a:pt x="112253" y="21600"/>
                </a:lnTo>
                <a:lnTo>
                  <a:pt x="0" y="21600"/>
                </a:lnTo>
                <a:close/>
              </a:path>
              <a:path fill="lightenLess" w="112253" h="21600">
                <a:moveTo>
                  <a:pt x="0" y="0"/>
                </a:moveTo>
                <a:lnTo>
                  <a:pt x="112253" y="0"/>
                </a:lnTo>
                <a:lnTo>
                  <a:pt x="110853" y="1400"/>
                </a:lnTo>
                <a:lnTo>
                  <a:pt x="1400" y="1400"/>
                </a:lnTo>
                <a:close/>
              </a:path>
              <a:path fill="darken" w="112253" h="21600">
                <a:moveTo>
                  <a:pt x="112253" y="0"/>
                </a:moveTo>
                <a:lnTo>
                  <a:pt x="112253" y="21600"/>
                </a:lnTo>
                <a:lnTo>
                  <a:pt x="110853" y="20200"/>
                </a:lnTo>
                <a:lnTo>
                  <a:pt x="110853" y="1400"/>
                </a:lnTo>
                <a:close/>
              </a:path>
              <a:path fill="darkenLess" w="112253" h="21600">
                <a:moveTo>
                  <a:pt x="112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53" y="20200"/>
                </a:lnTo>
                <a:close/>
              </a:path>
              <a:path fill="lighten" w="112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438280"/>
            <a:ext cx="4190760" cy="762120"/>
          </a:xfrm>
          <a:custGeom>
            <a:avLst/>
            <a:gdLst>
              <a:gd name="textAreaLeft" fmla="*/ 49320 w 4190760"/>
              <a:gd name="textAreaRight" fmla="*/ 4141440 w 4190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29" h="21600">
                <a:moveTo>
                  <a:pt x="0" y="0"/>
                </a:moveTo>
                <a:lnTo>
                  <a:pt x="118729" y="0"/>
                </a:lnTo>
                <a:lnTo>
                  <a:pt x="118729" y="21600"/>
                </a:lnTo>
                <a:lnTo>
                  <a:pt x="0" y="21600"/>
                </a:lnTo>
                <a:close/>
              </a:path>
              <a:path fill="lightenLess" w="118729" h="21600">
                <a:moveTo>
                  <a:pt x="0" y="0"/>
                </a:moveTo>
                <a:lnTo>
                  <a:pt x="118729" y="0"/>
                </a:lnTo>
                <a:lnTo>
                  <a:pt x="117329" y="1400"/>
                </a:lnTo>
                <a:lnTo>
                  <a:pt x="1400" y="1400"/>
                </a:lnTo>
                <a:close/>
              </a:path>
              <a:path fill="darken" w="118729" h="21600">
                <a:moveTo>
                  <a:pt x="118729" y="0"/>
                </a:moveTo>
                <a:lnTo>
                  <a:pt x="118729" y="21600"/>
                </a:lnTo>
                <a:lnTo>
                  <a:pt x="117329" y="20200"/>
                </a:lnTo>
                <a:lnTo>
                  <a:pt x="117329" y="1400"/>
                </a:lnTo>
                <a:close/>
              </a:path>
              <a:path fill="darkenLess" w="118729" h="21600">
                <a:moveTo>
                  <a:pt x="118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29" y="20200"/>
                </a:lnTo>
                <a:close/>
              </a:path>
              <a:path fill="lighten" w="118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962520"/>
            <a:ext cx="4191120" cy="76176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8795" h="21600">
                <a:moveTo>
                  <a:pt x="0" y="0"/>
                </a:moveTo>
                <a:lnTo>
                  <a:pt x="118795" y="0"/>
                </a:lnTo>
                <a:lnTo>
                  <a:pt x="118795" y="21600"/>
                </a:lnTo>
                <a:lnTo>
                  <a:pt x="0" y="21600"/>
                </a:lnTo>
                <a:close/>
              </a:path>
              <a:path fill="lightenLess" w="118795" h="21600">
                <a:moveTo>
                  <a:pt x="0" y="0"/>
                </a:moveTo>
                <a:lnTo>
                  <a:pt x="118795" y="0"/>
                </a:lnTo>
                <a:lnTo>
                  <a:pt x="117395" y="1400"/>
                </a:lnTo>
                <a:lnTo>
                  <a:pt x="1400" y="1400"/>
                </a:lnTo>
                <a:close/>
              </a:path>
              <a:path fill="darken" w="118795" h="21600">
                <a:moveTo>
                  <a:pt x="118795" y="0"/>
                </a:moveTo>
                <a:lnTo>
                  <a:pt x="118795" y="21600"/>
                </a:lnTo>
                <a:lnTo>
                  <a:pt x="117395" y="20200"/>
                </a:lnTo>
                <a:lnTo>
                  <a:pt x="117395" y="1400"/>
                </a:lnTo>
                <a:close/>
              </a:path>
              <a:path fill="darkenLess" w="118795" h="21600">
                <a:moveTo>
                  <a:pt x="11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95" y="20200"/>
                </a:lnTo>
                <a:close/>
              </a:path>
              <a:path fill="lighten" w="11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362320"/>
            <a:ext cx="4267440" cy="76176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20958" h="21600">
                <a:moveTo>
                  <a:pt x="0" y="0"/>
                </a:moveTo>
                <a:lnTo>
                  <a:pt x="120958" y="0"/>
                </a:lnTo>
                <a:lnTo>
                  <a:pt x="120958" y="21600"/>
                </a:lnTo>
                <a:lnTo>
                  <a:pt x="0" y="21600"/>
                </a:lnTo>
                <a:close/>
              </a:path>
              <a:path fill="lightenLess" w="120958" h="21600">
                <a:moveTo>
                  <a:pt x="0" y="0"/>
                </a:moveTo>
                <a:lnTo>
                  <a:pt x="120958" y="0"/>
                </a:lnTo>
                <a:lnTo>
                  <a:pt x="119558" y="1400"/>
                </a:lnTo>
                <a:lnTo>
                  <a:pt x="1400" y="1400"/>
                </a:lnTo>
                <a:close/>
              </a:path>
              <a:path fill="darken" w="120958" h="21600">
                <a:moveTo>
                  <a:pt x="120958" y="0"/>
                </a:moveTo>
                <a:lnTo>
                  <a:pt x="120958" y="21600"/>
                </a:lnTo>
                <a:lnTo>
                  <a:pt x="119558" y="20200"/>
                </a:lnTo>
                <a:lnTo>
                  <a:pt x="119558" y="1400"/>
                </a:lnTo>
                <a:close/>
              </a:path>
              <a:path fill="darkenLess" w="120958" h="21600">
                <a:moveTo>
                  <a:pt x="120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58" y="20200"/>
                </a:lnTo>
                <a:close/>
              </a:path>
              <a:path fill="lighten" w="120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Wendy Russell</dc:creator>
  <dc:description/>
  <dc:language>en-US</dc:language>
  <cp:lastModifiedBy>NIE</cp:lastModifiedBy>
  <dcterms:modified xsi:type="dcterms:W3CDTF">2010-01-20T07:39:52Z</dcterms:modified>
  <cp:revision>12</cp:revision>
  <dc:subject/>
  <dc:title>Multple Choice Quiz Template</dc:title>
</cp:coreProperties>
</file>