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AFD-563E-4636-AB8B-43DBD0F7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713-B9E3-4BE7-8D11-9ECFB8B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C7F-3118-4B96-B1A5-B160D855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48E-B280-4D08-9D15-ADF3B75E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7B7F-54A8-4738-A063-0B69EE33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DCD1-123A-436A-A6E1-823245F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4C47-7A45-4574-AFD4-10D53DC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E93-84D9-41A0-A801-C9088F7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6952-1194-4D6A-A189-32177F8B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8B3B-0110-4745-809D-8158E1A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B8A2-2E7D-4E95-ABEF-35F18AB5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08A-1A2C-4435-8F20-6D03729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5347-F27F-46A6-8A6C-ABD2D455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080-92AC-4A54-9328-26720355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924-A842-4287-AFB2-10227B1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1C0C-E77D-4AE7-B1D1-03D1295A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5FA-82E7-4B72-B58D-619FE417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59-DD32-4B42-9B30-9A98D9D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2EE-5781-43E9-8E03-5B8578A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2FB-3DD5-43AB-8B58-4623D6E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7A9-946F-483C-A044-14BEA58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DE6-170C-41F2-8544-583CCE7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838-5688-462B-84D9-12246D55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CC4-AAAA-450A-BC87-36BEE3E8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F421-A93B-404C-BD43-25CE3ABFE9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304-95EC-458F-801B-C550D5913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  <a:p>
            <a:pPr lvl="1" marL="4388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  <a:p>
            <a:pPr lvl="2" marL="87768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3" marL="1316520" algn="ctr"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4" marL="175536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5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6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is the locati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1080" y="2895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NU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NTU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NI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My hous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1905120" y="2971800"/>
            <a:ext cx="4495680" cy="685800"/>
          </a:xfrm>
          <a:custGeom>
            <a:avLst/>
            <a:gdLst>
              <a:gd name="textAreaLeft" fmla="*/ 44280 w 4495680"/>
              <a:gd name="textAreaRight" fmla="*/ 4451400 w 4495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33" h="21600">
                <a:moveTo>
                  <a:pt x="0" y="0"/>
                </a:moveTo>
                <a:lnTo>
                  <a:pt x="141533" y="0"/>
                </a:lnTo>
                <a:lnTo>
                  <a:pt x="141533" y="21600"/>
                </a:lnTo>
                <a:lnTo>
                  <a:pt x="0" y="21600"/>
                </a:lnTo>
                <a:close/>
              </a:path>
              <a:path fill="lightenLess" w="141533" h="21600">
                <a:moveTo>
                  <a:pt x="0" y="0"/>
                </a:moveTo>
                <a:lnTo>
                  <a:pt x="141533" y="0"/>
                </a:lnTo>
                <a:lnTo>
                  <a:pt x="140133" y="1400"/>
                </a:lnTo>
                <a:lnTo>
                  <a:pt x="1400" y="1400"/>
                </a:lnTo>
                <a:close/>
              </a:path>
              <a:path fill="darken" w="141533" h="21600">
                <a:moveTo>
                  <a:pt x="141533" y="0"/>
                </a:moveTo>
                <a:lnTo>
                  <a:pt x="141533" y="21600"/>
                </a:lnTo>
                <a:lnTo>
                  <a:pt x="140133" y="20200"/>
                </a:lnTo>
                <a:lnTo>
                  <a:pt x="140133" y="1400"/>
                </a:lnTo>
                <a:close/>
              </a:path>
              <a:path fill="darkenLess" w="141533" h="21600">
                <a:moveTo>
                  <a:pt x="141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33" y="20200"/>
                </a:lnTo>
                <a:close/>
              </a:path>
              <a:path fill="lighten" w="141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1981080" y="3733920"/>
            <a:ext cx="4496040" cy="685800"/>
          </a:xfrm>
          <a:custGeom>
            <a:avLst/>
            <a:gdLst>
              <a:gd name="textAreaLeft" fmla="*/ 44280 w 4496040"/>
              <a:gd name="textAreaRight" fmla="*/ 4451760 w 4496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45" h="21600">
                <a:moveTo>
                  <a:pt x="0" y="0"/>
                </a:moveTo>
                <a:lnTo>
                  <a:pt x="141545" y="0"/>
                </a:lnTo>
                <a:lnTo>
                  <a:pt x="141545" y="21600"/>
                </a:lnTo>
                <a:lnTo>
                  <a:pt x="0" y="21600"/>
                </a:lnTo>
                <a:close/>
              </a:path>
              <a:path fill="lightenLess" w="141545" h="21600">
                <a:moveTo>
                  <a:pt x="0" y="0"/>
                </a:moveTo>
                <a:lnTo>
                  <a:pt x="141545" y="0"/>
                </a:lnTo>
                <a:lnTo>
                  <a:pt x="140145" y="1400"/>
                </a:lnTo>
                <a:lnTo>
                  <a:pt x="1400" y="1400"/>
                </a:lnTo>
                <a:close/>
              </a:path>
              <a:path fill="darken" w="141545" h="21600">
                <a:moveTo>
                  <a:pt x="141545" y="0"/>
                </a:moveTo>
                <a:lnTo>
                  <a:pt x="141545" y="21600"/>
                </a:lnTo>
                <a:lnTo>
                  <a:pt x="140145" y="20200"/>
                </a:lnTo>
                <a:lnTo>
                  <a:pt x="140145" y="1400"/>
                </a:lnTo>
                <a:close/>
              </a:path>
              <a:path fill="darkenLess" w="141545" h="21600">
                <a:moveTo>
                  <a:pt x="141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45" y="20200"/>
                </a:lnTo>
                <a:close/>
              </a:path>
              <a:path fill="lighten" w="141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1981080" y="45720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981080" y="5410080"/>
            <a:ext cx="5715000" cy="685800"/>
          </a:xfrm>
          <a:custGeom>
            <a:avLst/>
            <a:gdLst>
              <a:gd name="textAreaLeft" fmla="*/ 44280 w 5715000"/>
              <a:gd name="textAreaRight" fmla="*/ 5670720 w 5715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9917" h="21600">
                <a:moveTo>
                  <a:pt x="0" y="0"/>
                </a:moveTo>
                <a:lnTo>
                  <a:pt x="179917" y="0"/>
                </a:lnTo>
                <a:lnTo>
                  <a:pt x="179917" y="21600"/>
                </a:lnTo>
                <a:lnTo>
                  <a:pt x="0" y="21600"/>
                </a:lnTo>
                <a:close/>
              </a:path>
              <a:path fill="lightenLess" w="179917" h="21600">
                <a:moveTo>
                  <a:pt x="0" y="0"/>
                </a:moveTo>
                <a:lnTo>
                  <a:pt x="179917" y="0"/>
                </a:lnTo>
                <a:lnTo>
                  <a:pt x="178517" y="1400"/>
                </a:lnTo>
                <a:lnTo>
                  <a:pt x="1400" y="1400"/>
                </a:lnTo>
                <a:close/>
              </a:path>
              <a:path fill="darken" w="179917" h="21600">
                <a:moveTo>
                  <a:pt x="179917" y="0"/>
                </a:moveTo>
                <a:lnTo>
                  <a:pt x="179917" y="21600"/>
                </a:lnTo>
                <a:lnTo>
                  <a:pt x="178517" y="20200"/>
                </a:lnTo>
                <a:lnTo>
                  <a:pt x="178517" y="1400"/>
                </a:lnTo>
                <a:close/>
              </a:path>
              <a:path fill="darkenLess" w="179917" h="21600">
                <a:moveTo>
                  <a:pt x="17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517" y="20200"/>
                </a:lnTo>
                <a:close/>
              </a:path>
              <a:path fill="lighten" w="17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hat application is taught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Excel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PPT,Hot potatoes, CMap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World of warcraf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Counterstrike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800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1240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533520" y="4800600"/>
            <a:ext cx="3962160" cy="762120"/>
          </a:xfrm>
          <a:custGeom>
            <a:avLst/>
            <a:gdLst>
              <a:gd name="textAreaLeft" fmla="*/ 49320 w 3962160"/>
              <a:gd name="textAreaRight" fmla="*/ 3912840 w 3962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2253" h="21600">
                <a:moveTo>
                  <a:pt x="0" y="0"/>
                </a:moveTo>
                <a:lnTo>
                  <a:pt x="112253" y="0"/>
                </a:lnTo>
                <a:lnTo>
                  <a:pt x="112253" y="21600"/>
                </a:lnTo>
                <a:lnTo>
                  <a:pt x="0" y="21600"/>
                </a:lnTo>
                <a:close/>
              </a:path>
              <a:path fill="lightenLess" w="112253" h="21600">
                <a:moveTo>
                  <a:pt x="0" y="0"/>
                </a:moveTo>
                <a:lnTo>
                  <a:pt x="112253" y="0"/>
                </a:lnTo>
                <a:lnTo>
                  <a:pt x="110853" y="1400"/>
                </a:lnTo>
                <a:lnTo>
                  <a:pt x="1400" y="1400"/>
                </a:lnTo>
                <a:close/>
              </a:path>
              <a:path fill="darken" w="112253" h="21600">
                <a:moveTo>
                  <a:pt x="112253" y="0"/>
                </a:moveTo>
                <a:lnTo>
                  <a:pt x="112253" y="21600"/>
                </a:lnTo>
                <a:lnTo>
                  <a:pt x="110853" y="20200"/>
                </a:lnTo>
                <a:lnTo>
                  <a:pt x="110853" y="1400"/>
                </a:lnTo>
                <a:close/>
              </a:path>
              <a:path fill="darkenLess" w="112253" h="21600">
                <a:moveTo>
                  <a:pt x="112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3" y="20200"/>
                </a:lnTo>
                <a:close/>
              </a:path>
              <a:path fill="lighten" w="112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438280"/>
            <a:ext cx="4190760" cy="762120"/>
          </a:xfrm>
          <a:custGeom>
            <a:avLst/>
            <a:gdLst>
              <a:gd name="textAreaLeft" fmla="*/ 49320 w 4190760"/>
              <a:gd name="textAreaRight" fmla="*/ 4141440 w 4190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29" h="21600">
                <a:moveTo>
                  <a:pt x="0" y="0"/>
                </a:moveTo>
                <a:lnTo>
                  <a:pt x="118729" y="0"/>
                </a:lnTo>
                <a:lnTo>
                  <a:pt x="118729" y="21600"/>
                </a:lnTo>
                <a:lnTo>
                  <a:pt x="0" y="21600"/>
                </a:lnTo>
                <a:close/>
              </a:path>
              <a:path fill="lightenLess" w="118729" h="21600">
                <a:moveTo>
                  <a:pt x="0" y="0"/>
                </a:moveTo>
                <a:lnTo>
                  <a:pt x="118729" y="0"/>
                </a:lnTo>
                <a:lnTo>
                  <a:pt x="117329" y="1400"/>
                </a:lnTo>
                <a:lnTo>
                  <a:pt x="1400" y="1400"/>
                </a:lnTo>
                <a:close/>
              </a:path>
              <a:path fill="darken" w="118729" h="21600">
                <a:moveTo>
                  <a:pt x="118729" y="0"/>
                </a:moveTo>
                <a:lnTo>
                  <a:pt x="118729" y="21600"/>
                </a:lnTo>
                <a:lnTo>
                  <a:pt x="117329" y="20200"/>
                </a:lnTo>
                <a:lnTo>
                  <a:pt x="117329" y="1400"/>
                </a:lnTo>
                <a:close/>
              </a:path>
              <a:path fill="darkenLess" w="118729" h="21600">
                <a:moveTo>
                  <a:pt x="118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29" y="20200"/>
                </a:lnTo>
                <a:close/>
              </a:path>
              <a:path fill="lighten" w="118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962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362320"/>
            <a:ext cx="4267440" cy="76176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20958" h="21600">
                <a:moveTo>
                  <a:pt x="0" y="0"/>
                </a:moveTo>
                <a:lnTo>
                  <a:pt x="120958" y="0"/>
                </a:lnTo>
                <a:lnTo>
                  <a:pt x="120958" y="21600"/>
                </a:lnTo>
                <a:lnTo>
                  <a:pt x="0" y="21600"/>
                </a:lnTo>
                <a:close/>
              </a:path>
              <a:path fill="lightenLess" w="120958" h="21600">
                <a:moveTo>
                  <a:pt x="0" y="0"/>
                </a:moveTo>
                <a:lnTo>
                  <a:pt x="120958" y="0"/>
                </a:lnTo>
                <a:lnTo>
                  <a:pt x="119558" y="1400"/>
                </a:lnTo>
                <a:lnTo>
                  <a:pt x="1400" y="1400"/>
                </a:lnTo>
                <a:close/>
              </a:path>
              <a:path fill="darken" w="120958" h="21600">
                <a:moveTo>
                  <a:pt x="120958" y="0"/>
                </a:moveTo>
                <a:lnTo>
                  <a:pt x="120958" y="21600"/>
                </a:lnTo>
                <a:lnTo>
                  <a:pt x="119558" y="20200"/>
                </a:lnTo>
                <a:lnTo>
                  <a:pt x="119558" y="1400"/>
                </a:lnTo>
                <a:close/>
              </a:path>
              <a:path fill="darkenLess" w="120958" h="21600">
                <a:moveTo>
                  <a:pt x="12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58" y="20200"/>
                </a:lnTo>
                <a:close/>
              </a:path>
              <a:path fill="lighten" w="12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Wendy Russell</dc:creator>
  <dc:description/>
  <dc:language>en-US</dc:language>
  <cp:lastModifiedBy>NIE</cp:lastModifiedBy>
  <dcterms:modified xsi:type="dcterms:W3CDTF">2010-01-20T07:39:52Z</dcterms:modified>
  <cp:revision>12</cp:revision>
  <dc:subject/>
  <dc:title>Multple Choice Quiz Template</dc:title>
</cp:coreProperties>
</file>