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slide" Target=""/><Relationship Id="rId5" Type="http://schemas.openxmlformats.org/officeDocument/2006/relationships/hyperlink" Target="file:///tmp/home/.config/libreoffice/4/user/gallery/breez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61722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7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723888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12593"/>
                </a:moveTo>
                <a:lnTo>
                  <a:pt x="17806" y="5586"/>
                </a:lnTo>
                <a:lnTo>
                  <a:pt x="17806" y="195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4" action="ppaction://hlinksldjump"/>
          </p:cNvPr>
          <p:cNvSpPr/>
          <p:nvPr/>
        </p:nvSpPr>
        <p:spPr>
          <a:xfrm>
            <a:off x="67057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nextslide"/>
            <a:hlinkClick r:id="rId5"/>
          </p:cNvPr>
          <p:cNvSpPr/>
          <p:nvPr/>
        </p:nvSpPr>
        <p:spPr>
          <a:xfrm>
            <a:off x="769608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5586"/>
                </a:moveTo>
                <a:lnTo>
                  <a:pt x="17806" y="12593"/>
                </a:lnTo>
                <a:lnTo>
                  <a:pt x="3794" y="195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lastslide"/>
            <a:hlinkClick r:id="rId6"/>
          </p:cNvPr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4306" y="10800"/>
                </a:moveTo>
                <a:lnTo>
                  <a:pt x="3801" y="17806"/>
                </a:lnTo>
                <a:lnTo>
                  <a:pt x="3801" y="3794"/>
                </a:lnTo>
                <a:close/>
              </a:path>
              <a:path fill="darken" w="21615" h="21600">
                <a:moveTo>
                  <a:pt x="16151" y="3794"/>
                </a:moveTo>
                <a:lnTo>
                  <a:pt x="16151" y="17806"/>
                </a:lnTo>
                <a:lnTo>
                  <a:pt x="17814" y="17806"/>
                </a:lnTo>
                <a:lnTo>
                  <a:pt x="1781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1219320" y="838080"/>
            <a:ext cx="655308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2.singaporegp.sg/sgp_admin/Uploaded/Photo_Gallery/A4/large_dmk1125se18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8600" y="2209680"/>
            <a:ext cx="900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VIEW 2011 FORMULA 1 SING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INGAPORE GRAND PR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9680" y="3897360"/>
            <a:ext cx="535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2011 Photo Gall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 Entertainment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collision between Hamilton and M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0"/>
            <a:ext cx="2181240" cy="145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14600" y="2286000"/>
            <a:ext cx="2181240" cy="145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218124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8600" y="40384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819520" y="403848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238880" y="2362320"/>
            <a:ext cx="162900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15000" y="4038480"/>
            <a:ext cx="157176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391520" y="4038480"/>
            <a:ext cx="15714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WindowsMediaPlayer1"/>
          <p:cNvGraphicFramePr/>
          <p:nvPr/>
        </p:nvGraphicFramePr>
        <p:xfrm>
          <a:off x="1484280" y="2324160"/>
          <a:ext cx="6589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324160"/>
                    <a:ext cx="6589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81240" y="586728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LICK HERE TO VIEW SINGAPORE NIGHT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NTERTAINMENT HIGH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ShockwaveFlash1"/>
          <p:cNvGraphicFramePr/>
          <p:nvPr/>
        </p:nvGraphicFramePr>
        <p:xfrm>
          <a:off x="1219320" y="2362320"/>
          <a:ext cx="64008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400800" cy="3047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339920" y="5481720"/>
            <a:ext cx="71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Click the video to see collision between Hamilton and M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3:31:38Z</dcterms:created>
  <dc:creator>lecturer</dc:creator>
  <dc:description/>
  <dc:language>en-US</dc:language>
  <cp:lastModifiedBy>lecturer</cp:lastModifiedBy>
  <dcterms:modified xsi:type="dcterms:W3CDTF">2011-09-28T08:32:51Z</dcterms:modified>
  <cp:revision>4</cp:revision>
  <dc:subject/>
  <dc:title>Slide 1</dc:title>
</cp:coreProperties>
</file>