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743200" y="4572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Acer Computers AIO Z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594360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7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4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6553080" y="60199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  <a:path fill="darken" w="21600" h="25186">
                <a:moveTo>
                  <a:pt x="3794" y="12593"/>
                </a:moveTo>
                <a:lnTo>
                  <a:pt x="17806" y="5586"/>
                </a:lnTo>
                <a:lnTo>
                  <a:pt x="17806" y="1959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>
            <a:hlinkClick r:id="" action="ppaction://hlinkshowjump?jump=firstslide"/>
          </p:cNvPr>
          <p:cNvSpPr/>
          <p:nvPr/>
        </p:nvSpPr>
        <p:spPr>
          <a:xfrm>
            <a:off x="7086600" y="60199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  <a:path fill="darken" w="21600" h="25186">
                <a:moveTo>
                  <a:pt x="7301" y="12593"/>
                </a:moveTo>
                <a:lnTo>
                  <a:pt x="17806" y="5586"/>
                </a:lnTo>
                <a:lnTo>
                  <a:pt x="17806" y="19599"/>
                </a:lnTo>
                <a:close/>
              </a:path>
              <a:path fill="darken" w="21600" h="25186">
                <a:moveTo>
                  <a:pt x="3794" y="5586"/>
                </a:moveTo>
                <a:lnTo>
                  <a:pt x="5456" y="5586"/>
                </a:lnTo>
                <a:lnTo>
                  <a:pt x="5456" y="19599"/>
                </a:lnTo>
                <a:lnTo>
                  <a:pt x="3794" y="1959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" action="ppaction://hlinkshowjump?jump=lastslide"/>
          </p:cNvPr>
          <p:cNvSpPr/>
          <p:nvPr/>
        </p:nvSpPr>
        <p:spPr>
          <a:xfrm>
            <a:off x="7605720" y="60199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  <a:path fill="darken" w="21600" h="25186">
                <a:moveTo>
                  <a:pt x="14299" y="12593"/>
                </a:moveTo>
                <a:lnTo>
                  <a:pt x="3794" y="19599"/>
                </a:lnTo>
                <a:lnTo>
                  <a:pt x="3794" y="5586"/>
                </a:lnTo>
                <a:close/>
              </a:path>
              <a:path fill="darken" w="21600" h="25186">
                <a:moveTo>
                  <a:pt x="16144" y="5586"/>
                </a:moveTo>
                <a:lnTo>
                  <a:pt x="16144" y="19599"/>
                </a:lnTo>
                <a:lnTo>
                  <a:pt x="17806" y="19599"/>
                </a:lnTo>
                <a:lnTo>
                  <a:pt x="17806" y="558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8153280" y="60199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  <a:path fill="darken" w="21600" h="25186">
                <a:moveTo>
                  <a:pt x="3794" y="5586"/>
                </a:moveTo>
                <a:lnTo>
                  <a:pt x="17806" y="12593"/>
                </a:lnTo>
                <a:lnTo>
                  <a:pt x="3794" y="1959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rcRect l="13715" t="0" r="22214" b="10370"/>
          <a:stretch/>
        </p:blipFill>
        <p:spPr>
          <a:xfrm>
            <a:off x="304920" y="228600"/>
            <a:ext cx="2135160" cy="213372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962520" y="1523880"/>
            <a:ext cx="4799880" cy="3885840"/>
            <a:chOff x="3962520" y="1523880"/>
            <a:chExt cx="4799880" cy="3885840"/>
          </a:xfrm>
        </p:grpSpPr>
        <p:cxnSp>
          <p:nvCxnSpPr>
            <p:cNvPr id="47" name="_s2093"/>
            <p:cNvCxnSpPr>
              <a:stCxn id="48" idx="1"/>
              <a:endCxn id="49" idx="2"/>
            </p:cNvCxnSpPr>
            <p:nvPr/>
          </p:nvCxnSpPr>
          <p:spPr>
            <a:xfrm rot="10800000">
              <a:off x="5402160" y="2078640"/>
              <a:ext cx="480240" cy="305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2091"/>
            <p:cNvCxnSpPr>
              <a:stCxn id="51" idx="1"/>
              <a:endCxn id="49" idx="2"/>
            </p:cNvCxnSpPr>
            <p:nvPr/>
          </p:nvCxnSpPr>
          <p:spPr>
            <a:xfrm rot="10800000">
              <a:off x="5402160" y="2079000"/>
              <a:ext cx="480240" cy="2220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2090"/>
            <p:cNvCxnSpPr>
              <a:stCxn id="53" idx="1"/>
              <a:endCxn id="49" idx="2"/>
            </p:cNvCxnSpPr>
            <p:nvPr/>
          </p:nvCxnSpPr>
          <p:spPr>
            <a:xfrm rot="10800000">
              <a:off x="5402160" y="2078640"/>
              <a:ext cx="480240" cy="1388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2089"/>
            <p:cNvCxnSpPr>
              <a:stCxn id="55" idx="1"/>
              <a:endCxn id="49" idx="2"/>
            </p:cNvCxnSpPr>
            <p:nvPr/>
          </p:nvCxnSpPr>
          <p:spPr>
            <a:xfrm rot="10800000">
              <a:off x="5402160" y="2079000"/>
              <a:ext cx="480240" cy="55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9" name="_s2085"/>
            <p:cNvSpPr/>
            <p:nvPr/>
          </p:nvSpPr>
          <p:spPr>
            <a:xfrm>
              <a:off x="3962520" y="1523880"/>
              <a:ext cx="2880000" cy="555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er AIO Z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dern minimalist desig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086">
              <a:hlinkClick r:id="rId2" action="ppaction://hlinksldjump"/>
            </p:cNvPr>
            <p:cNvSpPr/>
            <p:nvPr/>
          </p:nvSpPr>
          <p:spPr>
            <a:xfrm>
              <a:off x="5882400" y="2356560"/>
              <a:ext cx="2880000" cy="555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uitive touch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087"/>
            <p:cNvSpPr/>
            <p:nvPr/>
          </p:nvSpPr>
          <p:spPr>
            <a:xfrm>
              <a:off x="5882400" y="3189240"/>
              <a:ext cx="2880000" cy="555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werful multitask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2088"/>
            <p:cNvSpPr/>
            <p:nvPr/>
          </p:nvSpPr>
          <p:spPr>
            <a:xfrm>
              <a:off x="5882400" y="4021920"/>
              <a:ext cx="2880000" cy="555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gh-definition f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92"/>
            <p:cNvSpPr/>
            <p:nvPr/>
          </p:nvSpPr>
          <p:spPr>
            <a:xfrm>
              <a:off x="5882400" y="4854600"/>
              <a:ext cx="2880000" cy="555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act 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04920" y="281952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rn minimalis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all-in-one PC fits nicely in any ro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gray and a glossy-black bezel comprise a color scheme that matches smoothly with modern home déc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backstand features a simple yet stylish bevele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28195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uitive touch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Acer TouchPortal synchronizes your lif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PC, and the Intern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witch between applications with quic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gertip control and experience a fast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arter way to access useful information, entertainme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social networ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34120" y="1447920"/>
            <a:ext cx="304776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281952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ful multitas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owerful processor enhances multitas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ll your favorite apps simultaneous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load all the multimedia you want and store it on the massive 1.5 TB hard dr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veniently share files with friends using the multi-in-1 card r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1523880"/>
            <a:ext cx="38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2120" y="3581280"/>
            <a:ext cx="8001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-definition f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-quality visual and audio components add to your entertainment in a big 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a Full HD 16:9 display, powerful HD graphics, and a Blu-ray Disc™ optical dr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optional), your favorite Blu-ray movies, graphics-intensive applications &amp; ga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352680" y="1600200"/>
            <a:ext cx="35816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828800" y="2362320"/>
            <a:ext cx="6705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act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er Computer (Singapore) Pte L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9, International Business 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#01-01, Acer Building, Towe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apore 6099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phone : (65) 6563 65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er Singapore Website: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http://www.acer.com.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4:15:50Z</dcterms:created>
  <dc:creator>lecturer</dc:creator>
  <dc:description/>
  <dc:language>en-US</dc:language>
  <cp:lastModifiedBy>lecturer</cp:lastModifiedBy>
  <dcterms:modified xsi:type="dcterms:W3CDTF">2011-09-28T08:50:08Z</dcterms:modified>
  <cp:revision>6</cp:revision>
  <dc:subject/>
  <dc:title>Slide 1</dc:title>
</cp:coreProperties>
</file>