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F05-53F8-4836-A9FA-2299798B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FC9-B250-45B5-940C-13137372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21B-0382-40F6-BB9B-7A5AA8F6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EF2-E19E-4E13-B3F1-7597B523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DBA7-82B5-473F-9244-175CC34F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2C02-A6EE-4F50-997D-065C8993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AED3-5EC1-48E2-BD5B-9B00A9EA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08EF-F7F9-4210-933E-61406F11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3652-978C-4E6C-81FD-595CD79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DD9-FD25-46A7-8157-463B022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284D-34D4-4CC8-9F48-BA42F11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59F-09A0-4800-A409-356EC3B4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4E82-3DDD-4532-9D36-A8E781F3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9467-19F3-4B28-84DA-A0E14E3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FE6F-5EFC-4374-8A1B-62C31A27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0226-1A29-4F29-95D6-4DE47C5C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67ED-D308-4A4B-A8CF-884E5AD5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C0C-7547-4B4D-B501-55D4D2A2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62E-DA98-4174-A849-A00D6C7F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990-759C-439F-BC59-C422E2CB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B0A-1A02-499F-99BC-51043A03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C14-3AF8-4E2B-BCC3-E81095C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BE7-4B06-4E6E-9039-3498E2C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ACC-1084-4FFF-9488-CB4E4BE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E945-FDDE-4B2D-802B-9BE62722ABA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BE14-9873-49C0-A791-67BA625C3BD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Funciones y Grafic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Ejemplos de fun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nción lineal 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( y = m x+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81200" y="13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81080" y="1405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3419640" y="1962000"/>
            <a:ext cx="49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1819440" cy="3024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6014160" y="36180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 + 2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638160" y="5543640"/>
            <a:ext cx="180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2x –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3x +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9000" y="277920"/>
            <a:ext cx="361008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cuadrátic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(y = 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+b x+c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635280" y="1514520"/>
            <a:ext cx="4680000" cy="2874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755640" y="1730520"/>
            <a:ext cx="1805040" cy="26654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781200" y="120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981080" y="12175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5998680" y="198900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51280" y="5084640"/>
            <a:ext cx="316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– 2 x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 3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+2 x +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35280" y="277920"/>
            <a:ext cx="325116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5404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polinom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775880" y="408312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tretch/>
        </p:blipFill>
        <p:spPr>
          <a:xfrm>
            <a:off x="395280" y="1274760"/>
            <a:ext cx="3960720" cy="244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932360" y="1346040"/>
            <a:ext cx="3905280" cy="2411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6034320" y="408312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+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3708360" y="5013360"/>
                <a:ext cx="35276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5904000" cy="3627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0" y="43920"/>
            <a:ext cx="3251160" cy="3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definidas por par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76280" y="161280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926160" y="1895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Cos[x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047240" y="39117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 flipH="1">
            <a:off x="609480" y="422100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 flipH="1">
            <a:off x="1331640" y="1916280"/>
            <a:ext cx="93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H="1">
            <a:off x="4858920" y="2276640"/>
            <a:ext cx="7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6084720" y="1557360"/>
                <a:ext cx="29512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Rectangle 16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900000" y="5300640"/>
                <a:ext cx="30974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Rectangle 18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7"/>
              <p:cNvSpPr txBox="1"/>
              <p:nvPr/>
            </p:nvSpPr>
            <p:spPr>
              <a:xfrm>
                <a:off x="4716360" y="4869000"/>
                <a:ext cx="338472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CT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2978280" y="5135400"/>
                <a:ext cx="2135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2305080" y="1647720"/>
            <a:ext cx="4498920" cy="31194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29" name="Rectangle 5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ARÁBOL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494320" y="5373720"/>
                <a:ext cx="2519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684360" y="5373720"/>
                <a:ext cx="2566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4329000" y="1647720"/>
            <a:ext cx="4346640" cy="30132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851280" cy="256716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35" name="WordArt 7"/>
          <p:cNvSpPr txBox="1"/>
          <p:nvPr/>
        </p:nvSpPr>
        <p:spPr>
          <a:xfrm>
            <a:off x="971640" y="4869000"/>
            <a:ext cx="20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Horizon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6" name="WordArt 8"/>
          <p:cNvSpPr txBox="1"/>
          <p:nvPr/>
        </p:nvSpPr>
        <p:spPr>
          <a:xfrm>
            <a:off x="6070680" y="486900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Vert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9dab1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ones de uso práct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s funciones se utilizan en todas las ramas de la ingeniería para describir el comportamiento de una variable con respecto a otra. Entre algunas de las aplicaciones podemos mencionar los circuitos eléctricos, mecánica de fluidos, transferencia de calor y electrón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57920" y="115920"/>
            <a:ext cx="31068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Funciones de uso práctico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locidad (Graficar V vs d y V vs t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y de la gravitación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2916360" y="1628640"/>
                <a:ext cx="2232000" cy="19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8"/>
              <p:cNvSpPr txBox="1"/>
              <p:nvPr/>
            </p:nvSpPr>
            <p:spPr>
              <a:xfrm>
                <a:off x="1979640" y="4653000"/>
                <a:ext cx="36734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Ejempl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idere la siguiente función cuadrá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ín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da la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áx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2627280" y="1773360"/>
                <a:ext cx="3889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7"/>
          <p:cNvSpPr/>
          <p:nvPr/>
        </p:nvSpPr>
        <p:spPr>
          <a:xfrm>
            <a:off x="3203640" y="115920"/>
            <a:ext cx="58435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Valores extremos de funciones cuadráticas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3348000" y="4005360"/>
                <a:ext cx="3384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Valor máximo y mínimo de una función cuadrát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valor máximo o mínimo de una función cuadrátic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f(x)=ax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+bx+c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urre 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g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ín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l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áx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8"/>
              <p:cNvSpPr txBox="1"/>
              <p:nvPr/>
            </p:nvSpPr>
            <p:spPr>
              <a:xfrm>
                <a:off x="6672240" y="4005360"/>
                <a:ext cx="995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3780000" y="2781360"/>
                <a:ext cx="14349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6659640" y="4941720"/>
                <a:ext cx="1081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05264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121200" y="105264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7640" y="105264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95"/>
          <p:cNvSpPr/>
          <p:nvPr/>
        </p:nvSpPr>
        <p:spPr>
          <a:xfrm>
            <a:off x="324000" y="4363920"/>
            <a:ext cx="8445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Después de observar las tablas anteriores trata de encontra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la regla de correspondencia que relaciona las columnas en cada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Tabl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140360" y="5873760"/>
            <a:ext cx="1368360" cy="65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7093080" y="5877000"/>
            <a:ext cx="1044360" cy="5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170028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21200" y="170028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227640" y="170028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laciones de correspondencia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8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9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2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3" descr=""/>
          <p:cNvPicPr/>
          <p:nvPr/>
        </p:nvPicPr>
        <p:blipFill>
          <a:blip r:embed="rId4"/>
          <a:stretch/>
        </p:blipFill>
        <p:spPr>
          <a:xfrm>
            <a:off x="7308720" y="321300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4"/>
          <p:cNvSpPr/>
          <p:nvPr/>
        </p:nvSpPr>
        <p:spPr>
          <a:xfrm>
            <a:off x="280080" y="4722840"/>
            <a:ext cx="889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a Figura 1 muestra la expresión que resulta de extraerle la raíz cuadrada a u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úmero real positivo o cero. La Figura 2 representa el resultado de elevar al cuad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alquier número re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Te fijaste en cuantos la recta vertical anaranjada corta a la grafica de la Figura 1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En cuantos corta a la grafica de la Figura 2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Podrías concluir alg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5"/>
          <p:cNvSpPr/>
          <p:nvPr/>
        </p:nvSpPr>
        <p:spPr>
          <a:xfrm>
            <a:off x="1600920" y="40194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6"/>
          <p:cNvSpPr/>
          <p:nvPr/>
        </p:nvSpPr>
        <p:spPr>
          <a:xfrm>
            <a:off x="6012720" y="40705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67"/>
          <p:cNvSpPr/>
          <p:nvPr/>
        </p:nvSpPr>
        <p:spPr>
          <a:xfrm>
            <a:off x="2368440" y="148428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68"/>
          <p:cNvSpPr/>
          <p:nvPr/>
        </p:nvSpPr>
        <p:spPr>
          <a:xfrm>
            <a:off x="7135920" y="146988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 continuación se te presentan ejemplos de relaciones de correspondencia que son funciones y otros que no lo son, observa bien las características de los ejemplos, semejanzas y diferencias y trata de expresar con tus propias palabras qué es lo que hace que una correspondencia sea una fun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4"/>
          <p:cNvSpPr/>
          <p:nvPr/>
        </p:nvSpPr>
        <p:spPr>
          <a:xfrm>
            <a:off x="2627280" y="981000"/>
            <a:ext cx="1513080" cy="180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5748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6400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059280" y="1270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914560" y="1773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132000" y="21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505480" y="1125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5218200" y="1773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5505480" y="2270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490920" y="1486080"/>
            <a:ext cx="165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3490920" y="2133720"/>
            <a:ext cx="1655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3778560" y="54936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i es fun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230760" y="3375000"/>
            <a:ext cx="88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Una vez analizados los ejemplos anteriores ¿podrías  identificar cuáles de las tabla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guientes representan funcion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0920" y="4148280"/>
          <a:ext cx="2660400" cy="207324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121200" y="4148280"/>
          <a:ext cx="2890800" cy="20732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227640" y="4148280"/>
          <a:ext cx="2602080" cy="207324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64328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2771640" y="150012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7524720" y="250812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44440" y="1890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 Y de estas gráficas habrá alguna que no sea funció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2584440" y="77940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7351560" y="76500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651640" y="32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154764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250920" y="5373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(-2, 4), (0, -1), (1, 3), (2, 5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4859280" y="5373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 (-1, 0), (2, 6), (4, 9), (-1, -1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586728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1116000" y="5924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68360" y="4168800"/>
            <a:ext cx="89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finalizar te presentamos ejemplos de conjuntos de pares ordenados, uno de los cuales es función y el otro 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40480" y="-11160"/>
            <a:ext cx="2027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Ahora el momento importante ha llegado,  te toca a ti decirnos qué es una función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Definición de 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na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función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 una regla de correspondencia que asigna a cada eleme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un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,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exactamente un único elemento, 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,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otro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706920" y="4437000"/>
            <a:ext cx="1944720" cy="1008000"/>
          </a:xfrm>
          <a:custGeom>
            <a:avLst/>
            <a:gdLst>
              <a:gd name="textAreaLeft" fmla="*/ 118800 w 1944720"/>
              <a:gd name="textAreaRight" fmla="*/ 1825920 w 194472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416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8065" y="21600"/>
                </a:lnTo>
                <a:arcTo wR="3600" hR="3600" stAng="10800000" swAng="5400000"/>
                <a:lnTo>
                  <a:pt x="41665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6160" y="481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255420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487760" y="472428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572292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894280" y="4941720"/>
            <a:ext cx="9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9:14:37Z</dcterms:created>
  <dc:creator>Ruben Domínguez Maldonado</dc:creator>
  <dc:description/>
  <dc:language>en-US</dc:language>
  <cp:lastModifiedBy>margot hdez lópez</cp:lastModifiedBy>
  <dcterms:modified xsi:type="dcterms:W3CDTF">2012-06-03T17:06:58Z</dcterms:modified>
  <cp:revision>48</cp:revision>
  <dc:subject/>
  <dc:title>Funciones y Graficas</dc:title>
</cp:coreProperties>
</file>