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B635-84EA-4E67-97DF-DF49BCB0E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1577-D439-4DBA-8AFB-E0E22A66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6E9C-CC00-4C3C-B183-1A2C9576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D370-C46F-49CB-B687-8A85B7B4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1424-DC63-4D87-A72E-326617D0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F69A-1775-47C2-A2BF-4015317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374E-E7B5-4F4F-BF27-DEB5B9E0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C1361-35DD-41EC-B5CE-1376E096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CE0B-1398-4298-B5E2-9C29F1FF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6A36-C3E3-4EED-8363-E39757B0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91950-F95B-406A-8828-F90AEB01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C6EF-31AA-4062-924E-34F622D8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E15D-435E-4D99-8097-ABFF759D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A649-C326-4526-B8BF-CEF488E3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50B4-3DBB-4443-9E5E-663D626D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F448-BE7A-4687-A908-6CC1935DF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F630-3EFB-4C9E-B343-67D507F0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E25F-799D-49B3-92C6-0C2B335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2B3-17D9-44B0-861A-6B5D504B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E14B-3E8A-4AC1-8760-4521AD8F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0FA-5A2B-4CD6-A4AF-CA478877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804-082C-4C2F-B6F2-CF775C7F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648D-A62D-49E2-87E3-5DAB0100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B91D-49CE-4BEC-8C99-1E6C1199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7A24-C17A-42C7-99D1-D543DD660F6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0865E-DA20-47EB-85B9-655AEA0E0F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eec94"/>
                </a:solidFill>
                <a:latin typeface="Times New Roman"/>
              </a:rPr>
              <a:t>Funciones y Grafica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Ejemplos de funciones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Función lineal 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( y = m x+b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81200" y="1387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1981080" y="14050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1"/>
          <a:stretch/>
        </p:blipFill>
        <p:spPr>
          <a:xfrm>
            <a:off x="3419640" y="1962000"/>
            <a:ext cx="4968720" cy="3051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/>
          <p:cNvPicPr/>
          <p:nvPr/>
        </p:nvPicPr>
        <p:blipFill>
          <a:blip r:embed="rId2"/>
          <a:stretch/>
        </p:blipFill>
        <p:spPr>
          <a:xfrm>
            <a:off x="826920" y="1989000"/>
            <a:ext cx="1819440" cy="3024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10"/>
          <p:cNvSpPr/>
          <p:nvPr/>
        </p:nvSpPr>
        <p:spPr>
          <a:xfrm>
            <a:off x="6014160" y="3618000"/>
            <a:ext cx="200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 + 2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3638160" y="5543640"/>
            <a:ext cx="18021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2x –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3x +2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499000" y="277920"/>
            <a:ext cx="361008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cuadrátic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(y = a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MX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+b x+c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3635280" y="1514520"/>
            <a:ext cx="4680000" cy="2874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755640" y="1730520"/>
            <a:ext cx="1805040" cy="2665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6"/>
          <p:cNvSpPr/>
          <p:nvPr/>
        </p:nvSpPr>
        <p:spPr>
          <a:xfrm>
            <a:off x="781200" y="120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981080" y="12175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F 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5998680" y="198900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3851280" y="5084640"/>
            <a:ext cx="316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– 2 x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y = - 3 x</a:t>
            </a:r>
            <a:r>
              <a:rPr b="0" i="1" lang="es-MX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 +2 x + 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435280" y="277920"/>
            <a:ext cx="325116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5404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polinom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1775880" y="408312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9" descr=""/>
          <p:cNvPicPr/>
          <p:nvPr/>
        </p:nvPicPr>
        <p:blipFill>
          <a:blip r:embed="rId1"/>
          <a:stretch/>
        </p:blipFill>
        <p:spPr>
          <a:xfrm>
            <a:off x="395280" y="1274760"/>
            <a:ext cx="3960720" cy="244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"/>
          <p:cNvPicPr/>
          <p:nvPr/>
        </p:nvPicPr>
        <p:blipFill>
          <a:blip r:embed="rId2"/>
          <a:stretch/>
        </p:blipFill>
        <p:spPr>
          <a:xfrm>
            <a:off x="4932360" y="1346040"/>
            <a:ext cx="3905280" cy="2411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11"/>
          <p:cNvSpPr/>
          <p:nvPr/>
        </p:nvSpPr>
        <p:spPr>
          <a:xfrm>
            <a:off x="6034320" y="408312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y = 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MX" sz="3600" spc="-1" strike="noStrike">
                <a:solidFill>
                  <a:srgbClr val="ffffff"/>
                </a:solidFill>
                <a:latin typeface="Times New Roman"/>
              </a:rPr>
              <a:t> +x</a:t>
            </a:r>
            <a:r>
              <a:rPr b="0" i="1" lang="es-MX" sz="36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12"/>
              <p:cNvSpPr txBox="1"/>
              <p:nvPr/>
            </p:nvSpPr>
            <p:spPr>
              <a:xfrm>
                <a:off x="3708360" y="5013360"/>
                <a:ext cx="352764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1"/>
          <a:stretch/>
        </p:blipFill>
        <p:spPr>
          <a:xfrm>
            <a:off x="108000" y="981000"/>
            <a:ext cx="5904000" cy="3627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13200" y="43920"/>
            <a:ext cx="3251160" cy="3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Ejemplos de funciones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Función definidas por par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2276280" y="1612800"/>
            <a:ext cx="98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</a:t>
            </a:r>
            <a:r>
              <a:rPr b="0" i="1" lang="es-MX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3926160" y="189540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Cos[x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047240" y="391176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y = 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Line 10"/>
          <p:cNvSpPr/>
          <p:nvPr/>
        </p:nvSpPr>
        <p:spPr>
          <a:xfrm flipH="1">
            <a:off x="609480" y="4221000"/>
            <a:ext cx="43344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Line 11"/>
          <p:cNvSpPr/>
          <p:nvPr/>
        </p:nvSpPr>
        <p:spPr>
          <a:xfrm flipH="1">
            <a:off x="1331640" y="191628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Line 12"/>
          <p:cNvSpPr/>
          <p:nvPr/>
        </p:nvSpPr>
        <p:spPr>
          <a:xfrm flipH="1">
            <a:off x="4858920" y="2276640"/>
            <a:ext cx="7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13"/>
              <p:cNvSpPr txBox="1"/>
              <p:nvPr/>
            </p:nvSpPr>
            <p:spPr>
              <a:xfrm>
                <a:off x="6084720" y="1557360"/>
                <a:ext cx="29512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2" name="Rectangle 16"/>
          <p:cNvSpPr/>
          <p:nvPr/>
        </p:nvSpPr>
        <p:spPr>
          <a:xfrm>
            <a:off x="0" y="3100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5"/>
              <p:cNvSpPr txBox="1"/>
              <p:nvPr/>
            </p:nvSpPr>
            <p:spPr>
              <a:xfrm>
                <a:off x="900000" y="5300640"/>
                <a:ext cx="309744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4" name="Rectangle 18"/>
          <p:cNvSpPr/>
          <p:nvPr/>
        </p:nvSpPr>
        <p:spPr>
          <a:xfrm>
            <a:off x="0" y="2881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7"/>
              <p:cNvSpPr txBox="1"/>
              <p:nvPr/>
            </p:nvSpPr>
            <p:spPr>
              <a:xfrm>
                <a:off x="4716360" y="4869000"/>
                <a:ext cx="3384720" cy="18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limUpp>
                              <m:e/>
                              <m:lim/>
                            </m:limUpp>
                            <m:r>
                              <m:rPr>
                                <m:lit/>
                                <m:nor/>
                              </m:rPr>
                              <m:t xml:space="preserve">Si</m:t>
                            </m:r>
                            <m:limUpp>
                              <m:e/>
                              <m:lim/>
                            </m:limUpp>
                            <m:r>
                              <m:t xml:space="preserve">0</m:t>
                            </m:r>
                            <m:r>
                              <m:t xml:space="preserve">≤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CT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3"/>
              <p:cNvSpPr txBox="1"/>
              <p:nvPr/>
            </p:nvSpPr>
            <p:spPr>
              <a:xfrm>
                <a:off x="2978280" y="5135400"/>
                <a:ext cx="21351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 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Picture 4" descr=""/>
          <p:cNvPicPr/>
          <p:nvPr/>
        </p:nvPicPr>
        <p:blipFill>
          <a:blip r:embed="rId1"/>
          <a:stretch/>
        </p:blipFill>
        <p:spPr>
          <a:xfrm>
            <a:off x="2305080" y="1647720"/>
            <a:ext cx="4498920" cy="31194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29" name="Rectangle 5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PARÁBOLA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Object 3"/>
              <p:cNvSpPr txBox="1"/>
              <p:nvPr/>
            </p:nvSpPr>
            <p:spPr>
              <a:xfrm>
                <a:off x="5494320" y="5373720"/>
                <a:ext cx="25192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684360" y="5373720"/>
                <a:ext cx="2566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33" name="Picture 5" descr=""/>
          <p:cNvPicPr/>
          <p:nvPr/>
        </p:nvPicPr>
        <p:blipFill>
          <a:blip r:embed="rId1"/>
          <a:stretch/>
        </p:blipFill>
        <p:spPr>
          <a:xfrm>
            <a:off x="4329000" y="1647720"/>
            <a:ext cx="4346640" cy="301320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pic>
        <p:nvPicPr>
          <p:cNvPr id="234" name="Picture 6" descr=""/>
          <p:cNvPicPr/>
          <p:nvPr/>
        </p:nvPicPr>
        <p:blipFill>
          <a:blip r:embed="rId2"/>
          <a:stretch/>
        </p:blipFill>
        <p:spPr>
          <a:xfrm>
            <a:off x="179280" y="2205000"/>
            <a:ext cx="3851280" cy="2567160"/>
          </a:xfrm>
          <a:prstGeom prst="rect">
            <a:avLst/>
          </a:prstGeom>
          <a:ln w="57240">
            <a:solidFill>
              <a:srgbClr val="9dab13"/>
            </a:solidFill>
            <a:miter/>
          </a:ln>
        </p:spPr>
      </p:pic>
      <p:sp>
        <p:nvSpPr>
          <p:cNvPr id="235" name="WordArt 7"/>
          <p:cNvSpPr txBox="1"/>
          <p:nvPr/>
        </p:nvSpPr>
        <p:spPr>
          <a:xfrm>
            <a:off x="971640" y="4869000"/>
            <a:ext cx="208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Horizont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6" name="WordArt 8"/>
          <p:cNvSpPr txBox="1"/>
          <p:nvPr/>
        </p:nvSpPr>
        <p:spPr>
          <a:xfrm>
            <a:off x="6070680" y="4869000"/>
            <a:ext cx="1655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Vertic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5870520" y="189000"/>
            <a:ext cx="28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eec94"/>
                </a:solidFill>
                <a:latin typeface="Times New Roman"/>
              </a:rPr>
              <a:t>SECCIONES CÓNICAS 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solidFill>
            <a:srgbClr val="9dab1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ones de uso práctic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Las funciones se utilizan en todas las ramas de la ingeniería para describir el comportamiento de una variable con respecto a otra. Entre algunas de las aplicaciones podemos mencionar los circuitos eléctricos, mecánica de fluidos, transferencia de calor y electrón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857920" y="115920"/>
            <a:ext cx="31068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eec94"/>
                </a:solidFill>
                <a:latin typeface="Times New Roman"/>
              </a:rPr>
              <a:t>Funciones de uso práctico …</a:t>
            </a:r>
            <a:endParaRPr b="1" lang="en-US" sz="1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000" y="549000"/>
            <a:ext cx="8280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tros ejemp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Velocidad (Graficar V vs d y V vs t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Ley de la gravitación Univer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16"/>
              <p:cNvSpPr txBox="1"/>
              <p:nvPr/>
            </p:nvSpPr>
            <p:spPr>
              <a:xfrm>
                <a:off x="2916360" y="1628640"/>
                <a:ext cx="2232000" cy="199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8"/>
              <p:cNvSpPr txBox="1"/>
              <p:nvPr/>
            </p:nvSpPr>
            <p:spPr>
              <a:xfrm>
                <a:off x="1979640" y="4653000"/>
                <a:ext cx="3673440" cy="12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Ejemplo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915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onsidere la siguiente función cuadrát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ín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Dada la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a) Exprese la función en su forma estánd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b) Trace la gráfica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c) Determine el valor máximo de </a:t>
            </a:r>
            <a:r>
              <a:rPr b="0" i="1" lang="es-MX" sz="2400" spc="-1" strike="noStrike">
                <a:solidFill>
                  <a:srgbClr val="ffffff"/>
                </a:solidFill>
                <a:latin typeface="Times New Roman"/>
              </a:rPr>
              <a:t>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6"/>
              <p:cNvSpPr txBox="1"/>
              <p:nvPr/>
            </p:nvSpPr>
            <p:spPr>
              <a:xfrm>
                <a:off x="2627280" y="1773360"/>
                <a:ext cx="38894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9" name="Rectangle 7"/>
          <p:cNvSpPr/>
          <p:nvPr/>
        </p:nvSpPr>
        <p:spPr>
          <a:xfrm>
            <a:off x="3203640" y="115920"/>
            <a:ext cx="584352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Valores extremos de funciones cuadráticas …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Object 8"/>
              <p:cNvSpPr txBox="1"/>
              <p:nvPr/>
            </p:nvSpPr>
            <p:spPr>
              <a:xfrm>
                <a:off x="3348000" y="4005360"/>
                <a:ext cx="33847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   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eec94"/>
                </a:solidFill>
                <a:latin typeface="Times New Roman"/>
              </a:rPr>
              <a:t>Valor máximo y mínimo de una función cuadrátic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El valor máximo o mínimo de una función cuadrática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f(x)=ax</a:t>
            </a:r>
            <a:r>
              <a:rPr b="0" i="1" lang="es-MX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+bx+c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ocurre 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g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ín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Si </a:t>
            </a:r>
            <a:r>
              <a:rPr b="0" i="1" lang="es-MX" sz="2800" spc="-1" strike="noStrike">
                <a:solidFill>
                  <a:srgbClr val="ffffff"/>
                </a:solidFill>
                <a:latin typeface="Times New Roman"/>
              </a:rPr>
              <a:t>a &lt; 0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, entonces el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valor máximo</a:t>
            </a: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8"/>
              <p:cNvSpPr txBox="1"/>
              <p:nvPr/>
            </p:nvSpPr>
            <p:spPr>
              <a:xfrm>
                <a:off x="6672240" y="4005360"/>
                <a:ext cx="9954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3780000" y="2781360"/>
                <a:ext cx="14349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10"/>
              <p:cNvSpPr txBox="1"/>
              <p:nvPr/>
            </p:nvSpPr>
            <p:spPr>
              <a:xfrm>
                <a:off x="6659640" y="4941720"/>
                <a:ext cx="108108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a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50920" y="105264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3121200" y="105264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227640" y="105264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Text Box 95"/>
          <p:cNvSpPr/>
          <p:nvPr/>
        </p:nvSpPr>
        <p:spPr>
          <a:xfrm>
            <a:off x="324000" y="4363920"/>
            <a:ext cx="8445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Después de observar las tablas anteriores trata de encontrar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la regla de correspondencia que relaciona las columnas en cada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ff"/>
                </a:solidFill>
                <a:latin typeface="Times New Roman"/>
              </a:rPr>
              <a:t>Tabla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140360" y="5873760"/>
            <a:ext cx="1368360" cy="650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684360" y="580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7093080" y="5877000"/>
            <a:ext cx="1044360" cy="5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1700280"/>
          <a:ext cx="2660400" cy="295272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3121200" y="1700280"/>
          <a:ext cx="2890800" cy="295272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227640" y="1700280"/>
          <a:ext cx="2602080" cy="295272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76480" y="135000"/>
            <a:ext cx="605952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eec94"/>
                </a:solidFill>
                <a:latin typeface="Times New Roman"/>
              </a:rPr>
              <a:t>Relaciones de correspondencia …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Relaciones de correspondencia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Picture 58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9" descr=""/>
          <p:cNvPicPr/>
          <p:nvPr/>
        </p:nvPicPr>
        <p:blipFill>
          <a:blip r:embed="rId2"/>
          <a:stretch/>
        </p:blipFill>
        <p:spPr>
          <a:xfrm>
            <a:off x="4427640" y="1484280"/>
            <a:ext cx="4032000" cy="247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2" descr=""/>
          <p:cNvPicPr/>
          <p:nvPr/>
        </p:nvPicPr>
        <p:blipFill>
          <a:blip r:embed="rId3"/>
          <a:stretch/>
        </p:blipFill>
        <p:spPr>
          <a:xfrm>
            <a:off x="2556000" y="2205000"/>
            <a:ext cx="1295280" cy="447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3" descr=""/>
          <p:cNvPicPr/>
          <p:nvPr/>
        </p:nvPicPr>
        <p:blipFill>
          <a:blip r:embed="rId4"/>
          <a:stretch/>
        </p:blipFill>
        <p:spPr>
          <a:xfrm>
            <a:off x="7308720" y="321300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4"/>
          <p:cNvSpPr/>
          <p:nvPr/>
        </p:nvSpPr>
        <p:spPr>
          <a:xfrm>
            <a:off x="280080" y="4722840"/>
            <a:ext cx="8898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a Figura 1 muestra la expresión que resulta de extraerle la raíz cuadrada a u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número real positivo o cero. La Figura 2 representa el resultado de elevar al cuadr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ualquier número re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Te fijaste en cuantos la recta vertical anaranjada corta a la grafica de la Figura 1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En cuantos corta a la grafica de la Figura 2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¿Podrías concluir alg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65"/>
          <p:cNvSpPr/>
          <p:nvPr/>
        </p:nvSpPr>
        <p:spPr>
          <a:xfrm>
            <a:off x="1600920" y="401940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66"/>
          <p:cNvSpPr/>
          <p:nvPr/>
        </p:nvSpPr>
        <p:spPr>
          <a:xfrm>
            <a:off x="6012720" y="407052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igura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67"/>
          <p:cNvSpPr/>
          <p:nvPr/>
        </p:nvSpPr>
        <p:spPr>
          <a:xfrm>
            <a:off x="2368440" y="148428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Line 68"/>
          <p:cNvSpPr/>
          <p:nvPr/>
        </p:nvSpPr>
        <p:spPr>
          <a:xfrm>
            <a:off x="7135920" y="146988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A continuación se te presentan ejemplos de relaciones de correspondencia que son funciones y otros que no lo son, observa bien las características de los ejemplos, semejanzas y diferencias y trata de expresar con tus propias palabras qué es lo que hace que una correspondencia sea una funció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Oval 4"/>
          <p:cNvSpPr/>
          <p:nvPr/>
        </p:nvSpPr>
        <p:spPr>
          <a:xfrm>
            <a:off x="2627280" y="981000"/>
            <a:ext cx="1513080" cy="180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05748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5364000" y="2852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059280" y="12700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914560" y="1773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132000" y="213372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505480" y="1125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5218200" y="17733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5505480" y="227016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14"/>
          <p:cNvSpPr/>
          <p:nvPr/>
        </p:nvSpPr>
        <p:spPr>
          <a:xfrm>
            <a:off x="3490920" y="1486080"/>
            <a:ext cx="165564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16"/>
          <p:cNvSpPr/>
          <p:nvPr/>
        </p:nvSpPr>
        <p:spPr>
          <a:xfrm flipV="1">
            <a:off x="3490920" y="2133720"/>
            <a:ext cx="1655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3778560" y="549360"/>
            <a:ext cx="13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si es fun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230760" y="3375000"/>
            <a:ext cx="881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Una vez analizados los ejemplos anteriores ¿podrías  identificar cuáles de las tabla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iguientes representan funcion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50920" y="4148280"/>
          <a:ext cx="2660400" cy="2073240"/>
        </p:xfrm>
        <a:graphic>
          <a:graphicData uri="http://schemas.openxmlformats.org/drawingml/2006/table">
            <a:tbl>
              <a:tblPr/>
              <a:tblGrid>
                <a:gridCol w="1265040"/>
                <a:gridCol w="13953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3121200" y="4148280"/>
          <a:ext cx="2890800" cy="2073240"/>
        </p:xfrm>
        <a:graphic>
          <a:graphicData uri="http://schemas.openxmlformats.org/drawingml/2006/table">
            <a:tbl>
              <a:tblPr/>
              <a:tblGrid>
                <a:gridCol w="1446120"/>
                <a:gridCol w="1444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227640" y="4148280"/>
          <a:ext cx="2602080" cy="2073240"/>
        </p:xfrm>
        <a:graphic>
          <a:graphicData uri="http://schemas.openxmlformats.org/drawingml/2006/table">
            <a:tbl>
              <a:tblPr/>
              <a:tblGrid>
                <a:gridCol w="1238400"/>
                <a:gridCol w="13636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(x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3964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4643280" y="779400"/>
            <a:ext cx="4032360" cy="2478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3"/>
          <a:stretch/>
        </p:blipFill>
        <p:spPr>
          <a:xfrm>
            <a:off x="2771640" y="1500120"/>
            <a:ext cx="1295640" cy="447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4"/>
          <a:stretch/>
        </p:blipFill>
        <p:spPr>
          <a:xfrm>
            <a:off x="7524720" y="2508120"/>
            <a:ext cx="936720" cy="4460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7"/>
          <p:cNvSpPr/>
          <p:nvPr/>
        </p:nvSpPr>
        <p:spPr>
          <a:xfrm>
            <a:off x="244440" y="189000"/>
            <a:ext cx="69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¿ Y de estas gráficas habrá alguna que no sea función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2584440" y="779400"/>
            <a:ext cx="0" cy="24494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Line 11"/>
          <p:cNvSpPr/>
          <p:nvPr/>
        </p:nvSpPr>
        <p:spPr>
          <a:xfrm>
            <a:off x="7351560" y="765000"/>
            <a:ext cx="0" cy="244980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5651640" y="328464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1547640" y="3284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6"/>
          <p:cNvSpPr/>
          <p:nvPr/>
        </p:nvSpPr>
        <p:spPr>
          <a:xfrm>
            <a:off x="250920" y="537372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(-2, 4), (0, -1), (1, 3), (2, 5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4859280" y="537372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{ (-1, 0), (2, 6), (4, 9), (-1, -1) 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86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No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1116000" y="59245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Sí es fun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468360" y="4168800"/>
            <a:ext cx="89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Para finalizar te presentamos ejemplos de conjuntos de pares ordenados, uno de los cuales es función y el otro 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40480" y="-11160"/>
            <a:ext cx="20275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77336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4800" spc="-1" strike="noStrike">
                <a:solidFill>
                  <a:srgbClr val="ffffff"/>
                </a:solidFill>
                <a:latin typeface="Times New Roman"/>
              </a:rPr>
              <a:t>Ahora el momento importante ha llegado,  te toca a ti decirnos qué es una función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7368840" y="115920"/>
            <a:ext cx="20271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eec94"/>
                </a:solidFill>
                <a:latin typeface="Times New Roman"/>
              </a:rPr>
              <a:t>Función …</a:t>
            </a:r>
            <a:endParaRPr b="1" lang="en-US" sz="20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eec94"/>
                </a:solidFill>
                <a:latin typeface="Times New Roman"/>
              </a:rPr>
              <a:t>Definición de funció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Una 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función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es una regla de correspondencia que asigna a cada eleme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de un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X,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 exactamente un único elemento, 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, 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de otro conjunto </a:t>
            </a:r>
            <a:r>
              <a:rPr b="0" i="1" lang="es-MX" sz="3200" spc="-1" strike="noStrike">
                <a:solidFill>
                  <a:srgbClr val="ffffff"/>
                </a:solidFill>
                <a:latin typeface="Times New Roman"/>
              </a:rPr>
              <a:t>F(x)</a:t>
            </a:r>
            <a:r>
              <a:rPr b="0" lang="es-MX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3706920" y="4437000"/>
            <a:ext cx="1944720" cy="1008000"/>
          </a:xfrm>
          <a:custGeom>
            <a:avLst/>
            <a:gdLst>
              <a:gd name="textAreaLeft" fmla="*/ 118800 w 1944720"/>
              <a:gd name="textAreaRight" fmla="*/ 1825920 w 194472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4166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8065" y="21600"/>
                </a:lnTo>
                <a:arcTo wR="3600" hR="3600" stAng="10800000" swAng="5400000"/>
                <a:lnTo>
                  <a:pt x="41665" y="3600"/>
                </a:lnTo>
                <a:arcTo wR="3600" hR="3600" stAng="5400000" swAng="5400000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2846160" y="48182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6"/>
          <p:cNvSpPr/>
          <p:nvPr/>
        </p:nvSpPr>
        <p:spPr>
          <a:xfrm>
            <a:off x="255420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4487760" y="4724280"/>
            <a:ext cx="4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5722920" y="4869000"/>
            <a:ext cx="1081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5894280" y="4941720"/>
            <a:ext cx="9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000000"/>
                </a:solidFill>
                <a:latin typeface="Times New Roman"/>
              </a:rPr>
              <a:t>f (x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7T19:14:37Z</dcterms:created>
  <dc:creator>Ruben Domínguez Maldonado</dc:creator>
  <dc:description/>
  <dc:language>en-US</dc:language>
  <cp:lastModifiedBy>margot hdez lópez</cp:lastModifiedBy>
  <dcterms:modified xsi:type="dcterms:W3CDTF">2012-06-03T17:06:58Z</dcterms:modified>
  <cp:revision>48</cp:revision>
  <dc:subject/>
  <dc:title>Funciones y Graficas</dc:title>
</cp:coreProperties>
</file>