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5DC-AA25-42D2-A004-933FDC87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E7C-E4F9-4A3F-AAC3-D439A6E2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129-6435-46DF-891B-8CF12B21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B14-00D3-4986-9B34-0B0054EE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BA7-4C72-48A4-8E92-2721CDEC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A45-6A9A-4821-AFE1-750AF8C7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00B-8283-41C8-9A7F-485B56AB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535-499E-4DB2-9A4B-EE1B8C8B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590-76EE-4138-B437-5A852540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4BE-1BB7-4986-86F4-58F5073A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50B-AE93-4C98-B182-CC82BBD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A54-A56B-423F-9AED-FB5C13D3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D526-CDEA-4645-8DC2-81C085041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北京大学电子资源门户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4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武汉大学图书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子资源门户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162920" cy="441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732168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523880" y="1371600"/>
            <a:ext cx="7371000" cy="416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73152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些内容都十分新颖，几个板块，例如我的博文等，十分吸引人的眼球。总的来说，北京大学电子资源门户的内容更加丰富，资源更广，作为国内第一学府，有着广泛的资源，一流的技术，新颖的板块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而武汉大学电子资源门户也不乏其特色，简单朴素，也有一些实用的功能，如数据库的按分类浏览，按类型浏览，多途径查询，快速检索集的方式寻找目标数据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总的来说，各有千秋，图书馆的资源都是很丰富的，在我们学习的过程中，应该好好利用好这些资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北京大学电子资源门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32080"/>
          </a:xfrm>
          <a:prstGeom prst="rect">
            <a:avLst/>
          </a:prstGeom>
          <a:ln w="38160">
            <a:solidFill>
              <a:srgbClr val="ff0000">
                <a:alpha val="0"/>
              </a:srgbClr>
            </a:solidFill>
            <a:miter/>
          </a:ln>
        </p:spPr>
      </p:pic>
      <p:sp>
        <p:nvSpPr>
          <p:cNvPr id="45" name="圆角矩形 5"/>
          <p:cNvSpPr/>
          <p:nvPr/>
        </p:nvSpPr>
        <p:spPr>
          <a:xfrm>
            <a:off x="1981080" y="4343400"/>
            <a:ext cx="2210040" cy="144792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线形标注 1(带强调线) 6"/>
          <p:cNvSpPr/>
          <p:nvPr/>
        </p:nvSpPr>
        <p:spPr>
          <a:xfrm>
            <a:off x="4267080" y="3886200"/>
            <a:ext cx="14479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340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724280" y="5486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武汉大学  数据库检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391160" cy="477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724280" y="5486040"/>
            <a:ext cx="37339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北京大学  数据库检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038480" y="55623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武汉大学电子期刊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835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461360" cy="4648320"/>
          </a:xfrm>
          <a:prstGeom prst="rect">
            <a:avLst/>
          </a:prstGeom>
          <a:ln w="0">
            <a:noFill/>
          </a:ln>
        </p:spPr>
      </p:pic>
      <p:sp>
        <p:nvSpPr>
          <p:cNvPr id="58" name="内容占位符 2"/>
          <p:cNvSpPr/>
          <p:nvPr/>
        </p:nvSpPr>
        <p:spPr>
          <a:xfrm>
            <a:off x="4038480" y="5562720"/>
            <a:ext cx="4648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北京大学电子期刊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22644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533520" y="3124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武汉大学 数据库检索 不仅提供 按字母排序的数据库检索 ，数据库还能通过 按分类浏览，按类型浏览，多途径查询，快速检索集的方式寻找目标数据库，在目标数据库中进行检索。而北京大学数据库检索则没有这项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北京大学电子资源门户中 分类更细，不仅有数据库，电子期刊，还更有学位论文，电子图书等，甚至有多媒体资源查询，能够在其中找到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电影，音乐，讲座，节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等，资源更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534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248080" cy="2552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357800" cy="2133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228600" y="3962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武汉大学图书馆提供我的收藏功能，自己能够收藏所摘录的资源，而北京大学提供一些特色收藏，北大博文，北大讲座，北大名师等特色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11:18:16Z</dcterms:created>
  <dc:creator>Administrator</dc:creator>
  <dc:description/>
  <dc:language>en-US</dc:language>
  <cp:lastModifiedBy>ACER</cp:lastModifiedBy>
  <dcterms:modified xsi:type="dcterms:W3CDTF">2012-06-10T15:03:2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