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972-C874-43ED-AE62-52F8E9CB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8DE-5976-48B6-AB32-180FFEEE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750-00CC-41A1-81F3-86A96172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CC2-071D-46AE-9B9E-AAFE9363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CF0-0770-4BD0-9BB1-094A92F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445-C0EA-45FF-8D84-BB0C5640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612-BA43-4A7A-AB9F-284CA94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2E3-4CF8-4638-9C36-88BA1442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FEB-1433-4EA1-AE22-BF72D7A3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7C5-23FD-4423-8258-163A5D1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712-EA32-4186-9AC8-5740896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691-AEAA-44C6-969F-E5DFB65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DA7-1697-48CB-8121-080985E2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北京大学电子资源门户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武汉大学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子资源门户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16292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2168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523880" y="1371600"/>
            <a:ext cx="7371000" cy="41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73152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些内容都十分新颖，几个板块，例如我的博文等，十分吸引人的眼球。总的来说，北京大学电子资源门户的内容更加丰富，资源更广，作为国内第一学府，有着广泛的资源，一流的技术，新颖的板块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武汉大学电子资源门户也不乏其特色，简单朴素，也有一些实用的功能，如数据库的按分类浏览，按类型浏览，多途径查询，快速检索集的方式寻找目标数据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的来说，各有千秋，图书馆的资源都是很丰富的，在我们学习的过程中，应该好好利用好这些资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北京大学电子资源门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32080"/>
          </a:xfrm>
          <a:prstGeom prst="rect">
            <a:avLst/>
          </a:prstGeom>
          <a:ln w="38160">
            <a:solidFill>
              <a:srgbClr val="ff0000">
                <a:alpha val="0"/>
              </a:srgbClr>
            </a:solidFill>
            <a:miter/>
          </a:ln>
        </p:spPr>
      </p:pic>
      <p:sp>
        <p:nvSpPr>
          <p:cNvPr id="45" name="圆角矩形 5"/>
          <p:cNvSpPr/>
          <p:nvPr/>
        </p:nvSpPr>
        <p:spPr>
          <a:xfrm>
            <a:off x="1981080" y="4343400"/>
            <a:ext cx="2210040" cy="1447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线形标注 1(带强调线) 6"/>
          <p:cNvSpPr/>
          <p:nvPr/>
        </p:nvSpPr>
        <p:spPr>
          <a:xfrm>
            <a:off x="4267080" y="3886200"/>
            <a:ext cx="1447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340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72428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汉大学  数据库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391160" cy="477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724280" y="5486040"/>
            <a:ext cx="3733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北京大学  数据库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38480" y="55623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武汉大学电子期刊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83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46136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内容占位符 2"/>
          <p:cNvSpPr/>
          <p:nvPr/>
        </p:nvSpPr>
        <p:spPr>
          <a:xfrm>
            <a:off x="4038480" y="5562720"/>
            <a:ext cx="4648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北京大学电子期刊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644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533520" y="3124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武汉大学 数据库检索 不仅提供 按字母排序的数据库检索 ，数据库还能通过 按分类浏览，按类型浏览，多途径查询，快速检索集的方式寻找目标数据库，在目标数据库中进行检索。而北京大学数据库检索则没有这项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北京大学电子资源门户中 分类更细，不仅有数据库，电子期刊，还更有学位论文，电子图书等，甚至有多媒体资源查询，能够在其中找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电影，音乐，讲座，节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等，资源更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534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248080" cy="255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35780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228600" y="3962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武汉大学图书馆提供我的收藏功能，自己能够收藏所摘录的资源，而北京大学提供一些特色收藏，北大博文，北大讲座，北大名师等特色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11:18:16Z</dcterms:created>
  <dc:creator>Administrator</dc:creator>
  <dc:description/>
  <dc:language>en-US</dc:language>
  <cp:lastModifiedBy>ACER</cp:lastModifiedBy>
  <dcterms:modified xsi:type="dcterms:W3CDTF">2012-06-10T15:03:2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