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2779-56B8-4CEF-BA79-88693487C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D9BC-B645-4709-91BC-B67BB0A5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6C0E-5605-46DB-B55A-1CD78E64D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2C7D-06AF-45B1-B63F-E862272CD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152A-9C62-4BD6-9755-DF2F6C41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85C9-5BBC-4769-8FC5-234D960B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7F02-E846-42A0-A423-85ABC37D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E6CD-910D-4D6C-A87B-A7160C15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236E-B9A8-413A-908D-21F56935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C8FC-2134-436C-8C57-95B59FF9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E94F-A694-4778-A3B7-B3F8BBE5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9F20-6CA0-4E91-A777-10A4DE38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B77A-A563-481C-82CE-C58B5904E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北京大学电子资源门户介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954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——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与武汉大学图书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电子资源门户对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7162920" cy="4419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1143000" y="914400"/>
            <a:ext cx="7321680" cy="4343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3"/>
          <a:stretch/>
        </p:blipFill>
        <p:spPr>
          <a:xfrm>
            <a:off x="1523880" y="1371600"/>
            <a:ext cx="7371000" cy="4162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4"/>
          <a:stretch/>
        </p:blipFill>
        <p:spPr>
          <a:xfrm>
            <a:off x="1828800" y="1981080"/>
            <a:ext cx="731520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这些内容都十分新颖，几个板块，例如我的博文等，十分吸引人的眼球。总的来说，北京大学电子资源门户的内容更加丰富，资源更广，作为国内第一学府，有着广泛的资源，一流的技术，新颖的板块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而武汉大学电子资源门户也不乏其特色，简单朴素，也有一些实用的功能，如数据库的按分类浏览，按类型浏览，多途径查询，快速检索集的方式寻找目标数据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总的来说，各有千秋，图书馆的资源都是很丰富的，在我们学习的过程中，应该好好利用好这些资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北京大学电子资源门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32080"/>
          </a:xfrm>
          <a:prstGeom prst="rect">
            <a:avLst/>
          </a:prstGeom>
          <a:ln w="38160">
            <a:solidFill>
              <a:srgbClr val="ff0000">
                <a:alpha val="0"/>
              </a:srgbClr>
            </a:solidFill>
            <a:miter/>
          </a:ln>
        </p:spPr>
      </p:pic>
      <p:sp>
        <p:nvSpPr>
          <p:cNvPr id="45" name="圆角矩形 5"/>
          <p:cNvSpPr/>
          <p:nvPr/>
        </p:nvSpPr>
        <p:spPr>
          <a:xfrm>
            <a:off x="1981080" y="4343400"/>
            <a:ext cx="2210040" cy="1447920"/>
          </a:xfrm>
          <a:prstGeom prst="roundRect">
            <a:avLst>
              <a:gd name="adj" fmla="val 16667"/>
            </a:avLst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线形标注 1(带强调线) 6"/>
          <p:cNvSpPr/>
          <p:nvPr/>
        </p:nvSpPr>
        <p:spPr>
          <a:xfrm>
            <a:off x="4267080" y="3886200"/>
            <a:ext cx="1447920" cy="38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7340400" cy="43434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4724280" y="54864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武汉大学  数据库检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7391160" cy="4778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724280" y="5486040"/>
            <a:ext cx="3733920" cy="4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北京大学  数据库检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038480" y="556236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武汉大学电子期刊导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304920"/>
            <a:ext cx="83548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7461360" cy="4648320"/>
          </a:xfrm>
          <a:prstGeom prst="rect">
            <a:avLst/>
          </a:prstGeom>
          <a:ln w="0">
            <a:noFill/>
          </a:ln>
        </p:spPr>
      </p:pic>
      <p:sp>
        <p:nvSpPr>
          <p:cNvPr id="58" name="内容占位符 2"/>
          <p:cNvSpPr/>
          <p:nvPr/>
        </p:nvSpPr>
        <p:spPr>
          <a:xfrm>
            <a:off x="4038480" y="5562720"/>
            <a:ext cx="4648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北京大学电子期刊导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0" y="1600200"/>
            <a:ext cx="9226440" cy="1066680"/>
          </a:xfrm>
          <a:prstGeom prst="rect">
            <a:avLst/>
          </a:prstGeom>
          <a:ln w="0">
            <a:noFill/>
          </a:ln>
        </p:spPr>
      </p:pic>
      <p:sp>
        <p:nvSpPr>
          <p:cNvPr id="60" name="TextBox 5"/>
          <p:cNvSpPr/>
          <p:nvPr/>
        </p:nvSpPr>
        <p:spPr>
          <a:xfrm>
            <a:off x="533520" y="31240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武汉大学 数据库检索 不仅提供 按字母排序的数据库检索 ，数据库还能通过 按分类浏览，按类型浏览，多途径查询，快速检索集的方式寻找目标数据库，在目标数据库中进行检索。而北京大学数据库检索则没有这项功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北京大学电子资源门户中 分类更细，不仅有数据库，电子期刊，还更有学位论文，电子图书等，甚至有多媒体资源查询，能够在其中找到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电影，音乐，讲座，节目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等等，资源更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762120" y="1962000"/>
            <a:ext cx="75340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5248080" cy="2552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4267080" y="3200400"/>
            <a:ext cx="4357800" cy="2133720"/>
          </a:xfrm>
          <a:prstGeom prst="rect">
            <a:avLst/>
          </a:prstGeom>
          <a:ln w="0">
            <a:noFill/>
          </a:ln>
        </p:spPr>
      </p:pic>
      <p:sp>
        <p:nvSpPr>
          <p:cNvPr id="65" name="TextBox 6"/>
          <p:cNvSpPr/>
          <p:nvPr/>
        </p:nvSpPr>
        <p:spPr>
          <a:xfrm>
            <a:off x="228600" y="39625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武汉大学图书馆提供我的收藏功能，自己能够收藏所摘录的资源，而北京大学提供一些特色收藏，北大博文，北大讲座，北大名师等特色内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0T11:18:16Z</dcterms:created>
  <dc:creator>Administrator</dc:creator>
  <dc:description/>
  <dc:language>en-US</dc:language>
  <cp:lastModifiedBy>ACER</cp:lastModifiedBy>
  <dcterms:modified xsi:type="dcterms:W3CDTF">2012-06-10T15:03:28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