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56D5-B444-44E9-809F-F65F135BF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3A2C-22CB-461F-AE2B-FABEA8CE6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E45-939A-4CB7-AAC9-8E46B619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AC3-BE80-4352-9E84-00A92EC9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D7B-B947-4B89-B4D0-3D2FEA13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DEA-60C1-4FD0-A1B3-BE090273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AA3-267E-46C9-AC4B-9BD2999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68C-2591-496F-AB9D-DD0BA69D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291-EFE3-4961-AC36-5F29E57B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A97-7ED4-4C01-BE52-94D537D6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474-0BC6-439C-BCF2-4B5845F7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870-BC7B-48E4-92DA-F305877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97B-3F8C-4A82-AB30-9CF2EC2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AFD-0FD2-4653-ABB1-C6F6EC8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ABE5-0B34-4B18-BE0D-0222C792B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 of Gaps Identified b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533520"/>
          <a:ext cx="8229600" cy="6318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ttle Rhy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ab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sion Center Miss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Plan/Policy/S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Mapp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endar / Meeting Manag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COM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SUM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sh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s Learn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Cost Effective Metho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Over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Usa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standing Collaborative Tool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tive Document Sh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F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Medi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plication  of Effort &amp; Redund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flow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t loca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lture/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/Information Visibil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s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g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icit Knowle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cription of Video and Audio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 (NIPR &amp; SIP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L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Individual /Organizational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Incentiv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boarding- Men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-Cross Train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1:14Z</dcterms:created>
  <dc:creator>jill.m.powell</dc:creator>
  <dc:description/>
  <dc:language>en-US</dc:language>
  <cp:lastModifiedBy>jill.m.powell</cp:lastModifiedBy>
  <dcterms:modified xsi:type="dcterms:W3CDTF">2012-09-26T15:41:54Z</dcterms:modified>
  <cp:revision>1</cp:revision>
  <dc:subject/>
  <dc:title>List of Gaps Identified by Assessment</dc:title>
</cp:coreProperties>
</file>