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75C-48DF-4837-8D74-C1295B005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D6D-4B7D-4232-8EE3-BA9E1743A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4A7-5579-4B01-A978-48E429B5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97F-97E4-4F00-A6D6-C77F186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1F4-11BF-455E-BC85-94D9677A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AC5-0D69-44B6-9AB8-4922FE6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85D-374F-4A1A-A22B-09AB3B64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C38-006B-49A9-83ED-ED79EDE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196-93C0-465F-91BA-96E1B4B0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40E-0E9D-410F-9E95-8554C75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8D3-CE84-424E-BD76-82469041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B1A-0922-4D17-8263-F7B15C1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E54-D493-4597-85FB-A2BD6A5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BD6-463E-4945-A619-840996B4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2DA-E309-4ACB-B60F-E2469DE25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 of Gaps Identified b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533520"/>
          <a:ext cx="8229600" cy="631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ttle Rhy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sion Center Miss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Plan/Policy/S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Mapp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endar / Meeting Manag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CO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SUM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h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s Learn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Cost Effective Metho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a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ing Collaborative Tool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Document Sh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Med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lication  of Effort &amp; Redund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 loc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lture/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/Information Vi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g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icit Knowle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ion of Video and Audio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 (NIPR &amp; SIP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L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Individual /Organizational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Incentiv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boarding- Men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-Cross Train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1:14Z</dcterms:created>
  <dc:creator>jill.m.powell</dc:creator>
  <dc:description/>
  <dc:language>en-US</dc:language>
  <cp:lastModifiedBy>jill.m.powell</cp:lastModifiedBy>
  <dcterms:modified xsi:type="dcterms:W3CDTF">2012-09-26T15:41:54Z</dcterms:modified>
  <cp:revision>1</cp:revision>
  <dc:subject/>
  <dc:title>List of Gaps Identified by Assessment</dc:title>
</cp:coreProperties>
</file>