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3445-0493-43D6-9D23-B553B4EE7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F0E4-3D80-4870-B1D4-C32CA9C3C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9ED-4CBB-4992-ABB6-3B2DF980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2BE4-6B00-4531-A518-33FD614E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4D6-AA77-41B3-8623-D3348E59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A42A-1B3F-484E-B458-F8A486B4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B7C4-621E-4AD6-84EE-7466732F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5D1-34FD-4CDF-90C2-19176BC6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6EDD-DBC8-4016-A20B-FE817001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FE5-45AF-435D-92D2-4F610612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5CA-D534-4076-92DD-448C513B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813C-5EDA-420D-A1A8-24173FA1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4AE2-5DF8-4683-8EDE-C4181828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3EA-79F3-417E-A7BB-1D21236F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443D-FA1F-4B59-BD39-238A9939E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3388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st of Gaps Identified by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533520"/>
          <a:ext cx="8229600" cy="6318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ttle Rhy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llab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28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sion Center Mission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M Plan/Policy/SOP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 Mappin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endar / Meeting Managemen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COM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SUM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shbo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ons Learn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 Cost Effective Metho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Overs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ail Usa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standing Collaborative Tool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aborative Document Sha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F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Media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plication  of Effort &amp; Redund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flow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rt locat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t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lture/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/Information Visibilit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sion 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Taggin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licit Knowled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cription of Video and Audio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sites (NIPR &amp; SIPR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ron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 Lea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suring Individual /Organizational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M Incentive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 boarding- Men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-Cross Trainin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suring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5:41:14Z</dcterms:created>
  <dc:creator>jill.m.powell</dc:creator>
  <dc:description/>
  <dc:language>en-US</dc:language>
  <cp:lastModifiedBy>jill.m.powell</cp:lastModifiedBy>
  <dcterms:modified xsi:type="dcterms:W3CDTF">2012-09-26T15:41:54Z</dcterms:modified>
  <cp:revision>1</cp:revision>
  <dc:subject/>
  <dc:title>List of Gaps Identified by Assessment</dc:title>
</cp:coreProperties>
</file>