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EEE-D7D6-4231-A635-AD48D6F5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A9E-F8F3-4FCA-A5AA-EFAE90F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0EF-07EC-435A-A120-F660D7B7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F4A-612E-4FEC-AB06-3DF70852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66F2-EF9C-4481-965C-A127127D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4AA9-B16B-4912-93C4-5D534B8B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D4BC-56BD-4EF8-A1E0-053BD53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E54-617C-4C9A-9B4B-F54C0B5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DAA6-8BA0-4B42-AD45-B4AB5BA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240F-43AB-41E9-A746-661B53D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0A08-3F9C-410E-8A5C-D14858B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C31-6B03-414C-8E9B-F6AEB55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A30-F7E0-4D23-892D-1FD9452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064-C30D-4142-97DB-488EBBF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A3E3-6663-4D36-938A-C1EA53C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019-F375-43AC-BF02-EEC56079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9920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89120" y="221472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28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9920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89120" y="4329360"/>
            <a:ext cx="25614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D6C-3037-4368-9F51-AB61B69C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2E7-6077-4E15-BA95-3229766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4E1-F780-456B-8F36-EC91DDE1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597-15BE-4FED-A0C1-46017B65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565200"/>
            <a:ext cx="73756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D63-8750-42B8-B775-32265FF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E92-35EE-462A-BA03-3F80B45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5560" y="432936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480-D183-47AB-B8B9-C00D9A1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5560" y="2214720"/>
            <a:ext cx="388188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280" y="4329360"/>
            <a:ext cx="7954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9B5-D9A7-485A-98D3-F05B1A6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2160" cy="6710400"/>
            <a:chOff x="0" y="68400"/>
            <a:chExt cx="8912160" cy="671040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4400" cy="6710400"/>
              <a:chOff x="0" y="68400"/>
              <a:chExt cx="644400" cy="6710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69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6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78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6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0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597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6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4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78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78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01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5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0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5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499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68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69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608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786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62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4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497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70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42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78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7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03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52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02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58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01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66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17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28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48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30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2952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1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090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1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088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2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0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12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112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278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27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599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0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5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884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7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15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76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82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54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2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0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15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6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5996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564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1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2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06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784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0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768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7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44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2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57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59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6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55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240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47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0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56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18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48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4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2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6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780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440"/>
                <a:ext cx="64440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12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67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784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36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320"/>
                <a:ext cx="64440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0880"/>
                <a:ext cx="64440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00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9680"/>
                <a:ext cx="64440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400"/>
                <a:ext cx="64440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77120" cy="1779480"/>
              <a:chOff x="635040" y="325440"/>
              <a:chExt cx="8277120" cy="177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3920" cy="14479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595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5920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492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280" y="63691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2000" y="6372360"/>
            <a:ext cx="308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440" y="6372360"/>
            <a:ext cx="2190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0A8BF-3D02-4A87-9879-321279049D3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5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5640" cy="6710400"/>
            <a:chOff x="0" y="68400"/>
            <a:chExt cx="8675640" cy="671040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7692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87480" cy="6710400"/>
              <a:chOff x="0" y="68400"/>
              <a:chExt cx="987480" cy="671040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69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6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78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6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0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97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6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4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78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78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01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5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0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5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499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68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69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608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786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62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4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97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70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42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78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7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03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52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02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58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01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66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17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28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48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30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2952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1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090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1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088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2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0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12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112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278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27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599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0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5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884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7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15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76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82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54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2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0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15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6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5996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564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1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2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06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784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0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768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7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44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2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57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59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6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55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240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47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0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56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18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48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4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2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6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780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440"/>
                <a:ext cx="9874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12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67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784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36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320"/>
                <a:ext cx="9874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0880"/>
                <a:ext cx="9874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00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9680"/>
                <a:ext cx="9874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400"/>
                <a:ext cx="9874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080" y="63576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400" y="6357600"/>
            <a:ext cx="2268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0840"/>
            <a:ext cx="1903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E8A906-3A67-4D73-AACB-3334695277FA}" type="slidenum">
              <a:rPr b="0" lang="es-ES" sz="1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70000" y="936720"/>
            <a:ext cx="73771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987480"/>
            <a:ext cx="73803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Instrumentos Musicale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de la Antigua Grec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66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  <a:ea typeface="Times New Roman"/>
              </a:rPr>
              <a:t>© </a:t>
            </a:r>
            <a:r>
              <a:rPr b="1" lang="es-ES" sz="2800" spc="-1" strike="noStrike">
                <a:solidFill>
                  <a:srgbClr val="a2a050"/>
                </a:solidFill>
                <a:latin typeface="Times New Roman"/>
              </a:rPr>
              <a:t>José Francisco Orteg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talle de un ánfora grieg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3600" y="2214720"/>
            <a:ext cx="38991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n el centro se ve a un músico que sostiene un arpa de ángulo; a la derecha alguien sostiene una lira y a la izquierda, arriba, hay una cítara</a:t>
            </a: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s. V  a. C. Museo Británico, Lond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840" y="2214720"/>
            <a:ext cx="3795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565200"/>
            <a:ext cx="73785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os preparativos del sacrificio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primer plano, a la izquierda, un personaje sostiene la lira y al fondo, en el centro, un joven toca la siringa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perteneciente a un gran friso sobre los misterios dionisíaco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09640" y="2405160"/>
            <a:ext cx="39020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do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erófono de lengüeta; solía tocarse por parej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intérprete rodea su cabeza con unas cintas (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beiá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) para evitar el cansancio y aumentar la presión del so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09640" y="2789280"/>
            <a:ext cx="3902040" cy="27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ule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sonido d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ra incisivo y penetrante, apto para las baca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Pintura etrusca, s. V a.C. Tomba dei Leopardi, Tarquinia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95560" y="2214720"/>
            <a:ext cx="312876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acerdote de Cib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odean al sacerdote de Cibeles distintos instrumentos utilizados en los rituales de la diosa: crótalos, pandero,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aulós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oble, y un pequeño tambor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Roma, Museo Capitolino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809640" y="2263680"/>
            <a:ext cx="390204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909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Volver al princip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8153280" y="14479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10800" y="5994"/>
                </a:moveTo>
                <a:lnTo>
                  <a:pt x="13376" y="8605"/>
                </a:ln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lnTo>
                  <a:pt x="17763" y="12957"/>
                </a:lnTo>
                <a:lnTo>
                  <a:pt x="16109" y="12957"/>
                </a:lnTo>
                <a:lnTo>
                  <a:pt x="16109" y="20146"/>
                </a:lnTo>
                <a:lnTo>
                  <a:pt x="5491" y="20146"/>
                </a:lnTo>
                <a:lnTo>
                  <a:pt x="5491" y="12957"/>
                </a:lnTo>
                <a:lnTo>
                  <a:pt x="3837" y="12957"/>
                </a:lnTo>
                <a:close/>
              </a:path>
              <a:path fill="darkenLess" w="21600" h="25914">
                <a:moveTo>
                  <a:pt x="13376" y="8605"/>
                </a:moveTo>
                <a:lnTo>
                  <a:pt x="13376" y="6864"/>
                </a:lnTo>
                <a:lnTo>
                  <a:pt x="15152" y="6864"/>
                </a:lnTo>
                <a:lnTo>
                  <a:pt x="15152" y="10381"/>
                </a:lnTo>
                <a:close/>
              </a:path>
              <a:path fill="darkenLess" w="21600" h="25914">
                <a:moveTo>
                  <a:pt x="9877" y="16456"/>
                </a:moveTo>
                <a:lnTo>
                  <a:pt x="11723" y="16456"/>
                </a:lnTo>
                <a:lnTo>
                  <a:pt x="11723" y="20146"/>
                </a:lnTo>
                <a:lnTo>
                  <a:pt x="16109" y="20146"/>
                </a:lnTo>
                <a:lnTo>
                  <a:pt x="16109" y="12957"/>
                </a:lnTo>
                <a:lnTo>
                  <a:pt x="5491" y="12957"/>
                </a:lnTo>
                <a:lnTo>
                  <a:pt x="5491" y="20146"/>
                </a:lnTo>
                <a:lnTo>
                  <a:pt x="9877" y="2014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posteri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863960" y="2214720"/>
            <a:ext cx="3903840" cy="39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la construcción de la lira se utilizaba como caja de resonancia el caparazón de una tortuga al que añadían dos brazos que servían de montantes, sostenidos por un yug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41280" y="2214720"/>
            <a:ext cx="303876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304920" cy="304920"/>
          </a:xfrm>
          <a:prstGeom prst="rect">
            <a:avLst/>
          </a:prstGeom>
          <a:ln w="12600">
            <a:solidFill>
              <a:srgbClr val="a2a05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ira: vista frontal y lat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s cuerdas, de lino o tripa, discurrían desde el yugo hasta la base de la caja de resonancia, pasando por el pu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63640" y="2214720"/>
            <a:ext cx="37926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Quirón y Aqui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centauro Quirón adiestró al famoso Aquiles, en el arte de la li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 algn="ct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gmento de un mural conservado en el Museo Arqueológico Nacional de Nápoles.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52560" y="2214720"/>
            <a:ext cx="361620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átiro con </a:t>
            </a: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y plec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edad de la lira, el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bárbito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e caracteriza por sus largos braz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olía pulsarse con un plectro de marfil o hues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09640" y="2697120"/>
            <a:ext cx="3902040" cy="29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003366"/>
                </a:solidFill>
                <a:latin typeface="Times New Roman"/>
              </a:rPr>
              <a:t>Phormin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la cítara homérica, mencionada con frecuencia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Ilíad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y en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Odisea.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De factura sencilla y con tres o cuatro cuerdas, se tocaba con u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 del s. V a. C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214720"/>
            <a:ext cx="347184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íta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 un instrumento de uso domést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iene siete cuerdas y una caja de resonancia parecida a la de la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phorminx;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suele llevar pintados unos oj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useo del Louvre, Pari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09640" y="2935440"/>
            <a:ext cx="3902040" cy="24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érprete de cítara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ítara de concierto. Es la utilizada por los músicos profesional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osee una gran caja de resonanc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sujeta con una correa y se pulsa con un plect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imes New Roman"/>
              </a:rPr>
              <a:t>Detalle de un ánfora, s. V a. C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76520" y="2214720"/>
            <a:ext cx="216828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rígo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l arpa se distingue de las liras por la longitud desigual de sus cuerd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apoyaba sobre las rodillas y se pulsaba con o sin plec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9640" y="2484360"/>
            <a:ext cx="3902040" cy="33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guiente diapositiva: pulsar el ratón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2:05:31Z</dcterms:created>
  <dc:creator>Win98</dc:creator>
  <dc:description/>
  <dc:language>en-US</dc:language>
  <cp:lastModifiedBy>Javier Valera</cp:lastModifiedBy>
  <dcterms:modified xsi:type="dcterms:W3CDTF">2005-02-05T12:32:09Z</dcterms:modified>
  <cp:revision>29</cp:revision>
  <dc:subject/>
  <dc:title>Bárbiton</dc:title>
</cp:coreProperties>
</file>