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7E81-E1EB-4399-A656-68B14134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492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280" y="4329360"/>
            <a:ext cx="795492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04BC-B1FA-4AD1-A142-731AB6A8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556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280" y="432936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5560" y="432936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6A72-2E1D-440A-9ECA-B5050793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99200" y="221472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89120" y="221472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280" y="432936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499200" y="432936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89120" y="432936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E535-2B29-4E59-B9C1-392A455A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48D2-7C24-4E3C-9B1B-732C8ABF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4920" cy="40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EF44-2F56-48E3-BB0D-302E0EEB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492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38E9-2B2C-422E-8104-0A307727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88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5560" y="2214720"/>
            <a:ext cx="388188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82B1-638B-4B8E-A08D-0D7CE692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0902-98CA-4630-957C-C730D8D2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565200"/>
            <a:ext cx="737568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DFF0-F4B4-4B10-B236-33175E12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5560" y="2214720"/>
            <a:ext cx="388188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280" y="432936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BD77-DD08-40DB-959A-57AF7425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4920" cy="40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CB37-5C35-4ABB-A6CA-B191EB0C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88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556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5560" y="432936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2A5A-DF8B-4A1B-979A-CFD84163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556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280" y="4329360"/>
            <a:ext cx="795492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67E0-733D-4738-8357-6C2EF8A9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492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280" y="4329360"/>
            <a:ext cx="795492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2367-8FD4-4A20-AF82-33AA85EF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556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280" y="432936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5560" y="432936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1811-6B1E-4837-8754-86355B33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499200" y="221472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89120" y="221472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280" y="432936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499200" y="432936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89120" y="432936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B868-2CBA-4CF7-85AD-1A61B981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492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4C2E-80FE-48A2-80AD-2D06D959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88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5560" y="2214720"/>
            <a:ext cx="388188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59B4-AB07-4591-821A-3BAF2DE8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6D62-E2F3-4631-8665-F9AC1636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565200"/>
            <a:ext cx="737568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3A57-FF2B-4B1B-B836-A38C1740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5560" y="2214720"/>
            <a:ext cx="388188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280" y="432936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87A6-B0C1-4D90-80CA-18EDEC41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88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556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5560" y="432936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9DDC-A490-4ABF-A46F-9ABC3E6D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556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280" y="4329360"/>
            <a:ext cx="795492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CFA1-E4CF-406B-8051-CD4A91EA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2160" cy="6710400"/>
            <a:chOff x="0" y="68400"/>
            <a:chExt cx="8912160" cy="671040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4400" cy="6710400"/>
              <a:chOff x="0" y="68400"/>
              <a:chExt cx="644400" cy="67104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6936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624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7880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644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012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59772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688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404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7884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7868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016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536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000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568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4996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684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6920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608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7864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628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4996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49756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708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424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7868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7888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036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520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020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588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016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668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172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284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4872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300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2952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180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0904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124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0888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256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052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128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112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2780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276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59928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076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584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8840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784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152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768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828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544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24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08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156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676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5996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564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172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24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060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784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04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768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752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44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60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24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572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592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60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552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240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476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00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56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184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48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40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28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36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60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780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44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12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672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784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36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32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088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00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2968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40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77120" cy="1779480"/>
              <a:chOff x="635040" y="325440"/>
              <a:chExt cx="8277120" cy="177948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3920" cy="14479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595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1680" cy="334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5920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492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280" y="63691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2000" y="6372360"/>
            <a:ext cx="308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440" y="6372360"/>
            <a:ext cx="2190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6B3F8-C303-426F-8514-FA35F42A7AA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5640" cy="6710400"/>
            <a:chOff x="0" y="68400"/>
            <a:chExt cx="8675640" cy="671040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7692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87480" cy="6710400"/>
              <a:chOff x="0" y="68400"/>
              <a:chExt cx="987480" cy="671040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6936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624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7880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644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012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59772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688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404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7884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7868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016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536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000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568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4996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684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6920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608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7864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628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4996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49756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708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424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7868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7888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036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520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020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588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016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668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172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284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4872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300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2952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180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0904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124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0888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256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052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128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112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2780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276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59928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076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584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8840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784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152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768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828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544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24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08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156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676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5996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564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172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24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060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784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04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768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752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44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60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24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572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592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60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552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240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476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00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56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184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48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40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28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36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60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780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44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12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672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784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36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32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088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00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2968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40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080" y="635760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400" y="6357600"/>
            <a:ext cx="2268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0840"/>
            <a:ext cx="19036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964FA10-A4AC-4DBE-AEC8-F198D406027C}" type="slidenum">
              <a:rPr b="0" lang="es-ES" sz="14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70000" y="936720"/>
            <a:ext cx="737712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987480"/>
            <a:ext cx="738036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Instrumentos Musicales</a:t>
            </a:r>
            <a:br>
              <a:rPr sz="4000"/>
            </a:b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 de la Antigua Greci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66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a2a050"/>
                </a:solidFill>
                <a:latin typeface="Times New Roman"/>
                <a:ea typeface="Times New Roman"/>
              </a:rPr>
              <a:t>© </a:t>
            </a:r>
            <a:r>
              <a:rPr b="1" lang="es-ES" sz="2800" spc="-1" strike="noStrike">
                <a:solidFill>
                  <a:srgbClr val="a2a050"/>
                </a:solidFill>
                <a:latin typeface="Times New Roman"/>
              </a:rPr>
              <a:t>José Francisco Orteg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advTm="8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dur="indefinite" fill="hold">
                            <p:stCondLst>
                              <p:cond delay="3800"/>
                            </p:stCondLst>
                            <p:childTnLst>
                              <p:par>
                                <p:cTn id="10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dur="indefinite" fill="hold">
                            <p:stCondLst>
                              <p:cond delay="6100"/>
                            </p:stCondLst>
                            <p:childTnLst>
                              <p:par>
                                <p:cTn id="14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Detalle de un ánfora grieg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863600" y="2214720"/>
            <a:ext cx="389916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n el centro se ve a un músico que sostiene un arpa de ángulo; a la derecha alguien sostiene una lira y a la izquierda, arriba, hay una cítara</a:t>
            </a:r>
            <a:r>
              <a:rPr b="1" lang="es-E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s. V  a. C. Museo Británico, Londr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861840" y="2214720"/>
            <a:ext cx="3795840" cy="38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856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Los preparativos del sacrificio”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n primer plano, a la izquierda, un personaje sostiene la lira y al fondo, en el centro, un joven toca la siringa</a:t>
            </a:r>
            <a:r>
              <a:rPr b="0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ragmento perteneciente a un gran friso sobre los misterios dionisíacos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useo Arqueológico Nacional de Nápoles.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809640" y="2405160"/>
            <a:ext cx="3902040" cy="35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003366"/>
                </a:solidFill>
                <a:latin typeface="Times New Roman"/>
              </a:rPr>
              <a:t>Aulós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dob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Aerófono de lengüeta; solía tocarse por pareja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l intérprete rodea su cabeza con unas cintas (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phorbeiá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) para evitar el cansancio y aumentar la presión del sop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809640" y="2789280"/>
            <a:ext cx="3902040" cy="27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ule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3984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l sonido del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aulós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ra incisivo y penetrante, apto para las bacanal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Pintura etrusca, s. V a.C. Tomba dei Leopardi, Tarquinia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95560" y="2214720"/>
            <a:ext cx="3128760" cy="38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Sacerdote de Cibe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odean al sacerdote de Cibeles distintos instrumentos utilizados en los rituales de la diosa: crótalos, pandero,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aulós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doble, y un pequeño tambor</a:t>
            </a: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spcBef>
                <a:spcPts val="34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es-ES" sz="1400" spc="-1" strike="noStrike">
                <a:solidFill>
                  <a:srgbClr val="003366"/>
                </a:solidFill>
                <a:latin typeface="Times New Roman"/>
              </a:rPr>
              <a:t>Roma, Museo Capitolino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809640" y="2263680"/>
            <a:ext cx="390204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590920" y="1447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Times New Roman"/>
              </a:rPr>
              <a:t>Volver al princip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>
            <a:hlinkClick r:id="" action="ppaction://hlinkshowjump?jump=firstslide"/>
          </p:cNvPr>
          <p:cNvSpPr/>
          <p:nvPr/>
        </p:nvSpPr>
        <p:spPr>
          <a:xfrm>
            <a:off x="8153280" y="144792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  <a:path fill="darken" w="21600" h="25914">
                <a:moveTo>
                  <a:pt x="10800" y="5994"/>
                </a:moveTo>
                <a:lnTo>
                  <a:pt x="13376" y="8605"/>
                </a:lnTo>
                <a:lnTo>
                  <a:pt x="13376" y="6864"/>
                </a:lnTo>
                <a:lnTo>
                  <a:pt x="15152" y="6864"/>
                </a:lnTo>
                <a:lnTo>
                  <a:pt x="15152" y="10381"/>
                </a:lnTo>
                <a:lnTo>
                  <a:pt x="17763" y="12957"/>
                </a:lnTo>
                <a:lnTo>
                  <a:pt x="16109" y="12957"/>
                </a:lnTo>
                <a:lnTo>
                  <a:pt x="16109" y="20146"/>
                </a:lnTo>
                <a:lnTo>
                  <a:pt x="5491" y="20146"/>
                </a:lnTo>
                <a:lnTo>
                  <a:pt x="5491" y="12957"/>
                </a:lnTo>
                <a:lnTo>
                  <a:pt x="3837" y="12957"/>
                </a:lnTo>
                <a:close/>
              </a:path>
              <a:path fill="darkenLess" w="21600" h="25914">
                <a:moveTo>
                  <a:pt x="13376" y="8605"/>
                </a:moveTo>
                <a:lnTo>
                  <a:pt x="13376" y="6864"/>
                </a:lnTo>
                <a:lnTo>
                  <a:pt x="15152" y="6864"/>
                </a:lnTo>
                <a:lnTo>
                  <a:pt x="15152" y="10381"/>
                </a:lnTo>
                <a:close/>
              </a:path>
              <a:path fill="darkenLess" w="21600" h="25914">
                <a:moveTo>
                  <a:pt x="9877" y="16456"/>
                </a:moveTo>
                <a:lnTo>
                  <a:pt x="11723" y="16456"/>
                </a:lnTo>
                <a:lnTo>
                  <a:pt x="11723" y="20146"/>
                </a:lnTo>
                <a:lnTo>
                  <a:pt x="16109" y="20146"/>
                </a:lnTo>
                <a:lnTo>
                  <a:pt x="16109" y="12957"/>
                </a:lnTo>
                <a:lnTo>
                  <a:pt x="5491" y="12957"/>
                </a:lnTo>
                <a:lnTo>
                  <a:pt x="5491" y="20146"/>
                </a:lnTo>
                <a:lnTo>
                  <a:pt x="9877" y="2014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0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 fill="hold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dur="indefinite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Lira: vista posterio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863960" y="2214720"/>
            <a:ext cx="3903840" cy="39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Para la construcción de la lira se utilizaba como caja de resonancia el caparazón de una tortuga al que añadían dos brazos que servían de montantes, sostenidos por un yug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241280" y="2214720"/>
            <a:ext cx="3038760" cy="38811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6300720" y="333360"/>
            <a:ext cx="304920" cy="304920"/>
          </a:xfrm>
          <a:prstGeom prst="rect">
            <a:avLst/>
          </a:prstGeom>
          <a:ln w="12600">
            <a:solidFill>
              <a:srgbClr val="a2a05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Lira: vista frontal y later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Las cuerdas, de lino o tripa, discurrían desde el yugo hasta la base de la caja de resonancia, pasando por el puent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863640" y="2214720"/>
            <a:ext cx="3792600" cy="38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Quirón y Aqui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l centauro Quirón adiestró al famoso Aquiles, en el arte de la lir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 algn="ctr">
              <a:spcBef>
                <a:spcPts val="4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ragmento de un mural conservado en el Museo Arqueológico Nacional de Nápoles.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952560" y="2214720"/>
            <a:ext cx="3616200" cy="38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Sátiro con </a:t>
            </a:r>
            <a:r>
              <a:rPr b="0" i="1" lang="es-ES" sz="4400" spc="-1" strike="noStrike">
                <a:solidFill>
                  <a:srgbClr val="003366"/>
                </a:solidFill>
                <a:latin typeface="Times New Roman"/>
              </a:rPr>
              <a:t>bárbiton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y plect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3984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Variedad de la lira, el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bárbiton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se caracteriza por sus largos brazo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3984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olía pulsarse con un plectro de marfil o hues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809640" y="2697120"/>
            <a:ext cx="3902040" cy="291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003366"/>
                </a:solidFill>
                <a:latin typeface="Times New Roman"/>
              </a:rPr>
              <a:t>Phormin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s la cítara homérica, mencionada con frecuencia en la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Ilíada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y en la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Odisea.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De factura sencilla y con tres o cuatro cuerdas, se tocaba con un plectr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Times New Roman"/>
              </a:rPr>
              <a:t>Detalle de un ánfora del s. V a. C.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023840" y="2214720"/>
            <a:ext cx="3471840" cy="38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Cítar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s un instrumento de uso doméstic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Tiene siete cuerdas y una caja de resonancia parecida a la de la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phorminx;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suele llevar pintados unos ojo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Museo del Louvre, Paris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809640" y="2935440"/>
            <a:ext cx="3902040" cy="24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Intérprete de cítara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40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ítara de concierto. Es la utilizada por los músicos profesionale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Posee una gran caja de resonanci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e sujeta con una correa y se pulsa con un plectr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Times New Roman"/>
              </a:rPr>
              <a:t>Detalle de un ánfora, s. V a. C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676520" y="2214720"/>
            <a:ext cx="2168280" cy="38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Trígon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l arpa se distingue de las liras por la longitud desigual de sus cuerda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e apoyaba sobre las rodillas y se pulsaba con o sin plectr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809640" y="2484360"/>
            <a:ext cx="3902040" cy="334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9T12:05:31Z</dcterms:created>
  <dc:creator>Win98</dc:creator>
  <dc:description/>
  <dc:language>en-US</dc:language>
  <cp:lastModifiedBy>Javier Valera</cp:lastModifiedBy>
  <dcterms:modified xsi:type="dcterms:W3CDTF">2005-02-05T12:32:09Z</dcterms:modified>
  <cp:revision>29</cp:revision>
  <dc:subject/>
  <dc:title>Bárbiton</dc:title>
</cp:coreProperties>
</file>