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18B-0DA8-4342-9C83-6A1D6104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492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280" y="4329360"/>
            <a:ext cx="795492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48BE-047D-4EE6-BDC2-24DA921B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28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556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10F0-5CE7-454E-9B70-CC0B98CB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99200" y="221472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89120" y="221472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280" y="432936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99200" y="432936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89120" y="432936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21C-7859-4D1E-B5AC-3FA0686F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7678-6188-407F-B283-B8D042F1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492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6288-10B3-4FB8-AF3B-DA696FA9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492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51C5-7290-4B05-8192-15D374D0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C74D-91A4-4B41-AD41-026564CF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37E0-22D6-44D2-8398-A29BD4CA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565200"/>
            <a:ext cx="737568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C13C-0B0F-4A55-BBC3-F7C25B82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28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5417-0A9B-4CB2-B3F4-244F4071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492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33DC-C0E3-49E7-8D2E-59DDD723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556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D758-2026-486B-8243-E4E8F6F1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280" y="4329360"/>
            <a:ext cx="795492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509C-2A1E-4712-B46E-31A6194A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492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280" y="4329360"/>
            <a:ext cx="795492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4A8E-E36C-491C-B1B8-9D067DB9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28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556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6B28-F44B-42F0-93D2-D139033A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499200" y="221472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89120" y="221472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280" y="432936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499200" y="432936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89120" y="432936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3DB2-36EF-40EC-804C-E68F2B36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492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5B37-4F05-4D83-A193-41198C28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26A1-7FDA-4803-9694-BF71CEA7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705-9340-43B5-B88A-33B6963B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565200"/>
            <a:ext cx="737568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57A-B3F6-4590-9D01-F78A2A63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28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6A0-579F-41DB-A952-3D5FFC75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556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A7A-2868-45FB-B5FE-315C76D7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280" y="4329360"/>
            <a:ext cx="795492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E98-03FB-4AAF-A271-0B3FF85B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2160" cy="6710400"/>
            <a:chOff x="0" y="68400"/>
            <a:chExt cx="8912160" cy="671040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4400" cy="6710400"/>
              <a:chOff x="0" y="68400"/>
              <a:chExt cx="644400" cy="67104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6936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624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7880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644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012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59772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688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404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7884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7868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016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536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000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568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4996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684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6920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608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7864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628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4996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49756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708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424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7868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7888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036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520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020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588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016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668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172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284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4872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300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2952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180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0904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124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0888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256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052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128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112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2780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276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59928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076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584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8840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784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152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768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828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544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24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08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156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676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5996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564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172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24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060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784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04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768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752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44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60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24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572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592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60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552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240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476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00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56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184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48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40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28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36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60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780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44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12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672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784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36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32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088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00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968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40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77120" cy="1779480"/>
              <a:chOff x="635040" y="325440"/>
              <a:chExt cx="8277120" cy="177948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3920" cy="14479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595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1680" cy="334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5920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492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280" y="63691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2000" y="6372360"/>
            <a:ext cx="308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440" y="6372360"/>
            <a:ext cx="2190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6EFF4-41C3-4E51-A229-B7F6A9ECC61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5640" cy="6710400"/>
            <a:chOff x="0" y="68400"/>
            <a:chExt cx="8675640" cy="671040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7692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87480" cy="6710400"/>
              <a:chOff x="0" y="68400"/>
              <a:chExt cx="987480" cy="671040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6936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624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7880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644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012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59772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688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404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7884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7868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016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536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000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568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4996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684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6920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608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7864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628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4996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49756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708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424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7868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7888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036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520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020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588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016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668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172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284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4872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300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2952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180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0904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124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0888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256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052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128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112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2780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276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59928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076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584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8840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784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152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768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828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544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24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08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156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676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5996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564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172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24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060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784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04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768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752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44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60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24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572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592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60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552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240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476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00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56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184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48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40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28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36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60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780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44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12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672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784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36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32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088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00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968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40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080" y="635760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400" y="6357600"/>
            <a:ext cx="2268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0840"/>
            <a:ext cx="19036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A3F397D-1EF8-49D3-818F-8ED509665E91}" type="slidenum">
              <a:rPr b="0" lang="es-ES" sz="14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70000" y="936720"/>
            <a:ext cx="73771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987480"/>
            <a:ext cx="73803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Instrumentos Musicales</a:t>
            </a:r>
            <a:br>
              <a:rPr sz="4000"/>
            </a:b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 de la Antigua Greci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66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a2a050"/>
                </a:solidFill>
                <a:latin typeface="Times New Roman"/>
                <a:ea typeface="Times New Roman"/>
              </a:rPr>
              <a:t>© </a:t>
            </a:r>
            <a:r>
              <a:rPr b="1" lang="es-ES" sz="2800" spc="-1" strike="noStrike">
                <a:solidFill>
                  <a:srgbClr val="a2a050"/>
                </a:solidFill>
                <a:latin typeface="Times New Roman"/>
              </a:rPr>
              <a:t>José Francisco Orteg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advTm="8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3800"/>
                            </p:stCondLst>
                            <p:childTnLst>
                              <p:par>
                                <p:cTn id="10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fill="hold">
                            <p:stCondLst>
                              <p:cond delay="6100"/>
                            </p:stCondLst>
                            <p:childTnLst>
                              <p:par>
                                <p:cTn id="1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Detalle de un ánfora grieg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863600" y="2214720"/>
            <a:ext cx="389916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n el centro se ve a un músico que sostiene un arpa de ángulo; a la derecha alguien sostiene una lira y a la izquierda, arriba, hay una cítara</a:t>
            </a:r>
            <a:r>
              <a:rPr b="1" lang="es-E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s. V  a. C. Museo Británico, Londr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861840" y="2214720"/>
            <a:ext cx="3795840" cy="38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856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Los preparativos del sacrificio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n primer plano, a la izquierda, un personaje sostiene la lira y al fondo, en el centro, un joven toca la siringa</a:t>
            </a:r>
            <a:r>
              <a:rPr b="0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ragmento perteneciente a un gran friso sobre los misterios dionisíacos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useo Arqueológico Nacional de Nápoles.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09640" y="2405160"/>
            <a:ext cx="3902040" cy="35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003366"/>
                </a:solidFill>
                <a:latin typeface="Times New Roman"/>
              </a:rPr>
              <a:t>Auló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dob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erófono de lengüeta; solía tocarse por pareja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l intérprete rodea su cabeza con unas cintas (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phorbeiá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) para evitar el cansancio y aumentar la presión del sop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809640" y="2789280"/>
            <a:ext cx="3902040" cy="27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ule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398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l sonido del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aulós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ra incisivo y penetrante, apto para las bacana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Pintura etrusca, s. V a.C. Tomba dei Leopardi, Tarquinia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95560" y="2214720"/>
            <a:ext cx="3128760" cy="38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Sacerdote de Cibe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odean al sacerdote de Cibeles distintos instrumentos utilizados en los rituales de la diosa: crótalos, pandero,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aulós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doble, y un pequeño tambor</a:t>
            </a: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spcBef>
                <a:spcPts val="34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es-ES" sz="1400" spc="-1" strike="noStrike">
                <a:solidFill>
                  <a:srgbClr val="003366"/>
                </a:solidFill>
                <a:latin typeface="Times New Roman"/>
              </a:rPr>
              <a:t>Roma, Museo Capitolino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809640" y="2263680"/>
            <a:ext cx="390204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590920" y="1447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imes New Roman"/>
              </a:rPr>
              <a:t>Volver al princip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>
            <a:hlinkClick r:id="" action="ppaction://hlinkshowjump?jump=firstslide"/>
          </p:cNvPr>
          <p:cNvSpPr/>
          <p:nvPr/>
        </p:nvSpPr>
        <p:spPr>
          <a:xfrm>
            <a:off x="8153280" y="144792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  <a:path fill="darken" w="21600" h="25914">
                <a:moveTo>
                  <a:pt x="10800" y="5994"/>
                </a:moveTo>
                <a:lnTo>
                  <a:pt x="13376" y="8605"/>
                </a:lnTo>
                <a:lnTo>
                  <a:pt x="13376" y="6864"/>
                </a:lnTo>
                <a:lnTo>
                  <a:pt x="15152" y="6864"/>
                </a:lnTo>
                <a:lnTo>
                  <a:pt x="15152" y="10381"/>
                </a:lnTo>
                <a:lnTo>
                  <a:pt x="17763" y="12957"/>
                </a:lnTo>
                <a:lnTo>
                  <a:pt x="16109" y="12957"/>
                </a:lnTo>
                <a:lnTo>
                  <a:pt x="16109" y="20146"/>
                </a:lnTo>
                <a:lnTo>
                  <a:pt x="5491" y="20146"/>
                </a:lnTo>
                <a:lnTo>
                  <a:pt x="5491" y="12957"/>
                </a:lnTo>
                <a:lnTo>
                  <a:pt x="3837" y="12957"/>
                </a:lnTo>
                <a:close/>
              </a:path>
              <a:path fill="darkenLess" w="21600" h="25914">
                <a:moveTo>
                  <a:pt x="13376" y="8605"/>
                </a:moveTo>
                <a:lnTo>
                  <a:pt x="13376" y="6864"/>
                </a:lnTo>
                <a:lnTo>
                  <a:pt x="15152" y="6864"/>
                </a:lnTo>
                <a:lnTo>
                  <a:pt x="15152" y="10381"/>
                </a:lnTo>
                <a:close/>
              </a:path>
              <a:path fill="darkenLess" w="21600" h="25914">
                <a:moveTo>
                  <a:pt x="9877" y="16456"/>
                </a:moveTo>
                <a:lnTo>
                  <a:pt x="11723" y="16456"/>
                </a:lnTo>
                <a:lnTo>
                  <a:pt x="11723" y="20146"/>
                </a:lnTo>
                <a:lnTo>
                  <a:pt x="16109" y="20146"/>
                </a:lnTo>
                <a:lnTo>
                  <a:pt x="16109" y="12957"/>
                </a:lnTo>
                <a:lnTo>
                  <a:pt x="5491" y="12957"/>
                </a:lnTo>
                <a:lnTo>
                  <a:pt x="5491" y="20146"/>
                </a:lnTo>
                <a:lnTo>
                  <a:pt x="9877" y="2014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0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dur="indefinite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Lira: vista posteri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863960" y="2214720"/>
            <a:ext cx="3903840" cy="39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ara la construcción de la lira se utilizaba como caja de resonancia el caparazón de una tortuga al que añadían dos brazos que servían de montantes, sostenidos por un yug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241280" y="2214720"/>
            <a:ext cx="3038760" cy="38811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6300720" y="333360"/>
            <a:ext cx="304920" cy="304920"/>
          </a:xfrm>
          <a:prstGeom prst="rect">
            <a:avLst/>
          </a:prstGeom>
          <a:ln w="12600">
            <a:solidFill>
              <a:srgbClr val="a2a05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Lira: vista frontal y later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Las cuerdas, de lino o tripa, discurrían desde el yugo hasta la base de la caja de resonancia, pasando por el puent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863640" y="2214720"/>
            <a:ext cx="3792600" cy="38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Quirón y Aqui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l centauro Quirón adiestró al famoso Aquiles, en el arte de la lir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 algn="ctr">
              <a:spcBef>
                <a:spcPts val="4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ragmento de un mural conservado en el Museo Arqueológico Nacional de Nápoles.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952560" y="2214720"/>
            <a:ext cx="3616200" cy="38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Sátiro con </a:t>
            </a:r>
            <a:r>
              <a:rPr b="0" i="1" lang="es-ES" sz="4400" spc="-1" strike="noStrike">
                <a:solidFill>
                  <a:srgbClr val="003366"/>
                </a:solidFill>
                <a:latin typeface="Times New Roman"/>
              </a:rPr>
              <a:t>bárbiton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y plect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398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Variedad de la lira, el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bárbiton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se caracteriza por sus largos braz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398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olía pulsarse con un plectro de marfil o hues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09640" y="2697120"/>
            <a:ext cx="3902040" cy="29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003366"/>
                </a:solidFill>
                <a:latin typeface="Times New Roman"/>
              </a:rPr>
              <a:t>Phormin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s la cítara homérica, mencionada con frecuencia en la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Ilíada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y en la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Odisea.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De factura sencilla y con tres o cuatro cuerdas, se tocaba con un plectr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Times New Roman"/>
              </a:rPr>
              <a:t>Detalle de un ánfora del s. V a. C.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023840" y="2214720"/>
            <a:ext cx="3471840" cy="38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ítar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s un instrumento de uso doméstic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Tiene siete cuerdas y una caja de resonancia parecida a la de la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phorminx;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suele llevar pintados unos oj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Museo del Louvre, Paris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809640" y="2935440"/>
            <a:ext cx="3902040" cy="24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Intérprete de cítara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ítara de concierto. Es la utilizada por los músicos profesionale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osee una gran caja de resonanci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 sujeta con una correa y se pulsa con un plectr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Times New Roman"/>
              </a:rPr>
              <a:t>Detalle de un ánfora, s. V a. C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676520" y="2214720"/>
            <a:ext cx="2168280" cy="38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Trígon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l arpa se distingue de las liras por la longitud desigual de sus cuerda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 apoyaba sobre las rodillas y se pulsaba con o sin plectr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809640" y="2484360"/>
            <a:ext cx="3902040" cy="334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12:05:31Z</dcterms:created>
  <dc:creator>Win98</dc:creator>
  <dc:description/>
  <dc:language>en-US</dc:language>
  <cp:lastModifiedBy>Javier Valera</cp:lastModifiedBy>
  <dcterms:modified xsi:type="dcterms:W3CDTF">2005-02-05T12:32:09Z</dcterms:modified>
  <cp:revision>29</cp:revision>
  <dc:subject/>
  <dc:title>Bárbiton</dc:title>
</cp:coreProperties>
</file>