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9703-7B60-4FD4-8BAF-992FDACB5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0E6A-996E-4912-B8CF-301459E0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FD4C-20A0-431D-B92F-63F506CB1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5BE5-A8EF-4BC9-94D8-E3F089DC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898E-41BB-4798-B779-8095C841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077C-93B5-4660-834B-78A165D4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9897-626F-4D32-B1B5-0EA2D49A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BA6A-1455-469A-83CD-411A4B95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9D06-BB08-4004-ABC2-C388BC69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29B9-4916-4217-AEF3-EAE94A61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2D03-D557-46DF-836C-2C2F3964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0AB0-A93D-4057-9E21-B0DAD66F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F476-74AA-4521-8919-4CE52564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659C-C9AF-42CB-AFC7-6071EB0A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8A40-C676-4466-A633-AB75053E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4288-D2C7-409B-85C1-48E32BF2D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5629-DE99-42FA-A1F0-847B8EE4E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D6DE-332F-4D9E-885F-7E450BB7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8196-5337-41F5-9D6E-D0BCFFB6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546E-FFBC-4173-AE66-364B17C9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9307-7B61-49C5-B762-0720FC60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51DD-11D4-404C-A8FC-F2A7EFB5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0A50-9D40-4B1C-9B02-41195B7A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0F09-ACF6-43B3-A1A4-88926CBF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114E-48EC-4466-9736-8C174EA04F8E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A8B7-7CDF-4C33-871D-81098FCE31E5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Valors ocupacion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Els valors ocupacionals són les expectatives positives que tenim de la nostra feina, és a dir, tot allò que els produirà satisfacció d'una ocupació. Alguns dels valors ocupacionals són: seguretat econòmica, estabilitat laboral, relacions interpersonals, realització personal, èxit, responsabilitat, disponibilitat geogràfica, disponibilitat horària, desig de promoció i aspiracions econòmiques,..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23:54:03Z</dcterms:created>
  <dc:creator>pc</dc:creator>
  <dc:description/>
  <dc:language>en-US</dc:language>
  <cp:lastModifiedBy>pc</cp:lastModifiedBy>
  <dcterms:modified xsi:type="dcterms:W3CDTF">2013-01-08T23:56:05Z</dcterms:modified>
  <cp:revision>1</cp:revision>
  <dc:subject/>
  <dc:title>Valors ocupacionals</dc:title>
</cp:coreProperties>
</file>