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4CB-3C25-449D-9D16-E8D484AF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18E-E8AB-4383-A2C5-7285ABB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7BB-A769-45B3-9CC5-F81CCDDF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9F4-3A8B-403B-B156-88D430F7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06E9-482E-47BD-BC4C-27E92FEE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9B58-E568-4515-824A-5371E59C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1411-0123-4D9A-BC74-30985D9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F9B4-F861-4F5C-988C-E42EBE73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2847-3B1D-4FD6-AFE9-8A863A7B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5C43-5D87-4F78-9211-B64D1C86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96CC-F425-4195-842C-0E5A7781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D3B-13F9-48F2-BF22-55CE0047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9C30-FDA2-4A22-82B6-30112B7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C135-FCB0-46A3-BB82-6542290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CEF2-A782-4C1F-8032-3AF2610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FAF6-DD83-43DC-A990-4641306F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BCA-EE5A-4A01-9243-461C25A6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030-9004-49C2-9B96-864C4477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E40-6DE9-4790-A6D6-6DC690A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5F8-20AE-4A8C-9E9C-50E14EB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575-7009-40A8-AA17-04E64E58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A0F-9EC9-4144-8D15-A5EFAA0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6CE-0D3F-45C2-A060-8868606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F96-BC0B-4AB9-BE36-EDF83363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568-A5E6-42CD-9753-73A46206464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6C3-3C8B-4A12-B6EB-88927A111DD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lors ocupac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s valors ocupacionals són les expectatives positives que tenim de la nostra feina, és a dir, tot allò que els produirà satisfacció d'una ocupació. Alguns dels valors ocupacionals són: seguretat econòmica, estabilitat laboral, relacions interpersonals, realització personal, èxit, responsabilitat, disponibilitat geogràfica, disponibilitat horària, desig de promoció i aspiracions econòmiques,..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4:03Z</dcterms:created>
  <dc:creator>pc</dc:creator>
  <dc:description/>
  <dc:language>en-US</dc:language>
  <cp:lastModifiedBy>pc</cp:lastModifiedBy>
  <dcterms:modified xsi:type="dcterms:W3CDTF">2013-01-08T23:56:05Z</dcterms:modified>
  <cp:revision>1</cp:revision>
  <dc:subject/>
  <dc:title>Valors ocupacionals</dc:title>
</cp:coreProperties>
</file>