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D16-2C28-405F-A900-32CF1A49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63B-35B6-4CE0-BD74-1EDC3AF3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794-A4BD-42CE-9E02-049B1B5E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5F2-5DF6-4066-A3FD-AFC5C099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4D0F-1BC2-4809-9821-F9314772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4459-5863-412E-BBF3-C5DBC441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A0E0-03F2-4BAB-9816-6F21A5DD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BEC8-A5ED-41AF-8799-D18C81B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05C5-358A-4B7D-81A2-D388CB94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80E5-C762-4542-A537-3F038B6E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2CA5-C130-4B2D-8512-0D0DF626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49E-F098-4E7C-95D1-48238F12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A77F-96C1-4B43-978B-67A59F8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4193-D242-411D-A1BC-BA98F907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350F-FA53-411F-A9B2-C7262C35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1E5A-8A66-408A-8779-40C1F3E8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8CBF-64E9-4C5F-A53E-103303AA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62E-FFF3-45B9-8431-B2EFFFBE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BBF-9B39-4519-940A-BBF61F44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C11-DC64-48AF-90C4-79FFB367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5B1-0945-46E6-A068-90B5199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C37-FB45-49F3-A811-21091CA9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4E4-E6BD-4713-8917-971D3F1A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815-AA08-4F24-BA30-C1D2619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4EE1-68F7-49CF-87F2-47E7C3E924B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4336-489E-46D1-B671-7EC687B9083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alors ocupac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s valors ocupacionals són les expectatives positives que tenim de la nostra feina, és a dir, tot allò que els produirà satisfacció d'una ocupació. Alguns dels valors ocupacionals són: seguretat econòmica, estabilitat laboral, relacions interpersonals, realització personal, èxit, responsabilitat, disponibilitat geogràfica, disponibilitat horària, desig de promoció i aspiracions econòmiques,..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54:03Z</dcterms:created>
  <dc:creator>pc</dc:creator>
  <dc:description/>
  <dc:language>en-US</dc:language>
  <cp:lastModifiedBy>pc</cp:lastModifiedBy>
  <dcterms:modified xsi:type="dcterms:W3CDTF">2013-01-08T23:56:05Z</dcterms:modified>
  <cp:revision>1</cp:revision>
  <dc:subject/>
  <dc:title>Valors ocupacionals</dc:title>
</cp:coreProperties>
</file>