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7EE-9FBF-4791-9C99-C4E1EFF2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C28-659C-4A54-8EC3-7AF9F0F2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660-6627-4C17-8064-04C8AE7C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F43-D41D-43B5-9893-CE9F5A12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7ECA-334C-4B1F-A676-23CF961F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7CC4-2823-4091-9862-B77AD01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15F-9F92-4F6B-B8FD-3947925F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9969-3AED-4651-AA69-23A85BCE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36EE-62D8-4E50-8E27-9A94E8F0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D70E-1A24-40F7-BC5A-929634BA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E886-0685-4598-BF09-FBA95E1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C4D-E0C1-4806-B737-6E33271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2DB4-9310-4F1C-8F98-D025A7B9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8FCB-611B-45FD-9277-C91C0A2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93B3-8127-460A-8AED-0D3E7063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4D60-9446-4FC2-BB65-D54A176A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3436-509E-437E-91EA-410C761A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B7C-89DC-4C3A-905B-3EE5786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866-5D3E-4E3F-ABE2-2268437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D16-B054-47DB-9920-856FB7B7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0C2-9402-42F1-8FE9-2823ED25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3CB-818D-4CB0-AB49-754C239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563-0068-4F32-BC69-037E3CF9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FFF-D250-46BD-8EB4-ACFEE23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594D-3168-4D71-87C0-300106A90BB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07AE-D5E0-49DB-8D6D-F206EC8FD97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700" spc="-1" strike="noStrike">
                <a:solidFill>
                  <a:srgbClr val="ffffcc"/>
                </a:solidFill>
                <a:latin typeface="Arial"/>
              </a:rPr>
              <a:t>Personalit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a personalitat és el conjunt de trets cognitius i característics d'una persona que la distingeixen d'una altr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Els diferents tipus de personalitat fan que cada individu encaixi millor en una professió que en una altr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7:40Z</dcterms:created>
  <dc:creator>pc</dc:creator>
  <dc:description/>
  <dc:language>en-US</dc:language>
  <cp:lastModifiedBy>pc</cp:lastModifiedBy>
  <dcterms:modified xsi:type="dcterms:W3CDTF">2013-01-08T23:58:30Z</dcterms:modified>
  <cp:revision>1</cp:revision>
  <dc:subject/>
  <dc:title>Personalitat</dc:title>
</cp:coreProperties>
</file>