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A46B-A804-4AB9-B782-EEC8C9A9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139-679A-4E8E-8F3A-C5D83A48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74AF-84C2-4797-9BD4-FFE4E95F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E244-485F-455D-97F1-4D225869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1EBB-1712-4F10-893E-33D9C492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B64E-0B20-4297-B059-83C78BD0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7F31-758F-48F4-B9E0-5BF9515C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D438-CAE9-4ACB-856C-38B62762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3492-28AC-4958-ADB1-A3AE0E9C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EB32-63B5-4649-9759-01F99323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776F-9FC0-4F2B-9054-A4097624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F932-9501-48E9-A7E2-1485AD61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9A3A-4CE2-41D2-B95B-43D2CA5D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04EE-C6F6-4AB4-A5FF-286AC781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9FE8-2AD8-4451-9486-8B1B6A29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BF1C-405A-4250-B2DE-049CD96C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3169-F13D-4090-BC49-C4EFDEEA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82F-5893-42C5-96D1-CC796E33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35A-DFEE-4FA8-A581-2C04C2CB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3F8A-F2FA-451A-8F6A-B57C6E5C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43E6-8FDD-445B-91B3-36EAD6B6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DB9B-A18A-4083-8AA7-8446A134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ECFC-B8F1-4EFC-9FDE-3DD9B3E2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C1D5-F64D-44E6-BB0F-CC78A818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D426-E016-4F21-BD59-0D05574A69A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78E0-3C44-4FB9-9BC6-E8E7B8F72DB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700" spc="-1" strike="noStrike">
                <a:solidFill>
                  <a:srgbClr val="ffffcc"/>
                </a:solidFill>
                <a:latin typeface="Arial"/>
              </a:rPr>
              <a:t>Personalit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La personalitat és el conjunt de trets cognitius i característics d'una persona que la distingeixen d'una altra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Els diferents tipus de personalitat fan que cada individu encaixi millor en una professió que en una altra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23:57:40Z</dcterms:created>
  <dc:creator>pc</dc:creator>
  <dc:description/>
  <dc:language>en-US</dc:language>
  <cp:lastModifiedBy>pc</cp:lastModifiedBy>
  <dcterms:modified xsi:type="dcterms:W3CDTF">2013-01-08T23:58:30Z</dcterms:modified>
  <cp:revision>1</cp:revision>
  <dc:subject/>
  <dc:title>Personalitat</dc:title>
</cp:coreProperties>
</file>