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E19-7BFF-47BA-AFFF-09A33536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A4C-C243-414D-872A-5942B7C4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B51-A740-4CA6-B212-D5539573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00F-0F88-4ECD-97EB-0E27396C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1107-FFE3-4419-B39D-5D6D7636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8BA6-4DE3-4993-9C57-5D6C6F1B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3068-BD6D-41AA-BDF8-4EC961DF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FD41-1C38-4855-ACEC-1455C524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EB9D-8A3A-456C-A0E8-F5492D8B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3825-A473-45A9-8587-4613C4E1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7AD6-6EFB-46B6-A53F-3AE4A284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12B-7515-418B-8C6B-C7817EC5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9670-2780-4F61-8FE1-A364611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D5B9-048A-4796-B7E3-8F781169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E64F-DE2C-467C-9854-19C8806A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08D5-69CA-4990-ABB0-4AEF3664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567F-9D12-4F64-94AB-A6A927AF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49E-7A5A-4092-92E2-1FAD3DA1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EAF-46B7-48F7-9828-44362571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7E6-7798-4061-B9AA-D81E85E6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599-314F-47F3-A7FC-08811E78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F35-50BC-4510-BC14-1FA56C9C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428-7024-4653-844E-EBCBD90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D95-ED57-4250-894E-BA2E6E32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2AE1-0EC9-4B43-A462-FD65D448F2B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6917-8094-42BB-B0BA-9CB01B61B86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700" spc="-1" strike="noStrike">
                <a:solidFill>
                  <a:srgbClr val="ffffcc"/>
                </a:solidFill>
                <a:latin typeface="Arial"/>
              </a:rPr>
              <a:t>Personalit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La personalitat és el conjunt de trets cognitius i característics d'una persona que la distingeixen d'una altra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Els diferents tipus de personalitat fan que cada individu encaixi millor en una professió que en una altra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57:40Z</dcterms:created>
  <dc:creator>pc</dc:creator>
  <dc:description/>
  <dc:language>en-US</dc:language>
  <cp:lastModifiedBy>pc</cp:lastModifiedBy>
  <dcterms:modified xsi:type="dcterms:W3CDTF">2013-01-08T23:58:30Z</dcterms:modified>
  <cp:revision>1</cp:revision>
  <dc:subject/>
  <dc:title>Personalitat</dc:title>
</cp:coreProperties>
</file>