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9497-48C7-4899-98DC-113C077D9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5FB1-63DD-4191-ADE1-CD4766BE9E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0CC7-287B-40EF-BAC2-E83726783A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855F-DE18-4CDB-BB1E-63B0B1B4F2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C7E9-7D48-4A46-AA6F-2D72B4D3F6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6F8B-41BF-4EF3-89B6-CFE55A0064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1024-43CA-449C-A8BA-B679A09E6A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D24D-8703-4366-8355-B549AEE331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768A-5EFB-4E35-AA43-F558200729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1FDE-031E-41DB-B7E2-8B0BB1BEE6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6E00-D47D-49E4-8CE3-C713AAFE8C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4010-783E-4668-9C27-75264A495C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0069-068F-43E6-856E-04244378FE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2034-17F0-42E0-AB24-74D0EA0B01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2D3F-7FA9-4CAA-B891-5591B37A1E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1BA0-C157-4164-B358-E977E36486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8967-58C0-45ED-9915-CF110F841A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B435-175E-452D-99CA-CEC1287E39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15F2-25B8-4BE3-829E-89E9262BCF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2959-5AD8-46CD-AFDF-1C5A31ACBB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FDEB-85CB-4A45-8147-0B5CAC91F9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1013-E1A5-4114-A965-765803DE62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E9EC-C0C8-4F4E-AA44-B1E8E8A86D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DD3A-C91A-418E-AA36-E8CA454CCE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6FF3-E462-433B-A461-F9A0EC43B4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D56F-DC4E-4AEB-BBF4-0171E2CE71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1759-9D61-45FD-ACEA-96A88665EB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C2FA-41F4-4C77-AF07-956FB7D7BA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E7D3-3F17-40C8-8104-0FF4E518C8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B35E-4A34-4FA1-B081-599987EA5D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4E40-E376-41F4-9C6A-580F0FD035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C0F8-8D99-4A1D-A990-9175B1784F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0C60-C184-48C5-AEF6-DCC399F1A3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527E-A569-48E9-A03E-B5C977AD8C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1879-87AF-48D4-B7BD-7A01B82479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3197-1DD7-4D22-AA4F-A577A8A61B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42C8-18F4-49A3-AE3F-51A40D0F56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9B5A-A50B-40CD-88DA-99FEC25010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5724-976F-4959-8E70-53DDF75B97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3C6E-797E-4130-8A4D-E7AC5C9CF5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237E-EAEE-4F22-BC2D-1CE4BADAB1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A058-DBB4-4C40-B3E8-C32CCA1E4C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EDDC-88D6-4FD7-8F14-D445BB5EC6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BFDD-D39B-4454-9851-E4C189AD78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64CB-C2E9-4BEA-907D-680460984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3893-D4FF-4ABA-ABC0-0282BBC8E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1F33-DAD5-4959-8752-937D0107D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800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544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800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544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963E-6355-4FB5-B7AB-4063473D34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C712-A663-4CB4-9796-08DD49CDF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D7D6-EFF3-4181-AF25-9855C987D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7D83-04EE-4281-A474-AD135019E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F76C-24E0-4B26-A52C-245E2DA2E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115560"/>
            <a:ext cx="5759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04F3-C170-4034-88E3-3877E5002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5063-B5FC-42BE-8E16-7CD249904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4878-3DE0-4AAC-BDE0-ED20884B7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00F8-1D32-4EEB-AFF3-E86F42A36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3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7396f"/>
              </a:gs>
              <a:gs pos="100000">
                <a:srgbClr val="0a4d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" name="Picture 3" descr="ppt内页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2AE4-1A97-484E-B75F-628C2738FE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DF74-CEDF-4129-8AD0-DF9A62EB35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3454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、概念图的理论与方法 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27280" y="4005360"/>
            <a:ext cx="46814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罗辉  四川农业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金教工程总体技术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远程教育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中国职教学会信息化委员会常务理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luohui63@sohu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126F-2197-4E5B-A47C-208417D072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0F59-6128-48E9-9AB0-2AFB78C6F3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222200" y="1795320"/>
            <a:ext cx="6653520" cy="1849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230480" y="4125960"/>
            <a:ext cx="6653160" cy="18241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AutoShape 6"/>
          <p:cNvSpPr/>
          <p:nvPr/>
        </p:nvSpPr>
        <p:spPr>
          <a:xfrm flipV="1">
            <a:off x="1393920" y="112428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AutoShape 7"/>
          <p:cNvSpPr/>
          <p:nvPr/>
        </p:nvSpPr>
        <p:spPr>
          <a:xfrm flipV="1">
            <a:off x="1349280" y="345816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" descr="Picture4"/>
          <p:cNvPicPr/>
          <p:nvPr/>
        </p:nvPicPr>
        <p:blipFill>
          <a:blip r:embed="rId1"/>
          <a:stretch/>
        </p:blipFill>
        <p:spPr>
          <a:xfrm>
            <a:off x="1273320" y="184140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Picture4"/>
          <p:cNvPicPr/>
          <p:nvPr/>
        </p:nvPicPr>
        <p:blipFill>
          <a:blip r:embed="rId2"/>
          <a:stretch/>
        </p:blipFill>
        <p:spPr>
          <a:xfrm>
            <a:off x="1278000" y="4167360"/>
            <a:ext cx="674640" cy="5727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0"/>
          <p:cNvSpPr/>
          <p:nvPr/>
        </p:nvSpPr>
        <p:spPr>
          <a:xfrm>
            <a:off x="1706400" y="1587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706400" y="390384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630440" y="221472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知识可视化是指应用视觉表征手段促进群体知识的传播和创新，其实质是将人们的个体知识以图解的手段表示出来，形成能够直接作用于人的感官的知识外在表现形式，从而促进知识的传播和创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630440" y="451944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知识可视化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(Knowledge Visualization)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是将人的知识、态度、观点、情感等以图形方式准确而高效地表达出来，被受众正确重构，实现人与人之间的信息交流，从而促进知识在人群之间的传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87640" y="15969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</a:rPr>
              <a:t>北师大赵国庆博士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087640" y="39146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笔者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8CAB-CADC-4C9A-948A-B4EDA010294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BFE4-0486-4B7F-89AA-E26C5B4DCA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知识可视化两个重要工具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474920" y="2708280"/>
            <a:ext cx="6284520" cy="1903320"/>
            <a:chOff x="1474920" y="2708280"/>
            <a:chExt cx="6284520" cy="1903320"/>
          </a:xfrm>
        </p:grpSpPr>
        <p:sp>
          <p:nvSpPr>
            <p:cNvPr id="130" name="AutoShape 5"/>
            <p:cNvSpPr/>
            <p:nvPr/>
          </p:nvSpPr>
          <p:spPr>
            <a:xfrm>
              <a:off x="147492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387036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 rot="21475200">
            <a:off x="1692360" y="3213000"/>
            <a:ext cx="208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念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8"/>
          <p:cNvSpPr/>
          <p:nvPr/>
        </p:nvSpPr>
        <p:spPr>
          <a:xfrm rot="21370200">
            <a:off x="4786200" y="3493800"/>
            <a:ext cx="2089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B293-9D02-49C8-AA48-93950E2514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765440" y="2200320"/>
            <a:ext cx="48225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140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147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154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60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EA04-FF55-4C7E-AD65-0B6E0954DC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AB9A-A724-45D4-BB71-CFFA7FB225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(Concept Map)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2200" y="152712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概念图是由美国康奈尔大学的诺瓦克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.D.Nova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博士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开发的一种“能形象表达命题网络中一系列概念含义及其关系的图解”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87280" y="2852640"/>
            <a:ext cx="6624720" cy="1197720"/>
          </a:xfrm>
          <a:prstGeom prst="rect">
            <a:avLst/>
          </a:prstGeom>
          <a:noFill/>
          <a:ln w="82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图（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ncept Map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是用来组织和表征知识的工具。它通常将某一主题的有关概念置于圆圈或方框之中，然后用连线将相关的概念和命题连接，连线上标明两个概念之间的意义关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诺瓦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0E9-33E8-4E04-9FD2-FD6805B781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AAB0-6D50-47CE-BFA7-64D9B7EEFB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的图表结构组成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560520" y="1916280"/>
            <a:ext cx="81151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D720-C4B3-4F37-8AD6-17FA2145F0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D57C-94DC-434F-8683-32E65B8463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的价值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219320" y="1868400"/>
            <a:ext cx="6653160" cy="11448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b1e4"/>
              </a:gs>
              <a:gs pos="100000">
                <a:srgbClr val="347c9f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1222200" y="3378240"/>
            <a:ext cx="6653520" cy="1274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1230480" y="503244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7"/>
          <p:cNvSpPr/>
          <p:nvPr/>
        </p:nvSpPr>
        <p:spPr>
          <a:xfrm flipV="1">
            <a:off x="1393920" y="270720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8"/>
          <p:cNvSpPr/>
          <p:nvPr/>
        </p:nvSpPr>
        <p:spPr>
          <a:xfrm flipV="1">
            <a:off x="1297080" y="1196640"/>
            <a:ext cx="6502320" cy="665280"/>
          </a:xfrm>
          <a:custGeom>
            <a:avLst/>
            <a:gdLst>
              <a:gd name="textAreaLeft" fmla="*/ 1115640 w 6502320"/>
              <a:gd name="textAreaRight" fmla="*/ 5386680 w 6502320"/>
              <a:gd name="textAreaTop" fmla="*/ 114120 h 665280"/>
              <a:gd name="textAreaBottom" fmla="*/ 5511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ab1e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9"/>
          <p:cNvSpPr/>
          <p:nvPr/>
        </p:nvSpPr>
        <p:spPr>
          <a:xfrm flipV="1">
            <a:off x="1349280" y="436464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10" descr="Picture4"/>
          <p:cNvPicPr/>
          <p:nvPr/>
        </p:nvPicPr>
        <p:blipFill>
          <a:blip r:embed="rId1"/>
          <a:stretch/>
        </p:blipFill>
        <p:spPr>
          <a:xfrm>
            <a:off x="1276200" y="1911240"/>
            <a:ext cx="675000" cy="57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Picture4"/>
          <p:cNvPicPr/>
          <p:nvPr/>
        </p:nvPicPr>
        <p:blipFill>
          <a:blip r:embed="rId2"/>
          <a:stretch/>
        </p:blipFill>
        <p:spPr>
          <a:xfrm>
            <a:off x="1273320" y="342432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Picture4"/>
          <p:cNvPicPr/>
          <p:nvPr/>
        </p:nvPicPr>
        <p:blipFill>
          <a:blip r:embed="rId3"/>
          <a:stretch/>
        </p:blipFill>
        <p:spPr>
          <a:xfrm>
            <a:off x="1278000" y="50734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3"/>
          <p:cNvSpPr/>
          <p:nvPr/>
        </p:nvSpPr>
        <p:spPr>
          <a:xfrm>
            <a:off x="1706400" y="1641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1706400" y="31701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706400" y="48099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630440" y="22510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可以将人脑中的隐性知识显性化、可视化，是对大脑存储信息方式的最好模拟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1630440" y="36450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能够以直观形象的方式表达知识结构，还能有效呈现思考的过程及知识的关联。因此，可以通过修正学习者的知识结构而帮助学习者进行有意义学习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630440" y="532296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常用于严密复杂的逻辑关系表达；那些用大段文字难以描述清楚的复杂逻辑关系，却往往能够用概念图轻松表达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087640" y="16416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宋体"/>
              </a:rPr>
              <a:t>概念图是对人脑存储信息方式的最好模拟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2087640" y="317988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概念图能有效呈现思考过程与知识关联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2087640" y="482112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概念图擅长描述复杂的逻辑关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B27D-36B1-4BD6-A59D-892BA5A215B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B932-212B-4C47-895A-3B199F7A66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应用领域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201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7147-8394-49D6-927E-9092BFECBE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7ECE-AE06-44B0-B1F9-CE0343A43F4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示例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9136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A47A-9B8F-4326-AA58-8AA48899B1B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355840" y="3573360"/>
            <a:ext cx="452124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205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212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219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25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D458-5A14-4DB0-BAB1-283E6723D0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BFE-FB8F-45C0-ABA6-FB306D51F7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（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Mind Map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50920" y="12682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维导图，又名“心智图”，创始人是英国人托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巴赞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ny Buz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345440" cy="3298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250920" y="1989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一个中心主题开始，建立与其密切相关的一级概念主题，每个一级主题下面包含若干个二级主题；依次类推，构成一个树状结构，称为思维导图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69CB-6C02-46B3-94B8-63808B7EB6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AutoShape 4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57" name="Oval 11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64" name="Oval 25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" name="Group 31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71" name="Oval 32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77" name="Picture 45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0360" y="123480"/>
            <a:ext cx="3981600" cy="6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纲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4E45-4EEB-40FC-860F-F3E8DB76C7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2134-1EBC-45D5-9659-F5D295A913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755640" y="5445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思维导图是一种非常有用的图形技术，是打开人类思维的万能钥匙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托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巴赞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5" descr=""/>
          <p:cNvPicPr/>
          <p:nvPr/>
        </p:nvPicPr>
        <p:blipFill>
          <a:blip r:embed="rId1"/>
          <a:stretch/>
        </p:blipFill>
        <p:spPr>
          <a:xfrm>
            <a:off x="826920" y="1279440"/>
            <a:ext cx="7054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2F0D-8884-4D13-A34C-72E1437ED2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CAF1-1E2C-4523-9EDD-3EE74F9444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赋予人类“鹰眼”的强大能力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743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DD89-93F6-4EA4-A278-22F9226BD8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有助于人们提高分类思维水平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分类法是人类科学认识世界最重要的基本方法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正确的分类思维是人们正确做事的基本前提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良好的分类思维习惯是提高思维品质和创新思维能力的途径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自觉的分类思维是提高工作效率的保障手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思维导图一级节点：对复杂系统分类的几个维度（属性）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属性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亚属性子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5AC3-4AED-4CEE-96CC-EDEC9206F5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FAF5-50E8-4BC7-9CF1-D03C73BB5B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的应用场合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7272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5927-05B3-4D4B-AF82-3D01FD65A1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DFCE-1120-454A-B583-91A9444B85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553000" cy="50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F871-B91D-4588-A047-03E5188138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D527-E458-4EC8-803C-9D076BC0AF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03884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9F4E-2B05-4083-A51C-314D684F53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EC8C-1D3D-4F31-8B2D-11742D4503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447920" y="1405080"/>
            <a:ext cx="6184800" cy="432900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19280" y="155736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4ea7ea"/>
              </a:gs>
              <a:gs pos="100000">
                <a:srgbClr val="daec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547640" y="20145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619280" y="2919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cc99ff"/>
              </a:gs>
              <a:gs pos="100000">
                <a:srgbClr val="f4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1547640" y="33861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619280" y="4224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93c052"/>
              </a:gs>
              <a:gs pos="100000">
                <a:srgbClr val="e8f2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547640" y="468144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340000" y="45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具体的实践应用中，可以将两者“整合”起来，为改进人类的学习和提高绩效做出更大贡献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340000" y="3284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无论是概念图还是思维导图，都能帮助人直观地思维和记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同时开发右半脑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411280" y="1989000"/>
            <a:ext cx="48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爱因斯坦说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才的思维是直观的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203C-D636-44C8-8844-20E70E7CFD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2818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把思维导图概念图变成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人人工具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我们共同的事业理想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推广普及思维导图和概念图应用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高我们的工作学习质量与效率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升民族的创新能力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2C10-F15C-407A-94B0-4ACC58F5AD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WordArt 9"/>
          <p:cNvSpPr txBox="1"/>
          <p:nvPr/>
        </p:nvSpPr>
        <p:spPr>
          <a:xfrm>
            <a:off x="2050920" y="3573360"/>
            <a:ext cx="4802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00ff00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C499-67AC-4C29-B3BB-9BF706896D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AFC0-6371-4825-8351-C34543789C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神奇的左右脑分工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2" name="Picture 4" descr="左右脑分工_修改版"/>
          <p:cNvPicPr/>
          <p:nvPr/>
        </p:nvPicPr>
        <p:blipFill>
          <a:blip r:embed="rId1"/>
          <a:srcRect l="0" t="5492" r="0" b="5492"/>
          <a:stretch/>
        </p:blipFill>
        <p:spPr>
          <a:xfrm>
            <a:off x="250920" y="1084320"/>
            <a:ext cx="8858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888A-7EAD-4F1D-807A-46A599D529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839C-A077-4256-9848-BB5C74C1A3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专长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6" name="Picture 4" descr="右脑的特长"/>
          <p:cNvPicPr/>
          <p:nvPr/>
        </p:nvPicPr>
        <p:blipFill>
          <a:blip r:embed="rId1"/>
          <a:stretch/>
        </p:blipFill>
        <p:spPr>
          <a:xfrm>
            <a:off x="971640" y="1557360"/>
            <a:ext cx="745308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9E06-5B17-4A15-9EAD-7D35B95EC6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1509-50AD-48C0-9A2D-48AEF7351A4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从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用进废退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观点看人脑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49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255B-81EF-487B-932D-4766213941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556A-923C-454C-9332-A47B373874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左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4" name="Picture 4" descr="2"/>
          <p:cNvPicPr/>
          <p:nvPr/>
        </p:nvPicPr>
        <p:blipFill>
          <a:blip r:embed="rId1"/>
          <a:stretch/>
        </p:blipFill>
        <p:spPr>
          <a:xfrm>
            <a:off x="971640" y="2637000"/>
            <a:ext cx="6875280" cy="3493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39640" y="15271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格中的数据是一组学生的三科考试成绩，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表格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A8DC-B9A3-422E-9B74-B8F55CC480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A348-1ED4-49B7-A738-F70B66E28E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1116000" y="2852640"/>
            <a:ext cx="7345440" cy="349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39640" y="15271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前面的表格数据转换成图形，同样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图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5587-FE8A-41CE-AEB1-3F9F8D3D7E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8F28-0BBC-4F55-89B7-F89B72B622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倡全脑思维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7C4B-0B59-4CBD-8439-C3DA0D533A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E563-5B50-43AF-BDE6-B1C8CB1F9D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知识可视化的价值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促进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全脑思维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120000" cy="29923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1258920" y="1268280"/>
            <a:ext cx="638496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50000">
                <a:srgbClr val="fdba10"/>
              </a:gs>
              <a:gs pos="100000">
                <a:srgbClr val="ff9933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308240" y="1370160"/>
            <a:ext cx="6238800" cy="1049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50000">
                <a:srgbClr val="ffffff"/>
              </a:gs>
              <a:gs pos="100000">
                <a:srgbClr val="d2d2d2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PMingLiU"/>
              </a:rPr>
              <a:t>    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知识可视化将认知对象同时以图、文形式表达，可以有效促进全脑思维，提升思维效率和品质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3:29:06Z</dcterms:created>
  <dc:creator>YN</dc:creator>
  <dc:description/>
  <dc:language>en-US</dc:language>
  <cp:lastModifiedBy>jhkou</cp:lastModifiedBy>
  <dcterms:modified xsi:type="dcterms:W3CDTF">2013-02-23T08:00:47Z</dcterms:modified>
  <cp:revision>66</cp:revision>
  <dc:subject/>
  <dc:title>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1</vt:r8>
  </property>
</Properties>
</file>