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67597-C126-4813-BD9F-7B795DD1F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153BF-5A8C-4C44-820F-EE1074D0A1B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07670-7AD6-46CC-830D-79901775675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7322-1C68-420D-85A0-0ACC7F041F8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1DCDB-739E-41B2-AAD0-CB7F01C9DC8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D0186-9D7E-4877-905C-6BB99C2308A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B1691-F537-4DB4-977A-6816A70FFCA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674D1-AAE4-4167-8F82-36586435460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01A29-27FF-492A-9227-A18442C0515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93AFD-82F6-4B55-9CA7-31DCF92313C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FB4F0-6DBC-497D-A095-87A6C0BC57B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3377D-EE51-4BCF-AAD5-36D6239D38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F65C7-04E8-486D-BC5D-766102EAFC1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49466-E137-4430-8E94-9D641F38622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B4E62-E8B2-4A98-B57D-5B4DB6F1A46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51185-80B7-498A-A7F6-4C6746B197B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3D8D-7C60-41C8-8007-0490DD2DF6E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7AA5D-16D9-4B35-830C-F022E8EBB95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E78E9-0963-4B4F-9615-6E9A7FB436E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D33AC-7241-4248-A48F-03AA98FF8D4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C6C4A-A86E-4C9C-9D58-8220BA9AE1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53C9B-F0A0-4051-ABAD-F2CD3A87FD4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9FC6-4094-4DDF-B2F2-C7C1C9AFE8B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8E011-8760-4919-BCB5-424E32C4A0A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9753B-68C9-4DBB-8A68-173E3064001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953D0-F47F-42DB-BA52-4B99DCA2C01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98F73-B909-4B01-97DA-2937A8A548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AA5C9-CE15-44D3-B31A-92181F56E68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4A12B-9CB7-4D5E-AB2B-B2FA8AD4D9F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4BB80-1509-41DC-A4AE-561AE51CF3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5639A-6140-45E3-9E7B-33412CEE64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04ADC-AF46-4C6A-AB16-02F9C3BC24A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7FFEE-9BEA-4515-A8CA-95028D9CF78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947EA-1929-4816-AAAD-D43044D5ED7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64470-D24E-4130-BC9B-C07F00ED776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33DD6-179B-4917-8E66-736238C582E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6A6B1-22A1-4763-BC6B-D5D5602B9E0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4A55D-135F-4058-9772-85B9B5C8475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019E-34DB-47B0-837A-046C3308F94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4372B-1788-42A8-86A7-D2E2815D0B4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B043E-F957-49E7-BC08-74E9E6BC198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27332-8343-4F3A-870F-AB9F8FF6B3A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B2D04-593D-4C53-B70C-90F6413AAE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8EDE9-C3EE-4773-B690-C9EE854DA13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0354A-8632-4B1B-8701-9F90B5483F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62812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942360"/>
            <a:ext cx="862812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7E8B5-1A85-4800-828A-7BE752923E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21020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196640"/>
            <a:ext cx="421020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942360"/>
            <a:ext cx="421020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42360"/>
            <a:ext cx="421020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F6055-8E38-4F2B-8244-AE788D9155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277812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8000" y="1196640"/>
            <a:ext cx="277812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5440" y="1196640"/>
            <a:ext cx="277812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942360"/>
            <a:ext cx="277812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8000" y="3942360"/>
            <a:ext cx="277812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5440" y="3942360"/>
            <a:ext cx="277812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DC168-AEBE-472C-AEF1-3B304FBC59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1196640"/>
            <a:ext cx="862812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36649-0815-4001-80A0-76506C1743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62812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487EA-57FB-4C60-8631-723B522142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21020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196640"/>
            <a:ext cx="421020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52344-1716-478D-B3DA-CE12C0E988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D37C0-9ED2-4182-83BE-4A104D88E0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92360" y="115560"/>
            <a:ext cx="5759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B8DEB-2663-4171-8DEC-7AD070C1FF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21020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196640"/>
            <a:ext cx="421020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942360"/>
            <a:ext cx="421020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6921D-F51C-4E58-89C1-29A5B4ADAB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21020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196640"/>
            <a:ext cx="421020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42360"/>
            <a:ext cx="421020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5D9D6-1056-4D07-A83C-A8EA98A15E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21020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196640"/>
            <a:ext cx="421020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942360"/>
            <a:ext cx="862812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B2D98-13B8-48BC-92E0-236FA5AED8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3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gradFill rotWithShape="0">
            <a:gsLst>
              <a:gs pos="0">
                <a:srgbClr val="07396f"/>
              </a:gs>
              <a:gs pos="100000">
                <a:srgbClr val="0a4d9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" name="Picture 3" descr="ppt内页"/>
          <p:cNvPicPr/>
          <p:nvPr/>
        </p:nvPicPr>
        <p:blipFill>
          <a:blip r:embed="rId2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250560" y="1196640"/>
            <a:ext cx="862812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3837E-F7B1-4195-93F2-2E314E49C20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15A5E-F613-4088-A4C2-9517E64D3E7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6920" y="1989000"/>
            <a:ext cx="7345440" cy="64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思维导图、概念图的理论与方法 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627280" y="4005360"/>
            <a:ext cx="468144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罗辉  四川农业大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教育部金教工程总体技术专家组成员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教育部远程教育专家组成员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中国职教学会信息化委员会常务理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luohui63@sohu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89A16-6027-47EB-AF53-727D61148C5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EF5E9-F3B5-4E86-A72E-A1C05437060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1222200" y="1795320"/>
            <a:ext cx="6653520" cy="184968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855aee"/>
              </a:gs>
              <a:gs pos="100000">
                <a:srgbClr val="5d3fa6"/>
              </a:gs>
            </a:gsLst>
            <a:lin ang="5400000"/>
          </a:gra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AutoShape 5"/>
          <p:cNvSpPr/>
          <p:nvPr/>
        </p:nvSpPr>
        <p:spPr>
          <a:xfrm>
            <a:off x="1230480" y="4125960"/>
            <a:ext cx="6653160" cy="182412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ffff99"/>
              </a:gs>
              <a:gs pos="100000">
                <a:srgbClr val="b2b26b"/>
              </a:gs>
            </a:gsLst>
            <a:lin ang="5400000"/>
          </a:gra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AutoShape 6"/>
          <p:cNvSpPr/>
          <p:nvPr/>
        </p:nvSpPr>
        <p:spPr>
          <a:xfrm flipV="1">
            <a:off x="1393920" y="1124280"/>
            <a:ext cx="6397560" cy="662040"/>
          </a:xfrm>
          <a:custGeom>
            <a:avLst/>
            <a:gdLst>
              <a:gd name="textAreaLeft" fmla="*/ 1098000 w 6397560"/>
              <a:gd name="textAreaRight" fmla="*/ 5299560 w 6397560"/>
              <a:gd name="textAreaTop" fmla="*/ 113400 h 662040"/>
              <a:gd name="textAreaBottom" fmla="*/ 548640 h 66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813" y="21600"/>
                </a:lnTo>
                <a:lnTo>
                  <a:pt x="17787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855aee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AutoShape 7"/>
          <p:cNvSpPr/>
          <p:nvPr/>
        </p:nvSpPr>
        <p:spPr>
          <a:xfrm flipV="1">
            <a:off x="1349280" y="3458160"/>
            <a:ext cx="6475680" cy="664920"/>
          </a:xfrm>
          <a:custGeom>
            <a:avLst/>
            <a:gdLst>
              <a:gd name="textAreaLeft" fmla="*/ 1111320 w 6475680"/>
              <a:gd name="textAreaRight" fmla="*/ 5364360 w 6475680"/>
              <a:gd name="textAreaTop" fmla="*/ 114120 h 664920"/>
              <a:gd name="textAreaBottom" fmla="*/ 550800 h 66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813" y="21600"/>
                </a:lnTo>
                <a:lnTo>
                  <a:pt x="17787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fff99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8" name="Picture 8" descr="Picture4"/>
          <p:cNvPicPr/>
          <p:nvPr/>
        </p:nvPicPr>
        <p:blipFill>
          <a:blip r:embed="rId1"/>
          <a:stretch/>
        </p:blipFill>
        <p:spPr>
          <a:xfrm>
            <a:off x="1273320" y="1841400"/>
            <a:ext cx="676080" cy="573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Picture4"/>
          <p:cNvPicPr/>
          <p:nvPr/>
        </p:nvPicPr>
        <p:blipFill>
          <a:blip r:embed="rId2"/>
          <a:stretch/>
        </p:blipFill>
        <p:spPr>
          <a:xfrm>
            <a:off x="1278000" y="4167360"/>
            <a:ext cx="674640" cy="57276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10"/>
          <p:cNvSpPr/>
          <p:nvPr/>
        </p:nvSpPr>
        <p:spPr>
          <a:xfrm>
            <a:off x="1706400" y="1587600"/>
            <a:ext cx="5791320" cy="457200"/>
          </a:xfrm>
          <a:prstGeom prst="roundRect">
            <a:avLst>
              <a:gd name="adj" fmla="val 16667"/>
            </a:avLst>
          </a:prstGeom>
          <a:solidFill>
            <a:srgbClr val="feffff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AutoShape 11"/>
          <p:cNvSpPr/>
          <p:nvPr/>
        </p:nvSpPr>
        <p:spPr>
          <a:xfrm>
            <a:off x="1706400" y="3903840"/>
            <a:ext cx="5791320" cy="457200"/>
          </a:xfrm>
          <a:prstGeom prst="roundRect">
            <a:avLst>
              <a:gd name="adj" fmla="val 16667"/>
            </a:avLst>
          </a:prstGeom>
          <a:solidFill>
            <a:srgbClr val="feffff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1630440" y="2214720"/>
            <a:ext cx="601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effff"/>
                </a:solidFill>
                <a:latin typeface="宋体"/>
              </a:rPr>
              <a:t>知识可视化是指应用视觉表征手段促进群体知识的传播和创新，其实质是将人们的个体知识以图解的手段表示出来，形成能够直接作用于人的感官的知识外在表现形式，从而促进知识的传播和创新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1630440" y="4519440"/>
            <a:ext cx="60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知识可视化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(Knowledge Visualization)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是将人的知识、态度、观点、情感等以图形方式准确而高效地表达出来，被受众正确重构，实现人与人之间的信息交流，从而促进知识在人群之间的传播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2087640" y="1596960"/>
            <a:ext cx="5029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Times New Roman"/>
              </a:rPr>
              <a:t>北师大赵国庆博士对知识可视化的定义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Rectangle 15"/>
          <p:cNvSpPr/>
          <p:nvPr/>
        </p:nvSpPr>
        <p:spPr>
          <a:xfrm>
            <a:off x="2087640" y="3914640"/>
            <a:ext cx="5029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99"/>
                </a:solidFill>
                <a:latin typeface="宋体"/>
              </a:rPr>
              <a:t>笔者对知识可视化的定义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99F0-734D-47A0-B1EF-0E2469C498D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3820B-98B3-45FC-9920-DE4259D33B6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ffff"/>
                </a:solidFill>
                <a:latin typeface="黑体"/>
              </a:rPr>
              <a:t>知识可视化两个重要工具</a:t>
            </a:r>
            <a:endParaRPr b="1" lang="en-US" sz="21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129" name="Group 4"/>
          <p:cNvGrpSpPr/>
          <p:nvPr/>
        </p:nvGrpSpPr>
        <p:grpSpPr>
          <a:xfrm>
            <a:off x="1474920" y="2708280"/>
            <a:ext cx="6284520" cy="1903320"/>
            <a:chOff x="1474920" y="2708280"/>
            <a:chExt cx="6284520" cy="1903320"/>
          </a:xfrm>
        </p:grpSpPr>
        <p:sp>
          <p:nvSpPr>
            <p:cNvPr id="130" name="AutoShape 5"/>
            <p:cNvSpPr/>
            <p:nvPr/>
          </p:nvSpPr>
          <p:spPr>
            <a:xfrm>
              <a:off x="1474920" y="2708280"/>
              <a:ext cx="3889080" cy="1903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0000"/>
                </a:gs>
                <a:gs pos="100000">
                  <a:srgbClr val="ff99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1" name="AutoShape 6"/>
            <p:cNvSpPr/>
            <p:nvPr/>
          </p:nvSpPr>
          <p:spPr>
            <a:xfrm>
              <a:off x="3870360" y="2708280"/>
              <a:ext cx="3889080" cy="1903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0000"/>
                </a:gs>
                <a:gs pos="100000">
                  <a:srgbClr val="ff99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32" name="Rectangle 7"/>
          <p:cNvSpPr/>
          <p:nvPr/>
        </p:nvSpPr>
        <p:spPr>
          <a:xfrm rot="21475200">
            <a:off x="1692360" y="3213000"/>
            <a:ext cx="2087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4280" bIns="4428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概念图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Rectangle 8"/>
          <p:cNvSpPr/>
          <p:nvPr/>
        </p:nvSpPr>
        <p:spPr>
          <a:xfrm rot="21370200">
            <a:off x="4786200" y="3493800"/>
            <a:ext cx="20894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4280" bIns="44280" anchor="t" anchorCtr="1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思维导图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5D9DE-D3B0-4F86-9AFA-41FA9986D87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AutoShape 2"/>
          <p:cNvSpPr/>
          <p:nvPr/>
        </p:nvSpPr>
        <p:spPr>
          <a:xfrm flipH="1" rot="5400000">
            <a:off x="-2016360" y="2062800"/>
            <a:ext cx="4032360" cy="3929040"/>
          </a:xfrm>
          <a:custGeom>
            <a:avLst/>
            <a:gdLst>
              <a:gd name="textAreaLeft" fmla="*/ 360 w 4032360"/>
              <a:gd name="textAreaRight" fmla="*/ 4033080 w 4032360"/>
              <a:gd name="textAreaTop" fmla="*/ 0 h 3929040"/>
              <a:gd name="textAreaBottom" fmla="*/ 1402920 h 3929040"/>
            </a:gdLst>
            <a:ahLst/>
            <a:rect l="textAreaLeft" t="textAreaTop" r="textAreaRight" b="textAreaBottom"/>
            <a:pathLst>
              <a:path w="21600" h="21600">
                <a:moveTo>
                  <a:pt x="10744" y="10800"/>
                </a:moveTo>
                <a:cubicBezTo>
                  <a:pt x="10744" y="10769"/>
                  <a:pt x="10769" y="10744"/>
                  <a:pt x="10800" y="10744"/>
                </a:cubicBezTo>
                <a:cubicBezTo>
                  <a:pt x="10830" y="10743"/>
                  <a:pt x="10855" y="10769"/>
                  <a:pt x="10856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1952640" y="5013360"/>
            <a:ext cx="4564080" cy="5079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0bc"/>
                </a:solidFill>
                <a:latin typeface="Times New Roman"/>
              </a:rPr>
              <a:t>思维导图及其价值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2355840" y="3573360"/>
            <a:ext cx="4592520" cy="5079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00"/>
                </a:solidFill>
                <a:latin typeface="Times New Roman"/>
              </a:rPr>
              <a:t>概念图及其价值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1765440" y="2200320"/>
            <a:ext cx="4822560" cy="5079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0bc"/>
                </a:solidFill>
                <a:latin typeface="Times New Roman"/>
              </a:rPr>
              <a:t>神奇的左右脑分工与知识可视化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9" name="Group 6"/>
          <p:cNvGrpSpPr/>
          <p:nvPr/>
        </p:nvGrpSpPr>
        <p:grpSpPr>
          <a:xfrm>
            <a:off x="1447920" y="2289240"/>
            <a:ext cx="380880" cy="380880"/>
            <a:chOff x="1447920" y="2289240"/>
            <a:chExt cx="380880" cy="380880"/>
          </a:xfrm>
        </p:grpSpPr>
        <p:sp>
          <p:nvSpPr>
            <p:cNvPr id="140" name="Oval 7"/>
            <p:cNvSpPr/>
            <p:nvPr/>
          </p:nvSpPr>
          <p:spPr>
            <a:xfrm>
              <a:off x="1447920" y="228924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1" name="Oval 8"/>
            <p:cNvSpPr/>
            <p:nvPr/>
          </p:nvSpPr>
          <p:spPr>
            <a:xfrm>
              <a:off x="1469520" y="231048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2" name="Oval 9"/>
            <p:cNvSpPr/>
            <p:nvPr/>
          </p:nvSpPr>
          <p:spPr>
            <a:xfrm>
              <a:off x="1488960" y="233028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3" name="Oval 10"/>
            <p:cNvSpPr/>
            <p:nvPr/>
          </p:nvSpPr>
          <p:spPr>
            <a:xfrm>
              <a:off x="1489320" y="233064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4" name="Oval 11"/>
            <p:cNvSpPr/>
            <p:nvPr/>
          </p:nvSpPr>
          <p:spPr>
            <a:xfrm>
              <a:off x="1508040" y="234936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8a8a53"/>
                </a:gs>
                <a:gs pos="50000">
                  <a:srgbClr val="ffff99"/>
                </a:gs>
                <a:gs pos="100000">
                  <a:srgbClr val="8a8a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5" name="Oval 12"/>
            <p:cNvSpPr/>
            <p:nvPr/>
          </p:nvSpPr>
          <p:spPr>
            <a:xfrm>
              <a:off x="1508760" y="235008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46" name="Group 13"/>
          <p:cNvGrpSpPr/>
          <p:nvPr/>
        </p:nvGrpSpPr>
        <p:grpSpPr>
          <a:xfrm>
            <a:off x="2050920" y="3649680"/>
            <a:ext cx="381240" cy="380880"/>
            <a:chOff x="2050920" y="3649680"/>
            <a:chExt cx="381240" cy="380880"/>
          </a:xfrm>
        </p:grpSpPr>
        <p:sp>
          <p:nvSpPr>
            <p:cNvPr id="147" name="Oval 14"/>
            <p:cNvSpPr/>
            <p:nvPr/>
          </p:nvSpPr>
          <p:spPr>
            <a:xfrm>
              <a:off x="2050920" y="364968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8" name="Oval 15"/>
            <p:cNvSpPr/>
            <p:nvPr/>
          </p:nvSpPr>
          <p:spPr>
            <a:xfrm>
              <a:off x="2072520" y="367092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9" name="Oval 16"/>
            <p:cNvSpPr/>
            <p:nvPr/>
          </p:nvSpPr>
          <p:spPr>
            <a:xfrm>
              <a:off x="2091960" y="3690720"/>
              <a:ext cx="29880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0" name="Oval 17"/>
            <p:cNvSpPr/>
            <p:nvPr/>
          </p:nvSpPr>
          <p:spPr>
            <a:xfrm>
              <a:off x="2092320" y="369108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3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1" name="Oval 18"/>
            <p:cNvSpPr/>
            <p:nvPr/>
          </p:nvSpPr>
          <p:spPr>
            <a:xfrm>
              <a:off x="2111400" y="370980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8a8a53"/>
                </a:gs>
                <a:gs pos="50000">
                  <a:srgbClr val="ffff99"/>
                </a:gs>
                <a:gs pos="100000">
                  <a:srgbClr val="8a8a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2" name="Oval 19"/>
            <p:cNvSpPr/>
            <p:nvPr/>
          </p:nvSpPr>
          <p:spPr>
            <a:xfrm>
              <a:off x="2112120" y="371052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1057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53" name="Group 20"/>
          <p:cNvGrpSpPr/>
          <p:nvPr/>
        </p:nvGrpSpPr>
        <p:grpSpPr>
          <a:xfrm>
            <a:off x="1616040" y="5114880"/>
            <a:ext cx="380880" cy="380880"/>
            <a:chOff x="1616040" y="5114880"/>
            <a:chExt cx="380880" cy="380880"/>
          </a:xfrm>
        </p:grpSpPr>
        <p:sp>
          <p:nvSpPr>
            <p:cNvPr id="154" name="Oval 21"/>
            <p:cNvSpPr/>
            <p:nvPr/>
          </p:nvSpPr>
          <p:spPr>
            <a:xfrm>
              <a:off x="1616040" y="511488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5" name="Oval 22"/>
            <p:cNvSpPr/>
            <p:nvPr/>
          </p:nvSpPr>
          <p:spPr>
            <a:xfrm>
              <a:off x="1637640" y="513612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6" name="Oval 23"/>
            <p:cNvSpPr/>
            <p:nvPr/>
          </p:nvSpPr>
          <p:spPr>
            <a:xfrm>
              <a:off x="1657080" y="515592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7" name="Oval 24"/>
            <p:cNvSpPr/>
            <p:nvPr/>
          </p:nvSpPr>
          <p:spPr>
            <a:xfrm>
              <a:off x="1657440" y="515628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8" name="Oval 25"/>
            <p:cNvSpPr/>
            <p:nvPr/>
          </p:nvSpPr>
          <p:spPr>
            <a:xfrm>
              <a:off x="1676160" y="517500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8a8a53"/>
                </a:gs>
                <a:gs pos="50000">
                  <a:srgbClr val="ffff99"/>
                </a:gs>
                <a:gs pos="100000">
                  <a:srgbClr val="8a8a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9" name="Oval 26"/>
            <p:cNvSpPr/>
            <p:nvPr/>
          </p:nvSpPr>
          <p:spPr>
            <a:xfrm>
              <a:off x="1676880" y="517572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4532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160" name="Picture 27" descr=""/>
          <p:cNvPicPr/>
          <p:nvPr/>
        </p:nvPicPr>
        <p:blipFill>
          <a:blip r:embed="rId1"/>
          <a:stretch/>
        </p:blipFill>
        <p:spPr>
          <a:xfrm>
            <a:off x="0" y="3500280"/>
            <a:ext cx="136836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F1CA8-C6B4-43A0-9379-2171582740D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1CF18-2ECB-4C68-BF9D-48792C52219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概念图</a:t>
            </a:r>
            <a:r>
              <a:rPr b="1" lang="en-US" sz="2500" spc="-1" strike="noStrike">
                <a:solidFill>
                  <a:srgbClr val="ffffff"/>
                </a:solidFill>
                <a:latin typeface="黑体"/>
              </a:rPr>
              <a:t>(Concept Map)</a:t>
            </a: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322200" y="1527120"/>
            <a:ext cx="828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概念图是由美国康奈尔大学的诺瓦克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.D.Novak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博士在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世纪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年代开发的一种“能形象表达命题网络中一系列概念含义及其关系的图解”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1187280" y="2852640"/>
            <a:ext cx="6624720" cy="1197720"/>
          </a:xfrm>
          <a:prstGeom prst="rect">
            <a:avLst/>
          </a:prstGeom>
          <a:noFill/>
          <a:ln w="82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念图（</a:t>
            </a:r>
            <a:r>
              <a:rPr b="1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Concept Map</a:t>
            </a: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是用来组织和表征知识的工具。它通常将某一主题的有关概念置于圆圈或方框之中，然后用连线将相关的概念和命题连接，连线上标明两个概念之间的意义关系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诺瓦克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8AD6E-DACB-4013-AF59-2E2F810470F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897D5-FEE7-4AEE-A2CC-D081E615BDC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概念图的图表结构组成</a:t>
            </a: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1"/>
          <a:stretch/>
        </p:blipFill>
        <p:spPr>
          <a:xfrm>
            <a:off x="560520" y="1916280"/>
            <a:ext cx="8115120" cy="303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B726C-4262-4DC7-BE62-85D64449B8B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148E7-F332-4350-BC3C-7F421B32976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概念图的价值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3" name="AutoShape 4"/>
          <p:cNvSpPr/>
          <p:nvPr/>
        </p:nvSpPr>
        <p:spPr>
          <a:xfrm>
            <a:off x="1219320" y="1868400"/>
            <a:ext cx="6653160" cy="114480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4ab1e4"/>
              </a:gs>
              <a:gs pos="100000">
                <a:srgbClr val="347c9f"/>
              </a:gs>
            </a:gsLst>
            <a:lin ang="5400000"/>
          </a:gra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AutoShape 5"/>
          <p:cNvSpPr/>
          <p:nvPr/>
        </p:nvSpPr>
        <p:spPr>
          <a:xfrm>
            <a:off x="1222200" y="3378240"/>
            <a:ext cx="6653520" cy="127476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855aee"/>
              </a:gs>
              <a:gs pos="100000">
                <a:srgbClr val="5d3fa6"/>
              </a:gs>
            </a:gsLst>
            <a:lin ang="5400000"/>
          </a:gra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AutoShape 6"/>
          <p:cNvSpPr/>
          <p:nvPr/>
        </p:nvSpPr>
        <p:spPr>
          <a:xfrm>
            <a:off x="1230480" y="5032440"/>
            <a:ext cx="6653160" cy="103176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ffff99"/>
              </a:gs>
              <a:gs pos="100000">
                <a:srgbClr val="b2b26b"/>
              </a:gs>
            </a:gsLst>
            <a:lin ang="5400000"/>
          </a:gra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AutoShape 7"/>
          <p:cNvSpPr/>
          <p:nvPr/>
        </p:nvSpPr>
        <p:spPr>
          <a:xfrm flipV="1">
            <a:off x="1393920" y="2707200"/>
            <a:ext cx="6397560" cy="662040"/>
          </a:xfrm>
          <a:custGeom>
            <a:avLst/>
            <a:gdLst>
              <a:gd name="textAreaLeft" fmla="*/ 1098000 w 6397560"/>
              <a:gd name="textAreaRight" fmla="*/ 5299560 w 6397560"/>
              <a:gd name="textAreaTop" fmla="*/ 113400 h 662040"/>
              <a:gd name="textAreaBottom" fmla="*/ 548640 h 66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813" y="21600"/>
                </a:lnTo>
                <a:lnTo>
                  <a:pt x="17787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855aee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AutoShape 8"/>
          <p:cNvSpPr/>
          <p:nvPr/>
        </p:nvSpPr>
        <p:spPr>
          <a:xfrm flipV="1">
            <a:off x="1297080" y="1196640"/>
            <a:ext cx="6502320" cy="665280"/>
          </a:xfrm>
          <a:custGeom>
            <a:avLst/>
            <a:gdLst>
              <a:gd name="textAreaLeft" fmla="*/ 1115640 w 6502320"/>
              <a:gd name="textAreaRight" fmla="*/ 5386680 w 6502320"/>
              <a:gd name="textAreaTop" fmla="*/ 114120 h 665280"/>
              <a:gd name="textAreaBottom" fmla="*/ 551160 h 66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813" y="21600"/>
                </a:lnTo>
                <a:lnTo>
                  <a:pt x="17787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4ab1e4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AutoShape 9"/>
          <p:cNvSpPr/>
          <p:nvPr/>
        </p:nvSpPr>
        <p:spPr>
          <a:xfrm flipV="1">
            <a:off x="1349280" y="4364640"/>
            <a:ext cx="6475680" cy="664920"/>
          </a:xfrm>
          <a:custGeom>
            <a:avLst/>
            <a:gdLst>
              <a:gd name="textAreaLeft" fmla="*/ 1111320 w 6475680"/>
              <a:gd name="textAreaRight" fmla="*/ 5364360 w 6475680"/>
              <a:gd name="textAreaTop" fmla="*/ 114120 h 664920"/>
              <a:gd name="textAreaBottom" fmla="*/ 550800 h 66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813" y="21600"/>
                </a:lnTo>
                <a:lnTo>
                  <a:pt x="17787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fff99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9" name="Picture 10" descr="Picture4"/>
          <p:cNvPicPr/>
          <p:nvPr/>
        </p:nvPicPr>
        <p:blipFill>
          <a:blip r:embed="rId1"/>
          <a:stretch/>
        </p:blipFill>
        <p:spPr>
          <a:xfrm>
            <a:off x="1276200" y="1911240"/>
            <a:ext cx="675000" cy="5749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1" descr="Picture4"/>
          <p:cNvPicPr/>
          <p:nvPr/>
        </p:nvPicPr>
        <p:blipFill>
          <a:blip r:embed="rId2"/>
          <a:stretch/>
        </p:blipFill>
        <p:spPr>
          <a:xfrm>
            <a:off x="1273320" y="3424320"/>
            <a:ext cx="676080" cy="5731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2" descr="Picture4"/>
          <p:cNvPicPr/>
          <p:nvPr/>
        </p:nvPicPr>
        <p:blipFill>
          <a:blip r:embed="rId3"/>
          <a:stretch/>
        </p:blipFill>
        <p:spPr>
          <a:xfrm>
            <a:off x="1278000" y="5073480"/>
            <a:ext cx="674640" cy="573120"/>
          </a:xfrm>
          <a:prstGeom prst="rect">
            <a:avLst/>
          </a:prstGeom>
          <a:ln w="0">
            <a:noFill/>
          </a:ln>
        </p:spPr>
      </p:pic>
      <p:sp>
        <p:nvSpPr>
          <p:cNvPr id="182" name="AutoShape 13"/>
          <p:cNvSpPr/>
          <p:nvPr/>
        </p:nvSpPr>
        <p:spPr>
          <a:xfrm>
            <a:off x="1706400" y="1641600"/>
            <a:ext cx="5791320" cy="457200"/>
          </a:xfrm>
          <a:prstGeom prst="roundRect">
            <a:avLst>
              <a:gd name="adj" fmla="val 16667"/>
            </a:avLst>
          </a:prstGeom>
          <a:solidFill>
            <a:srgbClr val="feffff"/>
          </a:solidFill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AutoShape 14"/>
          <p:cNvSpPr/>
          <p:nvPr/>
        </p:nvSpPr>
        <p:spPr>
          <a:xfrm>
            <a:off x="1706400" y="3170160"/>
            <a:ext cx="5791320" cy="457200"/>
          </a:xfrm>
          <a:prstGeom prst="roundRect">
            <a:avLst>
              <a:gd name="adj" fmla="val 16667"/>
            </a:avLst>
          </a:prstGeom>
          <a:solidFill>
            <a:srgbClr val="feffff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AutoShape 15"/>
          <p:cNvSpPr/>
          <p:nvPr/>
        </p:nvSpPr>
        <p:spPr>
          <a:xfrm>
            <a:off x="1706400" y="4809960"/>
            <a:ext cx="5791320" cy="457200"/>
          </a:xfrm>
          <a:prstGeom prst="roundRect">
            <a:avLst>
              <a:gd name="adj" fmla="val 16667"/>
            </a:avLst>
          </a:prstGeom>
          <a:solidFill>
            <a:srgbClr val="feffff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Text Box 16"/>
          <p:cNvSpPr/>
          <p:nvPr/>
        </p:nvSpPr>
        <p:spPr>
          <a:xfrm>
            <a:off x="1630440" y="2251080"/>
            <a:ext cx="60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fff"/>
                </a:solidFill>
                <a:latin typeface="宋体"/>
              </a:rPr>
              <a:t>-</a:t>
            </a:r>
            <a:r>
              <a:rPr b="1" lang="zh-CN" sz="1600" spc="-1" strike="noStrike">
                <a:solidFill>
                  <a:srgbClr val="feffff"/>
                </a:solidFill>
                <a:latin typeface="宋体"/>
              </a:rPr>
              <a:t>概念图可以将人脑中的隐性知识显性化、可视化，是对大脑存储信息方式的最好模拟。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1630440" y="3645000"/>
            <a:ext cx="60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fff"/>
                </a:solidFill>
                <a:latin typeface="宋体"/>
              </a:rPr>
              <a:t>-</a:t>
            </a:r>
            <a:r>
              <a:rPr b="1" lang="zh-CN" sz="1600" spc="-1" strike="noStrike">
                <a:solidFill>
                  <a:srgbClr val="feffff"/>
                </a:solidFill>
                <a:latin typeface="宋体"/>
              </a:rPr>
              <a:t>概念图能够以直观形象的方式表达知识结构，还能有效呈现思考的过程及知识的关联。因此，可以通过修正学习者的知识结构而帮助学习者进行有意义学习。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Text Box 18"/>
          <p:cNvSpPr/>
          <p:nvPr/>
        </p:nvSpPr>
        <p:spPr>
          <a:xfrm>
            <a:off x="1630440" y="5322960"/>
            <a:ext cx="60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fff"/>
                </a:solidFill>
                <a:latin typeface="宋体"/>
              </a:rPr>
              <a:t>-</a:t>
            </a:r>
            <a:r>
              <a:rPr b="1" lang="zh-CN" sz="1600" spc="-1" strike="noStrike">
                <a:solidFill>
                  <a:srgbClr val="feffff"/>
                </a:solidFill>
                <a:latin typeface="宋体"/>
              </a:rPr>
              <a:t>概念图常用于严密复杂的逻辑关系表达；那些用大段文字难以描述清楚的复杂逻辑关系，却往往能够用概念图轻松表达。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Rectangle 19"/>
          <p:cNvSpPr/>
          <p:nvPr/>
        </p:nvSpPr>
        <p:spPr>
          <a:xfrm>
            <a:off x="2087640" y="1641600"/>
            <a:ext cx="5029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77777"/>
                </a:solidFill>
                <a:latin typeface="宋体"/>
              </a:rPr>
              <a:t>概念图是对人脑存储信息方式的最好模拟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Rectangle 20"/>
          <p:cNvSpPr/>
          <p:nvPr/>
        </p:nvSpPr>
        <p:spPr>
          <a:xfrm>
            <a:off x="2087640" y="3179880"/>
            <a:ext cx="5029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宋体"/>
              </a:rPr>
              <a:t>概念图能有效呈现思考过程与知识关联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Rectangle 21"/>
          <p:cNvSpPr/>
          <p:nvPr/>
        </p:nvSpPr>
        <p:spPr>
          <a:xfrm>
            <a:off x="2087640" y="4821120"/>
            <a:ext cx="5029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99"/>
                </a:solidFill>
                <a:latin typeface="宋体"/>
              </a:rPr>
              <a:t>概念图擅长描述复杂的逻辑关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44F97-070F-449D-9ACD-F6763C3784F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C9189-C293-47A8-92F7-DE8090684C5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概念图应用领域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1547640" y="1773360"/>
            <a:ext cx="5820120" cy="37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0ED0B-9AA6-4C01-8C45-A78E13C32A7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B0F5F-FBEE-4659-8B3C-A8D1B31A07B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概念图示例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198" name="Picture 5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7191360" cy="438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D7513-0B1C-4FF0-9F78-00F6C4BBA77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AutoShape 2"/>
          <p:cNvSpPr/>
          <p:nvPr/>
        </p:nvSpPr>
        <p:spPr>
          <a:xfrm flipH="1" rot="5400000">
            <a:off x="-2016360" y="2062800"/>
            <a:ext cx="4032360" cy="3929040"/>
          </a:xfrm>
          <a:custGeom>
            <a:avLst/>
            <a:gdLst>
              <a:gd name="textAreaLeft" fmla="*/ 360 w 4032360"/>
              <a:gd name="textAreaRight" fmla="*/ 4033080 w 4032360"/>
              <a:gd name="textAreaTop" fmla="*/ 0 h 3929040"/>
              <a:gd name="textAreaBottom" fmla="*/ 1402920 h 3929040"/>
            </a:gdLst>
            <a:ahLst/>
            <a:rect l="textAreaLeft" t="textAreaTop" r="textAreaRight" b="textAreaBottom"/>
            <a:pathLst>
              <a:path w="21600" h="21600">
                <a:moveTo>
                  <a:pt x="10744" y="10800"/>
                </a:moveTo>
                <a:cubicBezTo>
                  <a:pt x="10744" y="10769"/>
                  <a:pt x="10769" y="10744"/>
                  <a:pt x="10800" y="10744"/>
                </a:cubicBezTo>
                <a:cubicBezTo>
                  <a:pt x="10830" y="10743"/>
                  <a:pt x="10855" y="10769"/>
                  <a:pt x="10856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AutoShape 3"/>
          <p:cNvSpPr/>
          <p:nvPr/>
        </p:nvSpPr>
        <p:spPr>
          <a:xfrm>
            <a:off x="1952640" y="5013360"/>
            <a:ext cx="4564080" cy="5079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00"/>
                </a:solidFill>
                <a:latin typeface="Times New Roman"/>
              </a:rPr>
              <a:t>思维导图及其价值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AutoShape 4"/>
          <p:cNvSpPr/>
          <p:nvPr/>
        </p:nvSpPr>
        <p:spPr>
          <a:xfrm>
            <a:off x="2355840" y="3573360"/>
            <a:ext cx="4521240" cy="5079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0bc"/>
                </a:solidFill>
                <a:latin typeface="Times New Roman"/>
              </a:rPr>
              <a:t>概念图及其价值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AutoShape 5"/>
          <p:cNvSpPr/>
          <p:nvPr/>
        </p:nvSpPr>
        <p:spPr>
          <a:xfrm>
            <a:off x="1765440" y="2200320"/>
            <a:ext cx="4678200" cy="5079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0bc"/>
                </a:solidFill>
                <a:latin typeface="Times New Roman"/>
              </a:rPr>
              <a:t>神奇的左右脑分工与知识可视化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4" name="Group 6"/>
          <p:cNvGrpSpPr/>
          <p:nvPr/>
        </p:nvGrpSpPr>
        <p:grpSpPr>
          <a:xfrm>
            <a:off x="1447920" y="2289240"/>
            <a:ext cx="380880" cy="380880"/>
            <a:chOff x="1447920" y="2289240"/>
            <a:chExt cx="380880" cy="380880"/>
          </a:xfrm>
        </p:grpSpPr>
        <p:sp>
          <p:nvSpPr>
            <p:cNvPr id="205" name="Oval 7"/>
            <p:cNvSpPr/>
            <p:nvPr/>
          </p:nvSpPr>
          <p:spPr>
            <a:xfrm>
              <a:off x="1447920" y="228924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6" name="Oval 8"/>
            <p:cNvSpPr/>
            <p:nvPr/>
          </p:nvSpPr>
          <p:spPr>
            <a:xfrm>
              <a:off x="1469520" y="231048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7" name="Oval 9"/>
            <p:cNvSpPr/>
            <p:nvPr/>
          </p:nvSpPr>
          <p:spPr>
            <a:xfrm>
              <a:off x="1488960" y="233028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8" name="Oval 10"/>
            <p:cNvSpPr/>
            <p:nvPr/>
          </p:nvSpPr>
          <p:spPr>
            <a:xfrm>
              <a:off x="1489320" y="233064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9" name="Oval 11"/>
            <p:cNvSpPr/>
            <p:nvPr/>
          </p:nvSpPr>
          <p:spPr>
            <a:xfrm>
              <a:off x="1508040" y="234936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8a8a53"/>
                </a:gs>
                <a:gs pos="50000">
                  <a:srgbClr val="ffff99"/>
                </a:gs>
                <a:gs pos="100000">
                  <a:srgbClr val="8a8a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0" name="Oval 12"/>
            <p:cNvSpPr/>
            <p:nvPr/>
          </p:nvSpPr>
          <p:spPr>
            <a:xfrm>
              <a:off x="1508760" y="235008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11" name="Group 13"/>
          <p:cNvGrpSpPr/>
          <p:nvPr/>
        </p:nvGrpSpPr>
        <p:grpSpPr>
          <a:xfrm>
            <a:off x="2050920" y="3649680"/>
            <a:ext cx="381240" cy="380880"/>
            <a:chOff x="2050920" y="3649680"/>
            <a:chExt cx="381240" cy="380880"/>
          </a:xfrm>
        </p:grpSpPr>
        <p:sp>
          <p:nvSpPr>
            <p:cNvPr id="212" name="Oval 14"/>
            <p:cNvSpPr/>
            <p:nvPr/>
          </p:nvSpPr>
          <p:spPr>
            <a:xfrm>
              <a:off x="2050920" y="364968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3" name="Oval 15"/>
            <p:cNvSpPr/>
            <p:nvPr/>
          </p:nvSpPr>
          <p:spPr>
            <a:xfrm>
              <a:off x="2072520" y="367092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4" name="Oval 16"/>
            <p:cNvSpPr/>
            <p:nvPr/>
          </p:nvSpPr>
          <p:spPr>
            <a:xfrm>
              <a:off x="2091960" y="3690720"/>
              <a:ext cx="29880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5" name="Oval 17"/>
            <p:cNvSpPr/>
            <p:nvPr/>
          </p:nvSpPr>
          <p:spPr>
            <a:xfrm>
              <a:off x="2092320" y="369108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3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6" name="Oval 18"/>
            <p:cNvSpPr/>
            <p:nvPr/>
          </p:nvSpPr>
          <p:spPr>
            <a:xfrm>
              <a:off x="2111400" y="370980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8a8a53"/>
                </a:gs>
                <a:gs pos="50000">
                  <a:srgbClr val="ffff99"/>
                </a:gs>
                <a:gs pos="100000">
                  <a:srgbClr val="8a8a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7" name="Oval 19"/>
            <p:cNvSpPr/>
            <p:nvPr/>
          </p:nvSpPr>
          <p:spPr>
            <a:xfrm>
              <a:off x="2112120" y="371052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1057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18" name="Group 20"/>
          <p:cNvGrpSpPr/>
          <p:nvPr/>
        </p:nvGrpSpPr>
        <p:grpSpPr>
          <a:xfrm>
            <a:off x="1616040" y="5114880"/>
            <a:ext cx="380880" cy="380880"/>
            <a:chOff x="1616040" y="5114880"/>
            <a:chExt cx="380880" cy="380880"/>
          </a:xfrm>
        </p:grpSpPr>
        <p:sp>
          <p:nvSpPr>
            <p:cNvPr id="219" name="Oval 21"/>
            <p:cNvSpPr/>
            <p:nvPr/>
          </p:nvSpPr>
          <p:spPr>
            <a:xfrm>
              <a:off x="1616040" y="511488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0" name="Oval 22"/>
            <p:cNvSpPr/>
            <p:nvPr/>
          </p:nvSpPr>
          <p:spPr>
            <a:xfrm>
              <a:off x="1637640" y="513612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1" name="Oval 23"/>
            <p:cNvSpPr/>
            <p:nvPr/>
          </p:nvSpPr>
          <p:spPr>
            <a:xfrm>
              <a:off x="1657080" y="515592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2" name="Oval 24"/>
            <p:cNvSpPr/>
            <p:nvPr/>
          </p:nvSpPr>
          <p:spPr>
            <a:xfrm>
              <a:off x="1657440" y="515628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3" name="Oval 25"/>
            <p:cNvSpPr/>
            <p:nvPr/>
          </p:nvSpPr>
          <p:spPr>
            <a:xfrm>
              <a:off x="1676160" y="517500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8a8a53"/>
                </a:gs>
                <a:gs pos="50000">
                  <a:srgbClr val="ffff99"/>
                </a:gs>
                <a:gs pos="100000">
                  <a:srgbClr val="8a8a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4" name="Oval 26"/>
            <p:cNvSpPr/>
            <p:nvPr/>
          </p:nvSpPr>
          <p:spPr>
            <a:xfrm>
              <a:off x="1676880" y="517572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4532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225" name="Picture 27" descr=""/>
          <p:cNvPicPr/>
          <p:nvPr/>
        </p:nvPicPr>
        <p:blipFill>
          <a:blip r:embed="rId1"/>
          <a:stretch/>
        </p:blipFill>
        <p:spPr>
          <a:xfrm>
            <a:off x="0" y="3500280"/>
            <a:ext cx="136836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2B4C7-17F5-4138-A926-AD1F942F580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A8B63-6963-4A4A-A763-32B12948447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思维导图（</a:t>
            </a:r>
            <a:r>
              <a:rPr b="1" lang="en-US" sz="2500" spc="-1" strike="noStrike">
                <a:solidFill>
                  <a:srgbClr val="ffffff"/>
                </a:solidFill>
                <a:latin typeface="黑体"/>
              </a:rPr>
              <a:t>Mind Map</a:t>
            </a: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）</a:t>
            </a: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250920" y="126828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思维导图，又名“心智图”，创始人是英国人托尼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巴赞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ny Buza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826920" y="2997360"/>
            <a:ext cx="7345440" cy="329868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6"/>
          <p:cNvSpPr/>
          <p:nvPr/>
        </p:nvSpPr>
        <p:spPr>
          <a:xfrm>
            <a:off x="250920" y="1989000"/>
            <a:ext cx="87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从一个中心主题开始，建立与其密切相关的一级概念主题，每个一级主题下面包含若干个二级主题；依次类推，构成一个树状结构，称为思维导图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D9960-9BB0-4179-A575-86C7F91E8ED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AutoShape 4"/>
          <p:cNvSpPr/>
          <p:nvPr/>
        </p:nvSpPr>
        <p:spPr>
          <a:xfrm flipH="1" rot="5400000">
            <a:off x="-2016360" y="2062800"/>
            <a:ext cx="4032360" cy="3929040"/>
          </a:xfrm>
          <a:custGeom>
            <a:avLst/>
            <a:gdLst>
              <a:gd name="textAreaLeft" fmla="*/ 360 w 4032360"/>
              <a:gd name="textAreaRight" fmla="*/ 4033080 w 4032360"/>
              <a:gd name="textAreaTop" fmla="*/ 0 h 3929040"/>
              <a:gd name="textAreaBottom" fmla="*/ 1402920 h 3929040"/>
            </a:gdLst>
            <a:ahLst/>
            <a:rect l="textAreaLeft" t="textAreaTop" r="textAreaRight" b="textAreaBottom"/>
            <a:pathLst>
              <a:path w="21600" h="21600">
                <a:moveTo>
                  <a:pt x="10744" y="10800"/>
                </a:moveTo>
                <a:cubicBezTo>
                  <a:pt x="10744" y="10769"/>
                  <a:pt x="10769" y="10744"/>
                  <a:pt x="10800" y="10744"/>
                </a:cubicBezTo>
                <a:cubicBezTo>
                  <a:pt x="10830" y="10743"/>
                  <a:pt x="10855" y="10769"/>
                  <a:pt x="10856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1952640" y="5013360"/>
            <a:ext cx="4564080" cy="5079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0bc"/>
                </a:solidFill>
                <a:latin typeface="Times New Roman"/>
              </a:rPr>
              <a:t>思维导图及其价值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AutoShape 7"/>
          <p:cNvSpPr/>
          <p:nvPr/>
        </p:nvSpPr>
        <p:spPr>
          <a:xfrm>
            <a:off x="2355840" y="3573360"/>
            <a:ext cx="4592520" cy="5079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0bc"/>
                </a:solidFill>
                <a:latin typeface="Times New Roman"/>
              </a:rPr>
              <a:t>概念图及其价值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AutoShape 9"/>
          <p:cNvSpPr/>
          <p:nvPr/>
        </p:nvSpPr>
        <p:spPr>
          <a:xfrm>
            <a:off x="1765440" y="2200320"/>
            <a:ext cx="4678200" cy="5079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0bc"/>
                </a:solidFill>
                <a:latin typeface="Times New Roman"/>
              </a:rPr>
              <a:t>神奇的左右脑分工与知识可视化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6" name="Group 10"/>
          <p:cNvGrpSpPr/>
          <p:nvPr/>
        </p:nvGrpSpPr>
        <p:grpSpPr>
          <a:xfrm>
            <a:off x="1447920" y="2289240"/>
            <a:ext cx="380880" cy="380880"/>
            <a:chOff x="1447920" y="2289240"/>
            <a:chExt cx="380880" cy="380880"/>
          </a:xfrm>
        </p:grpSpPr>
        <p:sp>
          <p:nvSpPr>
            <p:cNvPr id="57" name="Oval 11"/>
            <p:cNvSpPr/>
            <p:nvPr/>
          </p:nvSpPr>
          <p:spPr>
            <a:xfrm>
              <a:off x="1447920" y="228924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" name="Oval 12"/>
            <p:cNvSpPr/>
            <p:nvPr/>
          </p:nvSpPr>
          <p:spPr>
            <a:xfrm>
              <a:off x="1469520" y="231048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9" name="Oval 13"/>
            <p:cNvSpPr/>
            <p:nvPr/>
          </p:nvSpPr>
          <p:spPr>
            <a:xfrm>
              <a:off x="1488960" y="233028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0" name="Oval 14"/>
            <p:cNvSpPr/>
            <p:nvPr/>
          </p:nvSpPr>
          <p:spPr>
            <a:xfrm>
              <a:off x="1489320" y="233064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1" name="Oval 15"/>
            <p:cNvSpPr/>
            <p:nvPr/>
          </p:nvSpPr>
          <p:spPr>
            <a:xfrm>
              <a:off x="1508040" y="234936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8a8a53"/>
                </a:gs>
                <a:gs pos="50000">
                  <a:srgbClr val="ffff99"/>
                </a:gs>
                <a:gs pos="100000">
                  <a:srgbClr val="8a8a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" name="Oval 16"/>
            <p:cNvSpPr/>
            <p:nvPr/>
          </p:nvSpPr>
          <p:spPr>
            <a:xfrm>
              <a:off x="1508760" y="235008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3" name="Group 24"/>
          <p:cNvGrpSpPr/>
          <p:nvPr/>
        </p:nvGrpSpPr>
        <p:grpSpPr>
          <a:xfrm>
            <a:off x="2050920" y="3649680"/>
            <a:ext cx="381240" cy="380880"/>
            <a:chOff x="2050920" y="3649680"/>
            <a:chExt cx="381240" cy="380880"/>
          </a:xfrm>
        </p:grpSpPr>
        <p:sp>
          <p:nvSpPr>
            <p:cNvPr id="64" name="Oval 25"/>
            <p:cNvSpPr/>
            <p:nvPr/>
          </p:nvSpPr>
          <p:spPr>
            <a:xfrm>
              <a:off x="2050920" y="364968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" name="Oval 26"/>
            <p:cNvSpPr/>
            <p:nvPr/>
          </p:nvSpPr>
          <p:spPr>
            <a:xfrm>
              <a:off x="2072520" y="367092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" name="Oval 27"/>
            <p:cNvSpPr/>
            <p:nvPr/>
          </p:nvSpPr>
          <p:spPr>
            <a:xfrm>
              <a:off x="2091960" y="3690720"/>
              <a:ext cx="29880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" name="Oval 28"/>
            <p:cNvSpPr/>
            <p:nvPr/>
          </p:nvSpPr>
          <p:spPr>
            <a:xfrm>
              <a:off x="2092320" y="369108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3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" name="Oval 29"/>
            <p:cNvSpPr/>
            <p:nvPr/>
          </p:nvSpPr>
          <p:spPr>
            <a:xfrm>
              <a:off x="2111400" y="370980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8a8a53"/>
                </a:gs>
                <a:gs pos="50000">
                  <a:srgbClr val="ffff99"/>
                </a:gs>
                <a:gs pos="100000">
                  <a:srgbClr val="8a8a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" name="Oval 30"/>
            <p:cNvSpPr/>
            <p:nvPr/>
          </p:nvSpPr>
          <p:spPr>
            <a:xfrm>
              <a:off x="2112120" y="371052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1057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70" name="Group 31"/>
          <p:cNvGrpSpPr/>
          <p:nvPr/>
        </p:nvGrpSpPr>
        <p:grpSpPr>
          <a:xfrm>
            <a:off x="1616040" y="5114880"/>
            <a:ext cx="380880" cy="380880"/>
            <a:chOff x="1616040" y="5114880"/>
            <a:chExt cx="380880" cy="380880"/>
          </a:xfrm>
        </p:grpSpPr>
        <p:sp>
          <p:nvSpPr>
            <p:cNvPr id="71" name="Oval 32"/>
            <p:cNvSpPr/>
            <p:nvPr/>
          </p:nvSpPr>
          <p:spPr>
            <a:xfrm>
              <a:off x="1616040" y="511488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" name="Oval 33"/>
            <p:cNvSpPr/>
            <p:nvPr/>
          </p:nvSpPr>
          <p:spPr>
            <a:xfrm>
              <a:off x="1637640" y="513612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3" name="Oval 34"/>
            <p:cNvSpPr/>
            <p:nvPr/>
          </p:nvSpPr>
          <p:spPr>
            <a:xfrm>
              <a:off x="1657080" y="515592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4" name="Oval 35"/>
            <p:cNvSpPr/>
            <p:nvPr/>
          </p:nvSpPr>
          <p:spPr>
            <a:xfrm>
              <a:off x="1657440" y="515628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5" name="Oval 36"/>
            <p:cNvSpPr/>
            <p:nvPr/>
          </p:nvSpPr>
          <p:spPr>
            <a:xfrm>
              <a:off x="1676160" y="517500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8a8a53"/>
                </a:gs>
                <a:gs pos="50000">
                  <a:srgbClr val="ffff99"/>
                </a:gs>
                <a:gs pos="100000">
                  <a:srgbClr val="8a8a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" name="Oval 37"/>
            <p:cNvSpPr/>
            <p:nvPr/>
          </p:nvSpPr>
          <p:spPr>
            <a:xfrm>
              <a:off x="1676880" y="517572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4532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77" name="Picture 45" descr=""/>
          <p:cNvPicPr/>
          <p:nvPr/>
        </p:nvPicPr>
        <p:blipFill>
          <a:blip r:embed="rId1"/>
          <a:stretch/>
        </p:blipFill>
        <p:spPr>
          <a:xfrm>
            <a:off x="0" y="3500280"/>
            <a:ext cx="1368360" cy="1116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0360" y="123480"/>
            <a:ext cx="3981600" cy="65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提纲</a:t>
            </a: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49396-2353-454A-8AAE-98D76C0C1C9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8D818-FE64-4AD0-8D11-71644A258F1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755640" y="5445000"/>
            <a:ext cx="763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思维导图是一种非常有用的图形技术，是打开人类思维的万能钥匙。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——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托尼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·</a:t>
            </a:r>
            <a:r>
              <a:rPr b="1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巴赞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6" name="Picture 25" descr=""/>
          <p:cNvPicPr/>
          <p:nvPr/>
        </p:nvPicPr>
        <p:blipFill>
          <a:blip r:embed="rId1"/>
          <a:stretch/>
        </p:blipFill>
        <p:spPr>
          <a:xfrm>
            <a:off x="826920" y="1279440"/>
            <a:ext cx="705492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F03DF-ADD0-474E-9E3C-766E0499AFD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73A99-FBD2-4B4D-A8C0-4A7CD36F714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思维导图赋予人类“鹰眼”的强大能力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67438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E2D76-D279-4EF4-80CA-376FAA9FE5C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思维导图有助于人们提高分类思维水平</a:t>
            </a: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62812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分类法是人类科学认识世界最重要的基本方法之一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正确的分类思维是人们正确做事的基本前提之一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良好的分类思维习惯是提高思维品质和创新思维能力的途径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自觉的分类思维是提高工作效率的保障手段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思维导图一级节点：对复杂系统分类的几个维度（属性）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二级节点：具有同一属性对象的集合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二级节点：具有同一亚属性子对象的集合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262AE-C65C-49BF-BCD1-13AB84C358F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6F714-CB83-4578-8147-C8B8012B203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思维导图的应用场合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247" name="Picture 5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8172720" cy="401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3CD2F-D4B1-47DA-A916-6D2BAB7F006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FBEC8-A823-476E-99C3-DEEBC21CFED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思维导图示例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1"/>
          <a:stretch/>
        </p:blipFill>
        <p:spPr>
          <a:xfrm>
            <a:off x="1403280" y="1197000"/>
            <a:ext cx="5553000" cy="50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6F295-7D56-42F4-B40F-9985B7B2793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4014F-598E-49F1-9570-9CFFF814CD1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思维导图示例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255" name="Picture 4" descr=""/>
          <p:cNvPicPr/>
          <p:nvPr/>
        </p:nvPicPr>
        <p:blipFill>
          <a:blip r:embed="rId1"/>
          <a:stretch/>
        </p:blipFill>
        <p:spPr>
          <a:xfrm>
            <a:off x="2411280" y="1125360"/>
            <a:ext cx="4038840" cy="520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4D6F1-D2E6-4060-8603-08BC22EF712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9BAC4-CBD6-43F0-9110-3280D194BCE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1447920" y="1405080"/>
            <a:ext cx="6184800" cy="4329000"/>
          </a:xfrm>
          <a:prstGeom prst="roundRect">
            <a:avLst>
              <a:gd name="adj" fmla="val 3481"/>
            </a:avLst>
          </a:prstGeom>
          <a:noFill/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1619280" y="1557360"/>
            <a:ext cx="5908680" cy="135108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4ea7ea"/>
              </a:gs>
              <a:gs pos="100000">
                <a:srgbClr val="daecf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AutoShape 6"/>
          <p:cNvSpPr/>
          <p:nvPr/>
        </p:nvSpPr>
        <p:spPr>
          <a:xfrm>
            <a:off x="1547640" y="2014560"/>
            <a:ext cx="646200" cy="419040"/>
          </a:xfrm>
          <a:prstGeom prst="rightArrow">
            <a:avLst>
              <a:gd name="adj1" fmla="val 50000"/>
              <a:gd name="adj2" fmla="val 6425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AutoShape 7"/>
          <p:cNvSpPr/>
          <p:nvPr/>
        </p:nvSpPr>
        <p:spPr>
          <a:xfrm>
            <a:off x="1619280" y="2919240"/>
            <a:ext cx="5908680" cy="135108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cc99ff"/>
              </a:gs>
              <a:gs pos="100000">
                <a:srgbClr val="f4e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AutoShape 8"/>
          <p:cNvSpPr/>
          <p:nvPr/>
        </p:nvSpPr>
        <p:spPr>
          <a:xfrm>
            <a:off x="1547640" y="3386160"/>
            <a:ext cx="646200" cy="419040"/>
          </a:xfrm>
          <a:prstGeom prst="rightArrow">
            <a:avLst>
              <a:gd name="adj1" fmla="val 50000"/>
              <a:gd name="adj2" fmla="val 6425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AutoShape 9"/>
          <p:cNvSpPr/>
          <p:nvPr/>
        </p:nvSpPr>
        <p:spPr>
          <a:xfrm>
            <a:off x="1619280" y="4224240"/>
            <a:ext cx="5908680" cy="135108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93c052"/>
              </a:gs>
              <a:gs pos="100000">
                <a:srgbClr val="e8f2d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AutoShape 10"/>
          <p:cNvSpPr/>
          <p:nvPr/>
        </p:nvSpPr>
        <p:spPr>
          <a:xfrm>
            <a:off x="1547640" y="4681440"/>
            <a:ext cx="646200" cy="419040"/>
          </a:xfrm>
          <a:prstGeom prst="rightArrow">
            <a:avLst>
              <a:gd name="adj1" fmla="val 50000"/>
              <a:gd name="adj2" fmla="val 6425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2340000" y="458136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在具体的实践应用中，可以将两者“整合”起来，为改进人类的学习和提高绩效做出更大贡献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Text Box 12"/>
          <p:cNvSpPr/>
          <p:nvPr/>
        </p:nvSpPr>
        <p:spPr>
          <a:xfrm>
            <a:off x="2340000" y="328464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无论是概念图还是思维导图，都能帮助人直观地思维和记忆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同时开发右半脑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Text Box 13"/>
          <p:cNvSpPr/>
          <p:nvPr/>
        </p:nvSpPr>
        <p:spPr>
          <a:xfrm>
            <a:off x="2411280" y="1989000"/>
            <a:ext cx="488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爱因斯坦说过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天才的思维是直观的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6607-34C5-426E-A000-30C29D62A75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281800" cy="9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ffff"/>
                </a:solidFill>
                <a:latin typeface="黑体"/>
              </a:rPr>
              <a:t>把思维导图概念图变成</a:t>
            </a:r>
            <a:r>
              <a:rPr b="1" lang="zh-CN" sz="21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2100" spc="-1" strike="noStrike">
                <a:solidFill>
                  <a:srgbClr val="ffffff"/>
                </a:solidFill>
                <a:latin typeface="黑体"/>
              </a:rPr>
              <a:t>人人工具</a:t>
            </a:r>
            <a:r>
              <a:rPr b="1" lang="zh-CN" sz="2100" spc="-1" strike="noStrike">
                <a:solidFill>
                  <a:srgbClr val="ffffff"/>
                </a:solidFill>
                <a:latin typeface="Arial"/>
              </a:rPr>
              <a:t>”</a:t>
            </a:r>
            <a:br>
              <a:rPr sz="2100"/>
            </a:b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2100" spc="-1" strike="noStrike">
                <a:solidFill>
                  <a:srgbClr val="ffffff"/>
                </a:solidFill>
                <a:latin typeface="黑体"/>
              </a:rPr>
              <a:t>我们共同的事业理想</a:t>
            </a:r>
            <a:endParaRPr b="1" lang="en-US" sz="21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11280" y="2349000"/>
            <a:ext cx="7921440" cy="28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楷体"/>
              </a:rPr>
              <a:t>推广普及思维导图和概念图应用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楷体"/>
              </a:rPr>
              <a:t>提高我们的工作学习质量与效率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楷体"/>
              </a:rPr>
              <a:t>提升民族的创新能力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15C7A-79C0-43A9-B976-620F2CB9E74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WordArt 9"/>
          <p:cNvSpPr txBox="1"/>
          <p:nvPr/>
        </p:nvSpPr>
        <p:spPr>
          <a:xfrm>
            <a:off x="2050920" y="3573360"/>
            <a:ext cx="480240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00ff00"/>
                    </a:gs>
                  </a:gsLst>
                  <a:lin ang="0"/>
                </a:gradFill>
                <a:effectLst>
                  <a:outerShdw dist="107932" dir="2700000" blurRad="0" rotWithShape="0">
                    <a:srgbClr val="b2b2b2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00ff00"/>
                  </a:gs>
                </a:gsLst>
                <a:lin ang="0"/>
              </a:gradFill>
              <a:effectLst>
                <a:outerShdw dist="107932" dir="2700000" blurRad="0" rotWithShape="0">
                  <a:srgbClr val="b2b2b2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4B91C-E844-4FCE-90F7-F283409A540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F80BA-612D-4736-87AB-8A53427E94D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神奇的左右脑分工</a:t>
            </a: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82" name="Picture 4" descr="左右脑分工_修改版"/>
          <p:cNvPicPr/>
          <p:nvPr/>
        </p:nvPicPr>
        <p:blipFill>
          <a:blip r:embed="rId1"/>
          <a:srcRect l="0" t="5492" r="0" b="5492"/>
          <a:stretch/>
        </p:blipFill>
        <p:spPr>
          <a:xfrm>
            <a:off x="250920" y="1084320"/>
            <a:ext cx="8858160" cy="544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6E97E-B91A-425E-A585-D02D95DDCE9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A3E81-6858-4F28-A0A1-519671EB8CE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右脑的专长</a:t>
            </a: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86" name="Picture 4" descr="右脑的特长"/>
          <p:cNvPicPr/>
          <p:nvPr/>
        </p:nvPicPr>
        <p:blipFill>
          <a:blip r:embed="rId1"/>
          <a:stretch/>
        </p:blipFill>
        <p:spPr>
          <a:xfrm>
            <a:off x="971640" y="1557360"/>
            <a:ext cx="7453080" cy="448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40220-966F-49AB-BD29-769AA4DEEA1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05937-6C19-45E1-9DA7-8890D821699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从</a:t>
            </a:r>
            <a:r>
              <a:rPr b="1" lang="zh-CN" sz="25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用进废退</a:t>
            </a:r>
            <a:r>
              <a:rPr b="1" lang="zh-CN" sz="25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观点看人脑</a:t>
            </a: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1187280" y="1341360"/>
            <a:ext cx="6985080" cy="498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60D69-12C1-401E-A5B0-1DE8A906473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DAF36-4B77-425F-AC22-0BA135BA526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小测试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左脑的认知加工效率</a:t>
            </a: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94" name="Picture 4" descr="2"/>
          <p:cNvPicPr/>
          <p:nvPr/>
        </p:nvPicPr>
        <p:blipFill>
          <a:blip r:embed="rId1"/>
          <a:stretch/>
        </p:blipFill>
        <p:spPr>
          <a:xfrm>
            <a:off x="971640" y="2637000"/>
            <a:ext cx="6875280" cy="34938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539640" y="1527120"/>
            <a:ext cx="79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格中的数据是一组学生的三科考试成绩，请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秒钟，从表格中找出每科得分最高的学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计时开始！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32C25-0CFC-4A39-A7FD-0ACA6684C4E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3BF33-6233-4E7E-A705-220DBCC2F29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小测试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右脑的认知加工效率</a:t>
            </a: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99" name="Picture 4" descr="2"/>
          <p:cNvPicPr/>
          <p:nvPr/>
        </p:nvPicPr>
        <p:blipFill>
          <a:blip r:embed="rId1"/>
          <a:stretch/>
        </p:blipFill>
        <p:spPr>
          <a:xfrm>
            <a:off x="1116000" y="2852640"/>
            <a:ext cx="7345440" cy="34988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539640" y="1527120"/>
            <a:ext cx="792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将前面的表格数据转换成图形，同样请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秒钟，从图中找出每科得分最高的学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计时开始！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FEF76-9F7B-4C04-84F5-622BFDD6544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F7BBB-4440-4178-B245-9E33BA9C320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提倡全脑思维</a:t>
            </a: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1692360" y="1484280"/>
            <a:ext cx="4895640" cy="474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6C686-6831-4BD2-9FB2-7477908599B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2447D-3E35-4F0F-A5D9-319887D71E7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知识可视化的价值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促进</a:t>
            </a:r>
            <a:r>
              <a:rPr b="1" lang="zh-CN" sz="25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全脑思维</a:t>
            </a:r>
            <a:r>
              <a:rPr b="1" lang="zh-CN" sz="25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1547640" y="3068640"/>
            <a:ext cx="6120000" cy="299232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5"/>
          <p:cNvSpPr/>
          <p:nvPr/>
        </p:nvSpPr>
        <p:spPr>
          <a:xfrm>
            <a:off x="1258920" y="1268280"/>
            <a:ext cx="6384960" cy="1224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9933"/>
              </a:gs>
              <a:gs pos="50000">
                <a:srgbClr val="fdba10"/>
              </a:gs>
              <a:gs pos="100000">
                <a:srgbClr val="ff9933"/>
              </a:gs>
            </a:gsLst>
            <a:lin ang="2700000"/>
          </a:gradFill>
          <a:ln w="0">
            <a:noFill/>
          </a:ln>
          <a:effectLst>
            <a:outerShdw dist="153753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1308240" y="1370160"/>
            <a:ext cx="6238800" cy="1049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50000">
                <a:srgbClr val="ffffff"/>
              </a:gs>
              <a:gs pos="100000">
                <a:srgbClr val="d2d2d2"/>
              </a:gs>
            </a:gsLst>
            <a:lin ang="2700000"/>
          </a:gradFill>
          <a:ln w="0">
            <a:noFill/>
          </a:ln>
          <a:effectLst>
            <a:outerShdw dist="153753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  <a:ea typeface="PMingLiU"/>
              </a:rPr>
              <a:t>     </a:t>
            </a:r>
            <a:r>
              <a:rPr b="1" lang="zh-CN" sz="1800" spc="-1" strike="noStrike">
                <a:solidFill>
                  <a:srgbClr val="800000"/>
                </a:solidFill>
                <a:latin typeface="Arial"/>
              </a:rPr>
              <a:t>知识可视化将认知对象同时以图、文形式表达，可以有效促进全脑思维，提升思维效率和品质。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03:29:06Z</dcterms:created>
  <dc:creator>YN</dc:creator>
  <dc:description/>
  <dc:language>en-US</dc:language>
  <cp:lastModifiedBy>jhkou</cp:lastModifiedBy>
  <dcterms:modified xsi:type="dcterms:W3CDTF">2013-02-23T08:00:47Z</dcterms:modified>
  <cp:revision>66</cp:revision>
  <dc:subject/>
  <dc:title>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2052</vt:r8>
  </property>
  <property fmtid="{D5CDD505-2E9C-101B-9397-08002B2CF9AE}" pid="3" name="Version">
    <vt:r8>1</vt:r8>
  </property>
</Properties>
</file>