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DFA-1FA5-4B4A-B58E-4E53E513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B71-3378-4504-97CA-5B9B4AF1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CF5-2F47-433E-836F-82C0C3BF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0BB-8805-41FF-8B60-D6BDE5E1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AD9E-31E9-4FA6-857D-5A0551FC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7C30-A7B1-4249-BC92-C744AD28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4F71-6F19-4313-A3FA-A79E5342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E7A0-7793-466D-9255-6BD11ED7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07E2-DD0F-4780-8DC1-04DAB7D1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E24D-2DE7-477B-B46F-13F840CB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3B6F-41CD-4A08-8D27-5B1F046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4EB-F535-43BC-93EE-25D4FDB4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08E9-36BA-416A-BB63-BBF78431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39A0-A307-4A8E-B254-AB20ABFA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0731-DD6B-4904-9AAF-5C290798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B906-2F5F-41C9-8820-C23E222F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67E1-579F-46F2-8ABE-89512E61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9CC-EC0B-4C1B-A43C-5B4ED3CA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8CD-5858-4048-A8FB-3B389499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CF2-EA13-4396-B895-87FE952C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896-1905-4FEC-A85E-A891154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BC5-782D-4025-BA8D-E40ED36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BD1-1448-47AC-9EEC-347A81D8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DB7-9BAE-418F-A7F3-C6B55CF7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0B5-377C-489F-866C-000915658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1E7F-A39B-4246-9D80-30C56D5F5B6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5148@tjc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BEE7-BD91-4F2E-A983-0C0A084310E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4721-A5B3-441D-9736-D2B7D851AA6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44F-C6B5-4207-BFF2-AB42C13976C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5549-050F-444B-9D2A-42C640A5B0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153-D057-4B94-BF8D-DB2A266B388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高相关度的检索入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题名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键词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文摘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全文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1658-7412-4550-B093-AEBFBD28419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用“全文”等低相关度的检索途径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0F6B-4786-4A07-9A90-F5AB946936D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CCDC-CC99-452A-B595-CEF0F6490E8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02E4-4A2F-4939-8D26-852E75D2740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D820-6AD9-4666-8C5A-6DE92E29B00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8AF7-2637-4B78-9116-96E823916D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610C-68CB-451E-B8C2-57752E60BED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BABB-4BAD-4DFC-B353-8E348C29727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6CB4-3C67-4359-8F2C-BB81D111E12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jhkou</cp:lastModifiedBy>
  <cp:lastPrinted>1899-12-30T00:00:00Z</cp:lastPrinted>
  <dcterms:modified xsi:type="dcterms:W3CDTF">2013-02-23T08:40:27Z</dcterms:modified>
  <cp:revision>152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