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D94-00F4-4908-B9BB-7354C952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A18-BBE5-4E47-A42D-0ED557F7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515-95F4-4C21-86A7-A7C3AECA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CB2-CF62-48B7-870E-3D8AC9AF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3848-B41D-4C67-9368-3847F404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72BF-040F-42EC-B899-EE60A3F7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F789-2489-4982-A9C0-3FAE66EB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DB53-A803-4956-86E7-C9D9B595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1B01-6B7E-4402-BAF9-9BF1C5E3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A1B5-D152-4806-85F5-C742225D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6EC4-AECF-47D5-8BD0-EB00F234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F521-205C-478D-8056-B979C244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C099-FF73-4911-99C7-F62F5CFB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25A9-63A4-49C4-B117-1869C9F8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529E-4334-4AED-B925-5F6FD02A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58F6-56F6-462C-B309-8EB74630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62B1-4FCB-4A7D-8E21-F57BFF33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A3C-0395-4938-86D5-5CFDB570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FF4-D99E-41D9-874F-599D19AD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418-4D02-48A5-B471-ADD4CF7A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933-9D7E-42DF-A2A8-DFAA6D05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E37-9BFF-41D8-9C82-E41CD177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3D34-2C00-480F-8598-BA148586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DBB-8FF2-4B0C-9C1D-DD09C6F9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E349-3B0B-4691-92D6-361952365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FA40-5641-4ECC-B1C8-75DFA7C5273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u5148@tjcu.edu.c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34B7-EAE2-462C-A0C7-47B358691E1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信息检索基础知识与信息</a:t>
            </a:r>
            <a:br>
              <a:rPr sz="4400"/>
            </a:b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检索技巧专题讲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天津商学院图书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吴凤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mail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u5148@tjcu.edu.c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电话：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66840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BAF5-5F48-40DF-A732-E110116F290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（三）限制检索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制检索是缩小或约束检索结果的方法，主要是指限定字段检索，即是指定检索词在记录中出现的字段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常用的字段代码有：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题名）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U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作者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文摘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JN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刊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Y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年代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语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如：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information science/TI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LA=english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文摘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网络信息资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B36A-22E5-4F7D-9037-7E5AB60AA04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四、机检系统常用检索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简单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basic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单项检索。一般只需输入一个检索词，辅以相应的途径即可进行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二次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原有简单检索的结果基础上，再进行检索。可反复使用，不断扩大或缩小检索范围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高级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advanced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多项组合检索，一般输入多个检索词进行组配。有的检索系统也称为复杂检索或扩展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专家检索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：用多个检索词与各种运算符组成检索式，功能与高级检索相似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9A96-13BD-4241-9D6B-83604A74C1F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五、检索技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最重要的两个指标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“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”与“检准率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准率：指检出的相关文献量与检出文献总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比率。反应检索结果的准确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：指检出的相 关文献量与检索系统中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关文献总量的比率。反映检索结果的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全面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54BC-48E5-4E6E-888E-5E01EDB52EA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一）提高检准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高相关度的检索入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题名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关键词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文摘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全文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限制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在百度中可以进行多种限制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定搜索网站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(site:     )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文档格式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iletype:pp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o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df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xl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反复使用二次检索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精确检索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百度中的“”（双引号）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《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书名号）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维普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NK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的“精确检索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1F01-4BE7-48DC-B3DA-9E8252B2D7E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二）提高检全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用“全文”等低相关度的检索途径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同、近义词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模糊检索”和“截词检索”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利用文献后所附“参考文献”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7617-F203-4AAA-90D8-372E6DB2821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一、信息检索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是将信息按一定的方式组织和存储起来，并根据信息用户的需要找出有关信息的过程和技术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对于信息用户而言，就是从信息集合中找出所需信息的过程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信息检索基本原理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提问标识（检索式）与文献标识的对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8116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A75A-AFC2-4563-945A-386884F9FBE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二、信息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检索途径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又称为检索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依据文献的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外部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题名、责任者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出版者、出版时间等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内容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分类号、主题词、关键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或自由词等）来确定，是信息检索的入口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65E4-A102-4958-A96F-680521BBCFF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常用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题名（篇名）途径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篇名中的字词或篇名的一部分进行检索。其结果是所有在篇名中出现该字、该词或该部分的文章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著者途径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作者名字进行检索。可查到该作者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分类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分类名和分类号进行检索。其结果是该类目所有的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BD9A-97C8-4685-A876-00BD6B77980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主题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规范词（主题词）进行检索，其结果是包含该主题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关键词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关键词（自由词）进行检索，其结果是包含该关键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序号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的各种代码、数字编制的索引查找文献，如专利号、技术标准的标准号、科技报告的报告号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其他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文献类型、参考文献、语种、出版（发表）年份、作者机构、出版机构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0D1B-344B-4909-87FF-E26EF3A982F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三、信息检索常用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布尔逻辑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布尔逻辑算符来表达检索词间的逻辑组配关系，是最基本、最常用的检索技术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或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并列关系。可扩大检索范围，提高查全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中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都为检索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2895480" y="4800600"/>
            <a:ext cx="190512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5105520" y="4800600"/>
            <a:ext cx="175248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9A17-F2F8-42FD-B2EF-ED301C99D39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与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交叉关系。可缩小检索范围，提高查准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*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必须同时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才为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非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排除关系。可缩小检索范围，提高查准率，但要慎用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-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不包含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那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3733920" y="4724280"/>
            <a:ext cx="2438280" cy="16002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952880" y="5029200"/>
            <a:ext cx="1143000" cy="9907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2895480" y="1752480"/>
            <a:ext cx="2286000" cy="14479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4495680" y="1752480"/>
            <a:ext cx="2133720" cy="1447920"/>
          </a:xfrm>
          <a:prstGeom prst="ellipse">
            <a:avLst/>
          </a:prstGeom>
          <a:solidFill>
            <a:srgbClr val="ffcc66">
              <a:alpha val="50000"/>
            </a:srgbClr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8C11-A43C-40A6-9B4C-619D7786D85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截词检索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又称词干检索、模糊检索。检索时，只需用词干加截词符号，凡是含有与该词干相同的文献均能被检出。该方法能很好避免漏检现象的出现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系统不同，截词符也不同，常用的截词符号有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为有限截词（即一个截词符只代表一个字符）和无限截词（一个截词符可代表多个字符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按截断的位置来分，截词可分为后截断、前截断、中截断三种类型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1FA8-6648-420B-9DDB-9CB4A2AC4BB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举例说明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后截断，前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mputer,computers,computin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王伟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可查出所有名字中含“王伟”的作者的文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前截断，后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截断，中间一致。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作者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张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出张亚静、张雪静、张宇静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9:52:10Z</dcterms:created>
  <dc:creator>liu</dc:creator>
  <dc:description/>
  <dc:language>en-US</dc:language>
  <cp:lastModifiedBy>jhkou</cp:lastModifiedBy>
  <cp:lastPrinted>1899-12-30T00:00:00Z</cp:lastPrinted>
  <dcterms:modified xsi:type="dcterms:W3CDTF">2013-02-23T08:40:27Z</dcterms:modified>
  <cp:revision>152</cp:revision>
  <dc:subject/>
  <dc:title>信息检索基础知识与信息 检索技巧专题讲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