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DD06-7297-4E1A-8D54-65E82843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B9A8-125C-4C76-8B68-FB4357DB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0D80-21CC-4168-8109-7ADCCFBF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DF52-3EB2-41C1-A616-F74813F5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BB72-1497-41C0-BA47-77573700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32E1-8C6B-4A3D-8916-087CE98B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FA7F-0611-4DB4-8127-AD52FF3F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AECB-E4EE-4181-8334-85ACE415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DD9D-ED02-4A44-9494-CF53D7A3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9F12-E97F-4622-B105-89FB603C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9249-8F9E-4CD9-BAB1-38A464A8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7FA6-5EBA-4806-B70B-341B93AE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5761-0DAA-4812-83BC-D8CFFCD2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10EC-454B-41E3-94EF-4331C718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241F-2755-4987-A74F-4830C72D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0F98-264C-423F-9574-2D4EE3F0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61EC-630C-4222-BE9C-E3D1DD79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EB6-F220-4F91-B502-620A1A43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391F-CCCA-45F1-AC52-EEFED90A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2101-1594-4909-80EC-103B1E4F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2042-6106-4B7B-BD09-7B0147B7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03C3-374A-41D0-855A-84F27079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7176-05DF-4B2D-842C-5BD07CD6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4EAD-633B-46B6-8B17-8BC99DE8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204C-E69C-480C-9D74-C71D97DFD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552F-7D5C-476B-B6CA-089E453EFC4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u5148@tjcu.edu.cn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1B50-1D49-4F1C-86D7-FF047E5AF9A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信息检索基础知识与信息</a:t>
            </a:r>
            <a:br>
              <a:rPr sz="4400"/>
            </a:b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检索技巧专题讲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2590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天津商学院图书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吴凤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mail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wu5148@tjcu.edu.c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电话：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668401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39DB-B50C-4E25-A00E-0794B97F1C4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（三）限制检索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限制检索是缩小或约束检索结果的方法，主要是指限定字段检索，即是指定检索词在记录中出现的字段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常用的字段代码有：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TI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题名）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U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作者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文摘）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JN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刊名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PY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年代）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L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语种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如：   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information science/TI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LA=english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文摘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网络信息资源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AFBF-64E3-4238-9A68-4A54A095242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四、机检系统常用检索方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简单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basic search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是一种单项检索。一般只需输入一个检索词，辅以相应的途径即可进行检索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二次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在原有简单检索的结果基础上，再进行检索。可反复使用，不断扩大或缩小检索范围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高级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advanced search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是一种多项组合检索，一般输入多个检索词进行组配。有的检索系统也称为复杂检索或扩展检索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专家检索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：用多个检索词与各种运算符组成检索式，功能与高级检索相似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5CDB-CE7E-4959-8F05-C574F4EBDBB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五、检索技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信息检索最重要的两个指标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“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全率”与“检准率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准率：指检出的相关文献量与检出文献总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比率。反应检索结果的准确性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全率：指检出的相 关文献量与检索系统中相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关文献总量的比率。反映检索结果的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全面性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D62D-75DE-4E67-8C74-62146800A3D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（一）提高检准率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查准率由高到低：题名</a:t>
            </a:r>
            <a:r>
              <a:rPr b="0" lang="en-US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&gt;</a:t>
            </a:r>
            <a:r>
              <a:rPr b="0" lang="zh-CN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关键词</a:t>
            </a:r>
            <a:r>
              <a:rPr b="0" lang="en-US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&gt;</a:t>
            </a:r>
            <a:r>
              <a:rPr b="0" lang="zh-CN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全文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限制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：在百度中可以进行多种限制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限定搜索网站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(site:     )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文档格式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filetype:ppt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oc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pdf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xls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反复使用二次检索（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nd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“精确检索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：百度中的“”（双引号）与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《》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书名号）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维普与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NKI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的“精确检索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6A8E-A791-4785-A3F4-2DE52BCE690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（二）提高检全率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查全率由高到低：全文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&gt;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关键词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&gt;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题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同、近义词（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or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“模糊检索”和“截词检索”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利用文献后所附“参考文献”进行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9109-74D2-4441-ACFF-E747FCCFA8A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一、信息检索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信息检索是将信息按一定的方式组织和存储起来，并根据信息用户的需要找出有关信息的过程和技术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对于信息用户而言，就是从信息集合中找出所需信息的过程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信息检索基本原理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提问标识（检索式）与文献标识的对比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8116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2DC0-BE35-4DDB-A4DC-FAE53B7E70C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二、信息检索途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检索途径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又称为检索点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依据文献的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黑体"/>
              </a:rPr>
              <a:t>外部特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题名、责任者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出版者、出版时间等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黑体"/>
              </a:rPr>
              <a:t>内容特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分类号、主题词、关键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或自由词等）来确定，是信息检索的入口点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F312-302A-4556-9E01-F020E524218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常用检索途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题名（篇名）途径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篇名中的字词或篇名的一部分进行检索。其结果是所有在篇名中出现该字、该词或该部分的文章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著者途径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文献作者名字进行检索。可查到该作者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分类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分类名和分类号进行检索。其结果是该类目所有的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6E94-FE2C-408D-B94D-05C038E640C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主题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与该篇文献主题相关的规范词（主题词）进行检索，其结果是包含该主题词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关键词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与该篇文献主题相关的关键词（自由词）进行检索，其结果是包含该关键词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序号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文献的各种代码、数字编制的索引查找文献，如专利号、技术标准的标准号、科技报告的报告号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其他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文献类型、参考文献、语种、出版（发表）年份、作者机构、出版机构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25E6-B6F3-4452-A8EA-C0741DF6A98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三、信息检索常用方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布尔逻辑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用布尔逻辑算符来表达检索词间的逻辑组配关系，是最基本、最常用的检索技术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或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OR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并列关系。可扩大检索范围，提高查全率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+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中含有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都为检索命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2895480" y="4800600"/>
            <a:ext cx="1905120" cy="152388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Oval 10"/>
          <p:cNvSpPr/>
          <p:nvPr/>
        </p:nvSpPr>
        <p:spPr>
          <a:xfrm>
            <a:off x="5105520" y="4800600"/>
            <a:ext cx="1752480" cy="152388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41D9-6661-48F0-B2B8-753F4E97BD9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371600" y="3049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与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AND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交叉关系。可缩小检索范围，提高查准率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*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必须同时含有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才为命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非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排除关系。可缩小检索范围，提高查准率，但要慎用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-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是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不包含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那部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3733920" y="4724280"/>
            <a:ext cx="2438280" cy="16002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Oval 12"/>
          <p:cNvSpPr/>
          <p:nvPr/>
        </p:nvSpPr>
        <p:spPr>
          <a:xfrm>
            <a:off x="4952880" y="5029200"/>
            <a:ext cx="1143000" cy="9907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Oval 20"/>
          <p:cNvSpPr/>
          <p:nvPr/>
        </p:nvSpPr>
        <p:spPr>
          <a:xfrm>
            <a:off x="2895480" y="1752480"/>
            <a:ext cx="2286000" cy="14479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Oval 21"/>
          <p:cNvSpPr/>
          <p:nvPr/>
        </p:nvSpPr>
        <p:spPr>
          <a:xfrm>
            <a:off x="4495680" y="1752480"/>
            <a:ext cx="2133720" cy="1447920"/>
          </a:xfrm>
          <a:prstGeom prst="ellipse">
            <a:avLst/>
          </a:prstGeom>
          <a:solidFill>
            <a:srgbClr val="ffcc66">
              <a:alpha val="50000"/>
            </a:srgbClr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6BF1-B4EC-452F-93EA-E23474801EA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截词检索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又称词干检索、模糊检索。检索时，只需用词干加截词符号，凡是含有与该词干相同的文献均能被检出。该方法能很好避免漏检现象的出现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检索系统不同，截词符也不同，常用的截词符号有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？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分为有限截词（即一个截词符只代表一个字符）和无限截词（一个截词符可代表多个字符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按截断的位置来分，截词可分为后截断、前截断、中截断三种类型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EA2F-5AF8-458E-B7C6-89466CC02F8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71600" y="4572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举例说明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后截断，前方一致。如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*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mputer,computers,computing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王伟？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可查出所有名字中含“王伟”的作者的文献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前截断，后方一致。如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er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inicomputer,microcomputer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截断，中间一致。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*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inicomputer,microcomputers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作者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张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检索出张亚静、张雪静、张宇静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9:52:10Z</dcterms:created>
  <dc:creator>liu</dc:creator>
  <dc:description/>
  <dc:language>en-US</dc:language>
  <cp:lastModifiedBy>jhkou</cp:lastModifiedBy>
  <cp:lastPrinted>1899-12-30T00:00:00Z</cp:lastPrinted>
  <dcterms:modified xsi:type="dcterms:W3CDTF">2014-02-24T07:30:05Z</dcterms:modified>
  <cp:revision>155</cp:revision>
  <dc:subject/>
  <dc:title>信息检索基础知识与信息 检索技巧专题讲座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