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FDF-8F5A-4467-A7A1-4FC909F9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4276-3FC7-40F1-B83B-F7F16C6B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8204-A252-4A06-BA52-ED753B6E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3DF4-5A78-4FE8-A7D5-2D8E6EDF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0D41-8FDE-4860-AD64-C5840238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B5F5-1C31-43B9-8FA6-EEC0EC42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F736-0F11-4454-88A5-66555001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1D1C-6C24-40CB-B7B5-A1DF400C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94F8-8D3C-411A-8975-0CEEF29E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F54C-526E-4C3F-B4B9-ED32BCCC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1C45-CBBE-4AAF-82D6-408DEF36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B42-2276-42FE-8568-700A30CD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FE49-0A1B-40DF-A947-A8341BD1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5DA1-0CA1-45D3-B233-FCDCDCD0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7408-AA4E-4047-9B70-252B8CE4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A188-0360-4687-AA55-761A07E1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1644-5841-41BF-888C-B1F5DBCE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41D-833F-4822-8BE9-73F68853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E62C-E762-4E77-AF8C-F38EDCE2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DE88-FC57-4183-B7D9-D120C7C4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2AC9-EDB4-47E4-BB42-C607489C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656-9214-49A1-9E25-68E0F1B4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6D4E-FC92-4D62-A768-33570869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20BA-97C3-4E5E-96C6-FD15809A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3940-C1CA-4960-94F6-30336B0A3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178F-C581-4222-B724-EB8A6813DDA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wu5148@tjcu.edu.cn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D242-DE02-4DB5-9D46-2BFD05C4170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信息检索基础知识与信息</a:t>
            </a:r>
            <a:br>
              <a:rPr sz="4400"/>
            </a:b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检索技巧专题讲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天津商学院图书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吴凤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mail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u5148@tjcu.edu.c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电话：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66840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58E1-67D7-4676-8611-2F43920AE6C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（三）限制检索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制检索是缩小或约束检索结果的方法，主要是指限定字段检索，即是指定检索词在记录中出现的字段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常用的字段代码有：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题名）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U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作者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文摘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JN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刊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Y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年代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L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语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如：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information science/TI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LA=english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文摘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网络信息资源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23F3-2734-4628-B8E4-E20160B42E8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四、机检系统常用检索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简单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basic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单项检索。一般只需输入一个检索词，辅以相应的途径即可进行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二次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在原有简单检索的结果基础上，再进行检索。可反复使用，不断扩大或缩小检索范围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高级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advanced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多项组合检索，一般输入多个检索词进行组配。有的检索系统也称为复杂检索或扩展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专家检索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：用多个检索词与各种运算符组成检索式，功能与高级检索相似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3A51-B5EC-4710-8C6C-B970F5DB2AE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五、检索技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最重要的两个指标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“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”与“检准率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准率：指检出的相关文献量与检出文献总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比率。反应检索结果的准确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：指检出的相 关文献量与检索系统中相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关文献总量的比率。反映检索结果的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全面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FA52-8D92-4E63-B593-C048B70723F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一）提高检准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查准率由高到低：题名</a:t>
            </a:r>
            <a:r>
              <a:rPr b="0" lang="en-US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&gt;</a:t>
            </a: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关键词</a:t>
            </a:r>
            <a:r>
              <a:rPr b="0" lang="en-US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&gt;</a:t>
            </a:r>
            <a:r>
              <a:rPr b="0" lang="zh-CN" sz="2800" spc="-1" strike="noStrike">
                <a:solidFill>
                  <a:srgbClr val="eaeaea"/>
                </a:solidFill>
                <a:latin typeface="华文中宋"/>
                <a:ea typeface="华文中宋"/>
              </a:rPr>
              <a:t>全文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限制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在百度中可以进行多种限制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定搜索网站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(site:     )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文档格式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filetype:ppt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o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pdf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xl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反复使用二次检索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精确检索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百度中的“”（双引号）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《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书名号）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维普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NK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的“精确检索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6BAA-9776-4A64-9C04-085FC5CC149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二）提高检全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查全率由高到低：全文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&gt;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关键词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&gt;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题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同、近义词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模糊检索”和“截词检索”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利用文献后所附“参考文献”进行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1C54-7E68-4A04-909F-1FD8C4ABA80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一、信息检索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是将信息按一定的方式组织和存储起来，并根据信息用户的需要找出有关信息的过程和技术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对于信息用户而言，就是从信息集合中找出所需信息的过程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信息检索基本原理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提问标识（检索式）与文献标识的对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8116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06D0-D1A0-496D-88A2-7F66EC5D976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二、信息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检索途径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又称为检索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依据文献的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外部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题名、责任者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出版者、出版时间等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内容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分类号、主题词、关键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或自由词等）来确定，是信息检索的入口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8B23-72CE-4FC7-A3E9-C4889386C8C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常用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题名（篇名）途径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篇名中的字词或篇名的一部分进行检索。其结果是所有在篇名中出现该字、该词或该部分的文章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著者途径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作者名字进行检索。可查到该作者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分类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分类名和分类号进行检索。其结果是该类目所有的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4D09-4254-4E50-953F-7300FC06DC6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主题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规范词（主题词）进行检索，其结果是包含该主题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关键词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关键词（自由词）进行检索，其结果是包含该关键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序号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的各种代码、数字编制的索引查找文献，如专利号、技术标准的标准号、科技报告的报告号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其他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文献类型、参考文献、语种、出版（发表）年份、作者机构、出版机构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A5AF-FD2F-4C0A-8879-B509814E1BA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三、信息检索常用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布尔逻辑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用布尔逻辑算符来表达检索词间的逻辑组配关系，是最基本、最常用的检索技术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或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并列关系。可扩大检索范围，提高查全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+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中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都为检索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2895480" y="4800600"/>
            <a:ext cx="190512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5105520" y="4800600"/>
            <a:ext cx="175248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E655-5F17-44CC-8918-AF877B9BBC9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16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与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交叉关系。可缩小检索范围，提高查准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*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必须同时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才为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非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排除关系。可缩小检索范围，提高查准率，但要慎用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-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是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不包含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那部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3733920" y="4724280"/>
            <a:ext cx="2438280" cy="16002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4952880" y="5029200"/>
            <a:ext cx="1143000" cy="9907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2895480" y="1752480"/>
            <a:ext cx="2286000" cy="14479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Oval 21"/>
          <p:cNvSpPr/>
          <p:nvPr/>
        </p:nvSpPr>
        <p:spPr>
          <a:xfrm>
            <a:off x="4495680" y="1752480"/>
            <a:ext cx="2133720" cy="1447920"/>
          </a:xfrm>
          <a:prstGeom prst="ellipse">
            <a:avLst/>
          </a:prstGeom>
          <a:solidFill>
            <a:srgbClr val="ffcc66">
              <a:alpha val="50000"/>
            </a:srgbClr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18B5-6A85-4003-987F-E3EFB1A2233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截词检索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又称词干检索、模糊检索。检索时，只需用词干加截词符号，凡是含有与该词干相同的文献均能被检出。该方法能很好避免漏检现象的出现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系统不同，截词符也不同，常用的截词符号有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分为有限截词（即一个截词符只代表一个字符）和无限截词（一个截词符可代表多个字符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按截断的位置来分，截词可分为后截断、前截断、中截断三种类型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387A-7186-4924-AFF1-D76A78F0740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6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举例说明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后截断，前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mputer,computers,computing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王伟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可查出所有名字中含“王伟”的作者的文献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前截断，后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er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截断，中间一致。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作者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张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出张亚静、张雪静、张宇静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9:52:10Z</dcterms:created>
  <dc:creator>liu</dc:creator>
  <dc:description/>
  <dc:language>en-US</dc:language>
  <cp:lastModifiedBy>jhkou</cp:lastModifiedBy>
  <cp:lastPrinted>1899-12-30T00:00:00Z</cp:lastPrinted>
  <dcterms:modified xsi:type="dcterms:W3CDTF">2014-02-24T07:30:05Z</dcterms:modified>
  <cp:revision>155</cp:revision>
  <dc:subject/>
  <dc:title>信息检索基础知识与信息 检索技巧专题讲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