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AF3E7-8C4E-4261-AF0F-363263E2A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8E4C7-145F-44CB-AB10-C537446C9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EB31B-788C-43FF-81CA-4614DA2FF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43207-0D32-4EE8-AB06-F2F39BA28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D122A-6205-4FB9-9168-A7701137B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BEE27-A55E-4D1C-97BB-8929F61D1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6AF58-3F12-44F7-B5CB-1136ABBA1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C0091-AE3A-4059-8B12-719610D461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6F4B3-1C37-460B-BD2D-8C0B978F4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C2340-1C66-4DEC-8F4A-0EBE400DD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721E8-DAE0-441E-A4C2-CAF841026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9669-EC26-4C02-8584-10198360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8D815-AB5E-4DA5-A762-29345184B5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F24F9-7D6D-4E36-8563-BCFA52F2D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A87A3-9820-4A63-9EA7-D3B69B319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B4DDC-6668-4CAE-AE9B-2A800B1A79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230B6-9173-4C5E-A33B-9FD0B30C4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9E3ED-555D-4E0A-ACF9-AC8ACF1C8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895C-50ED-46F6-A450-6157F27FF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0DFC6-E097-472C-94C1-E4F8F0AEE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FBED8-5A64-47A1-8E1A-435F9F2A7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9C05-CCFC-485B-91D8-52C2D6D3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B68DD-FA9E-4EEA-93D7-1B968553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67F0A-84FE-40FC-95F9-F6F15C2FD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B7D59-80EE-4611-8260-5B50AE418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6165-2601-4AAD-8880-929C2036279D}"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en-US" sz="3200" spc="-1" strike="noStrike">
                <a:solidFill>
                  <a:srgbClr val="000000"/>
                </a:solidFill>
                <a:latin typeface="Arial"/>
              </a:rPr>
              <a:t>“</a:t>
            </a:r>
            <a:r>
              <a:rPr b="1" lang="zh-CN" sz="3200" spc="-1" strike="noStrike">
                <a:solidFill>
                  <a:srgbClr val="000000"/>
                </a:solidFill>
                <a:latin typeface="宋体"/>
              </a:rPr>
              <a:t>和谐社会</a:t>
            </a:r>
            <a:r>
              <a:rPr b="1" lang="en-US"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lIns="90000" rIns="90000" tIns="46800" bIns="46800"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9"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3"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5"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7"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9"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1"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3"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5"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4-06-13T07:21:31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