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995-7500-48EE-8688-AC8FA78B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E31-705E-4373-9078-6A9678D8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41D3-274D-4A55-B934-05F384D8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BC2-C610-4B7F-9E13-7ABDD15F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C81-B5BB-4FBF-9889-096BF09E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2D0-DAE7-4CA9-B0E8-0C7A13BF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170-59BD-4D6A-A60D-AD5BD9F2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AE53-BD06-4F51-A578-54029BA8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466-56BD-4EDB-AD14-6D4F7813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375-6146-4306-8088-73ABE70D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483-EE21-47E0-A3BF-15ACD57F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63B-CB41-415F-A393-4DD3CAC5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A03B-D6CC-4D28-B1DB-77008C39AC2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200" spc="-1" strike="noStrike">
                <a:solidFill>
                  <a:srgbClr val="ff0000"/>
                </a:solidFill>
                <a:latin typeface="Calibri"/>
              </a:rPr>
              <a:t>Blog, wiki e wikipedi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Eleonora Suzz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Ilaria Bandinel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Giada Bellot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Giulia Far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i posso creare dei gemellaggi tra le diverse classi e anche scuole. Essi sono esperienze fondamentali nella crescita dei ragazzi in quanto consentono di conoscere il modello europeo di società multilingue e multicultura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rete può inoltre essere un punto di incontro per i professionisti dell’educazi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Pedablogia: la pedagogia dei bl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n richiede competenze scientifiche. Ne sono un esempio le piattaforme e-learning, i webquest, i forum e gli e-grou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blog si presta fin dalla scuola primaria come incentivo sia delle capacità espressivi che di quelle comunicative         migliore organizzazione menta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Connettore 2 4"/>
          <p:cNvCxnSpPr/>
          <p:nvPr/>
        </p:nvCxnSpPr>
        <p:spPr>
          <a:xfrm>
            <a:off x="4284720" y="4508280"/>
            <a:ext cx="5752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Chi usa i blog in ambito didattic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docente        per sviluppare la sua attività, per aggiornamento professionale e  per scambiare informazioni con i collegh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alunno          per interagire con il blog dell’insegnante, per costruire un proprio blog personale e per eseguire i compi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utente         per ricostruire il percorso educativo in tutte le sue fasi e per depositare i propri commen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Connettore 2 6"/>
          <p:cNvCxnSpPr/>
          <p:nvPr/>
        </p:nvCxnSpPr>
        <p:spPr>
          <a:xfrm>
            <a:off x="2626920" y="1915920"/>
            <a:ext cx="577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Connettore 2 8"/>
          <p:cNvCxnSpPr/>
          <p:nvPr/>
        </p:nvCxnSpPr>
        <p:spPr>
          <a:xfrm>
            <a:off x="2340000" y="3499920"/>
            <a:ext cx="720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Connettore 2 10"/>
          <p:cNvCxnSpPr/>
          <p:nvPr/>
        </p:nvCxnSpPr>
        <p:spPr>
          <a:xfrm>
            <a:off x="2268360" y="5084280"/>
            <a:ext cx="64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Wikip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asce il 15 gennaio del 200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È uno strumento online e sempre più visitato che si arricchisce delle informazioni inserite dagli utent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el 2004 nasce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Fondazione Wikipedia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vvero uno serie di servizi con contenuti aperti a tutti con il prefisso “wiki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Wikipedia e scu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“nativi digitali” sono abili tecnologicamente ma hanno difficoltà a selezionare e rielaborare i contenuti trovati sul we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i si può rendere utenti attivi all’interno di wikipedia per sviluppare le loro diverse conoscenze e renderli più responsabili verso di ess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Due dei “</a:t>
            </a:r>
            <a:r>
              <a:rPr b="1" i="1" lang="it-IT" sz="4000" spc="-1" strike="noStrike">
                <a:solidFill>
                  <a:srgbClr val="000000"/>
                </a:solidFill>
                <a:latin typeface="Calibri"/>
              </a:rPr>
              <a:t>cinque pilastri</a:t>
            </a: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” di wikiped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unto di vista neutrale, ovvero i contenuti che vengono inseriti devono essere presentati in modo imparzia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incipit del primo pilastro è “wikipedia è un’enciclopedia”, ma potrebbe essere molto di pi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Il successo di wikip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ikipedia è un’enciclopedia universa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ssa si è rapidamente espansa grazie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natura aperta della stesura delle vo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o strumento tecnico utilizzato per la sua realizzazione, ovvero “wiki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Critiche a wikip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oco seria e affidabile per mancanza di responsabilità autoriali ed editoriali e strumenti di controllo dei contenu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ullio Gregory: la serietà e l’affidabilità dei contenuti non può essere garantita dall’autorialità aperta e incontrollat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ersione di wikipedia inglese più affidabile e completa        ci sono molti più collaborato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Connettore 2 4"/>
          <p:cNvCxnSpPr/>
          <p:nvPr/>
        </p:nvCxnSpPr>
        <p:spPr>
          <a:xfrm>
            <a:off x="2555640" y="5516280"/>
            <a:ext cx="432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Calibri"/>
              </a:rPr>
              <a:t>Prospettive professionali pedagogic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blog può offrire un luogo di discussione sulle caratteristiche positive e negative di un determinato servizio. Può rappresentare un luogo di incontro tra tutti gli attori che partecipano. Può essere un confronto tra le diverse prospettive pedagogiche e propositivo per nuove attività. Può essere uno spazio per far conoscere le diverse iniziative di un serviz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ikipedia può essere un luogo in cui viene esposto un quadro generale di quello che è l’asilo nido. Può offrire dei collegamenti teorici su determinati correnti a cui gli educatori fanno riferimento. Può far conoscere il progetto educativo della struttura di riferimento con obiettivi, procedure e risulta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ta bene: è comunque necessario rapportarsi faccia a faccia con i genitori non delegando come unico strumento il we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Il successo del bl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egli ultimi due anni          grande popolar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ause probabili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otente fonte informativa-comunic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acile da us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n è richiesta nessuna competenza tecn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ccesso anche nella scuola, ha creato nuove forme di apprendi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Connettore 2 4"/>
          <p:cNvCxnSpPr/>
          <p:nvPr/>
        </p:nvCxnSpPr>
        <p:spPr>
          <a:xfrm>
            <a:off x="4140000" y="1915920"/>
            <a:ext cx="503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Definizione bl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Non è facile perché hanno diversi obiettivi, usi, impieghi e stili di scrittu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Etimologia: web(ragnatela) e log(diario o giornale di bordo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Diverse definizioni. Alcune hanno l’accento tecnologia altre sul loro utilizz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Punto d’accordo: “un website frequentemente aggiornato che consiste in messaggi datati e sistemati in ordini cronologico inverso” (Walker, 200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proprietari di un blog possono decidere di abilitare i lettori a comment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ue diverse caratteristich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crittura come raccolta di messaggi bre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Voce personale o inform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ost= sono i messaggi pubblicati dall’autore del blog (quelli più recenti sono nella homepage gli altri nella cronologia). Possono essere di qualsiasi genere(testi, collegamenti, audio, video ecc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Tipologie di bl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log directory: carattere di rassegna o segnalazione perché seleziona i contenuti della rete. Funzione di filt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log personale: più noto, scrittura di tipo narrativ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log di attualità: usato principalmente da giornalisti per esprimere la propria opinione sui fatti accadu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log tematico: punto di incontri per persone che hanno interessi comuni(hobb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log vetrina: utilizzato maggiormente da autori per mostrare le proprie op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log politico: interfaccia di comunicazione con i cittadini da parte dei politi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atchblog: pagine in cui l’autore critica gli errori dei diversi notizia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sistono anche blog sperimentali che utilizzano altre forme di linguaggio, multimedi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ltri blog sono collaborativi, cioè gestiti da un grupp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Blog e apprendim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punti forti nell’educazione a scuola dei social network, soprattutto il blog, sono i seguen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ono strumenti per l’apprendimento di grupp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sentono la realizzazione di prodotti multimediali ed editori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sentono di recuperare abilità di diversi registri di scrit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emettono alla classe di sperimentare nuove attiv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26792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antagg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apidità d’us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isparmio di risorse economic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eloc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stribuzione dei contenuti più fac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llaborazione partecip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Calibri"/>
              </a:rPr>
              <a:t>I blog di clas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ono creati dall’insegnante e sono rivolti a genitori, colleghi e studenti per acquisire informazioni riguardanti la clas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insegnante invita gli studenti a crearsi dei blog personali. Successivamente gli alunni sono invitati a iscriversi su un unico blog di gruppo per svolgere attività collettive interagendo tra di loro e guidati dall’insegn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08:36:37Z</dcterms:created>
  <dc:creator>Anna</dc:creator>
  <dc:description/>
  <dc:language>en-US</dc:language>
  <cp:lastModifiedBy>maurizio</cp:lastModifiedBy>
  <dcterms:modified xsi:type="dcterms:W3CDTF">2013-11-23T11:02:58Z</dcterms:modified>
  <cp:revision>11</cp:revision>
  <dc:subject/>
  <dc:title>Blog, wiki e wikipedia</dc:title>
</cp:coreProperties>
</file>