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552-E8A8-442F-82F9-F1208D79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091-82B1-44B4-9C75-D445636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876-B048-46E1-AB73-EB0A070F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4A7-D4FA-4EE3-AE0B-442DD0D1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269-AAA4-49A8-AA3F-8748378F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7C8-8391-4C80-BA97-66FA6F1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42C-D6C6-498F-8A2D-9C6779D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8F6-8260-4392-99B6-BE84F81B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133-9E8F-4768-B9FA-5BA817D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C17-EBEE-4285-AA0D-867C675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74D-A325-479C-9442-693A563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AEA-3149-408D-A178-1918DF1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EE33-D2A6-4422-94B0-13F8EED54F4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0000"/>
                </a:solidFill>
                <a:latin typeface="Calibri"/>
              </a:rPr>
              <a:t>Blog, wiki e wikiped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Eleonora Suz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Ilaria Bandine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Giada Bello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Giulia Far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 posso creare dei gemellaggi tra le diverse classi e anche scuole. Essi sono esperienze fondamentali nella crescita dei ragazzi in quanto consentono di conoscere il modello europeo di società multilingue e multicultur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rete può inoltre essere un punto di incontro per i professionisti dell’educazi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Pedablogia: la pedagogia dei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richiede competenze scientifiche. Ne sono un esempio le piattaforme e-learning, i webquest, i forum e gli e-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blog si presta fin dalla scuola primaria come incentivo sia delle capacità espressivi che di quelle comunicative         migliore organizzazione men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Connettore 2 4"/>
          <p:cNvCxnSpPr/>
          <p:nvPr/>
        </p:nvCxnSpPr>
        <p:spPr>
          <a:xfrm>
            <a:off x="4284720" y="4508280"/>
            <a:ext cx="575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Chi usa i blog in ambito didatt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docente        per sviluppare la sua attività, per aggiornamento professionale e  per scambiare informazioni con i collegh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alunno          per interagire con il blog dell’insegnante, per costruire un proprio blog personale e per eseguire i compi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utente         per ricostruire il percorso educativo in tutte le sue fasi e per depositare i propri commen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Connettore 2 6"/>
          <p:cNvCxnSpPr/>
          <p:nvPr/>
        </p:nvCxnSpPr>
        <p:spPr>
          <a:xfrm>
            <a:off x="2626920" y="191592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Connettore 2 8"/>
          <p:cNvCxnSpPr/>
          <p:nvPr/>
        </p:nvCxnSpPr>
        <p:spPr>
          <a:xfrm>
            <a:off x="2340000" y="349992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nettore 2 10"/>
          <p:cNvCxnSpPr/>
          <p:nvPr/>
        </p:nvCxnSpPr>
        <p:spPr>
          <a:xfrm>
            <a:off x="2268360" y="508428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asce il 15 gennaio del 200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È uno strumento online e sempre più visitato che si arricchisce delle informazioni inserite dagli utent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 2004 nasc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Fondazione Wikipedi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vvero uno serie di servizi con contenuti aperti a tutti con il prefisso “wik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Wikipedia e scu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“nativi digitali” sono abili tecnologicamente ma hanno difficoltà a selezionare e rielaborare i contenuti trovati sul we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 si può rendere utenti attivi all’interno di wikipedia per sviluppare le loro diverse conoscenze e renderli più responsabili verso di ess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Due dei “</a:t>
            </a: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cinque pilastri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” di wikipe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unto di vista neutrale, ovvero i contenuti che vengono inseriti devono essere presentati in modo imparzi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incipit del primo pilastro è “wikipedia è un’enciclopedia”, ma potrebbe essere molto di pi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l successo di 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kipedia è un’enciclopedia univers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sa si è rapidamente espansa grazie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natura aperta della stesura delle vo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o strumento tecnico utilizzato per la sua realizzazione, ovvero “wik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Critiche a 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co seria e affidabile per mancanza di responsabilità autoriali ed editoriali e strumenti di controllo dei contenu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ullio Gregory: la serietà e l’affidabilità dei contenuti non può essere garantita dall’autorialità aperta e incontroll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sione di wikipedia inglese più affidabile e completa        ci sono molti più collaborat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Connettore 2 4"/>
          <p:cNvCxnSpPr/>
          <p:nvPr/>
        </p:nvCxnSpPr>
        <p:spPr>
          <a:xfrm>
            <a:off x="2555640" y="5516280"/>
            <a:ext cx="432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Prospettive professionali pedagog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blog può offrire un luogo di discussione sulle caratteristiche positive e negative di un determinato servizio. Può rappresentare un luogo di incontro tra tutti gli attori che partecipano. Può essere un confronto tra le diverse prospettive pedagogiche e propositivo per nuove attività. Può essere uno spazio per far conoscere le diverse iniziative di un serviz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kipedia può essere un luogo in cui viene esposto un quadro generale di quello che è l’asilo nido. Può offrire dei collegamenti teorici su determinati correnti a cui gli educatori fanno riferimento. Può far conoscere il progetto educativo della struttura di riferimento con obiettivi, procedure e risult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ta bene: è comunque necessario rapportarsi faccia a faccia con i genitori non delegando come unico strumento il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l successo del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gli ultimi due anni          grande popolar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use probabil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tente fonte informativa-comunic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cile da us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è richiesta nessuna competenza tec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ccesso anche nella scuola, ha creato nuove forme di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Connettore 2 4"/>
          <p:cNvCxnSpPr/>
          <p:nvPr/>
        </p:nvCxnSpPr>
        <p:spPr>
          <a:xfrm>
            <a:off x="4140000" y="1915920"/>
            <a:ext cx="503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Definizione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on è facile perché hanno diversi obiettivi, usi, impieghi e stili di scrittu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timologia: web(ragnatela) e log(diario o giornale di bord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verse definizioni. Alcune hanno l’accento tecnologia altre sul loro utilizz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unto d’accordo: “un website frequentemente aggiornato che consiste in messaggi datati e sistemati in ordini cronologico inverso” (Walker, 200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roprietari di un blog possono decidere di abilitare i lettori a comment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ue diverse caratteristic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crittura come raccolta di messaggi bre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oce personale o inform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st= sono i messaggi pubblicati dall’autore del blog (quelli più recenti sono nella homepage gli altri nella cronologia). Possono essere di qualsiasi genere(testi, collegamenti, audio, video ec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Tipologie di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directory: carattere di rassegna o segnalazione perché seleziona i contenuti della rete. Funzione di fil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personale: più noto, scrittura di tipo narra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di attualità: usato principalmente da giornalisti per esprimere la propria opinione sui fatti accadu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tematico: punto di incontri per persone che hanno interessi comuni(hobb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vetrina: utilizzato maggiormente da autori per mostrare le proprie op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politico: interfaccia di comunicazione con i cittadini da parte dei polit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atchblog: pagine in cui l’autore critica gli errori dei diversi notizi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istono anche blog sperimentali che utilizzano altre forme di linguaggio, multimedi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ltri blog sono collaborativi, cioè gestiti da un grup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Blog e appren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unti forti nell’educazione a scuola dei social network, soprattutto il blog, sono i segue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strumenti per l’apprendimento di grupp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sentono la realizzazione di prodotti multimediali ed editor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sentono di recuperare abilità di diversi registri di scrit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mettono alla classe di sperimentare nuove attiv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antagg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apidità d’u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isparmio di risorse econom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loc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tribuzione dei contenuti più fac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llaborazione partecip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 blog di c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creati dall’insegnante e sono rivolti a genitori, colleghi e studenti per acquisire informazioni riguardanti la clas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invita gli studenti a crearsi dei blog personali. Successivamente gli alunni sono invitati a iscriversi su un unico blog di gruppo per svolgere attività collettive interagendo tra di loro e guidati dall’insegn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8:36:37Z</dcterms:created>
  <dc:creator>Anna</dc:creator>
  <dc:description/>
  <dc:language>en-US</dc:language>
  <cp:lastModifiedBy>maurizio</cp:lastModifiedBy>
  <dcterms:modified xsi:type="dcterms:W3CDTF">2013-11-23T11:02:58Z</dcterms:modified>
  <cp:revision>11</cp:revision>
  <dc:subject/>
  <dc:title>Blog, wiki e wikipedia</dc:title>
</cp:coreProperties>
</file>