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D2B5D-2394-42FF-A44D-B9752B0F1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B9A76-1717-45B3-8DAB-D7F155BAB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45A66-BA0E-4CEB-89A6-1F68568BB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94132-8B96-46C1-AD59-089E747AB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C7E5D-30EB-43CD-A900-63FBDE225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AF3EA-E90F-4BE8-AC0C-1D15D7E95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49EB1-C3BC-4361-A4C0-C172BABB4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0929F-B01F-4952-879F-F5B0643BA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3510E-3BF3-4BF2-8574-577B9498F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BB477-CFC2-475D-BD32-62499C822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D9EC1-B56E-4DE1-AC39-D37CF7547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0DFB3-47BD-4CFA-B03F-93900F5DA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6CD38-0CF1-4A34-8544-244247A62E4A}" type="slidenum">
              <a:rPr b="0" lang="es-ES"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90360"/>
            <a:ext cx="9072720" cy="648648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000000"/>
                </a:solidFill>
                <a:latin typeface="Comic Sans MS"/>
              </a:rPr>
              <a:t>Strumenti Di Apprendimento:</a:t>
            </a:r>
            <a:br>
              <a:rPr sz="4400"/>
            </a:br>
            <a:br>
              <a:rPr sz="4400"/>
            </a:br>
            <a:r>
              <a:rPr b="0" lang="es-ES" sz="4400" spc="-1" strike="noStrike">
                <a:solidFill>
                  <a:srgbClr val="000000"/>
                </a:solidFill>
                <a:latin typeface="Comic Sans MS"/>
              </a:rPr>
              <a:t>Wikipedia e Blog</a:t>
            </a:r>
            <a:br>
              <a:rPr sz="4400"/>
            </a:br>
            <a:br>
              <a:rPr sz="4400"/>
            </a:br>
            <a:r>
              <a:rPr b="0" lang="es-ES" sz="1800" spc="-1" strike="noStrike">
                <a:solidFill>
                  <a:srgbClr val="000000"/>
                </a:solidFill>
                <a:latin typeface="Arial"/>
              </a:rPr>
              <a:t>Capelli Claudia – Greggi Elisa – Chiurazzi Sara – L'intrepido Mariagrazia – Piparo Chiara </a:t>
            </a:r>
            <a:br>
              <a:rPr sz="1800"/>
            </a:br>
            <a:br>
              <a:rPr sz="1800"/>
            </a:br>
            <a:endParaRPr b="0" lang="en-US" sz="1800" spc="-1" strike="noStrike">
              <a:solidFill>
                <a:srgbClr val="1f497d"/>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a chi è composta Wikipedia</a:t>
            </a:r>
            <a:endParaRPr b="0" lang="en-US" sz="2800" spc="-1" strike="noStrike">
              <a:solidFill>
                <a:srgbClr val="1f497d"/>
              </a:solidFill>
              <a:latin typeface="Arial"/>
            </a:endParaRPr>
          </a:p>
        </p:txBody>
      </p:sp>
      <p:sp>
        <p:nvSpPr>
          <p:cNvPr id="54"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Gli autori di Wikipedia sono in gran parte persone comuni, appassionati che nel loro tempo libero si dedicano a inserire, aggiornare,modificare e controllare le voci dell'enciclopedia online.  </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i lascia spazio alla " saggezza della folla", definita così da James Jurovieck, nel libro " the Wisdom of growds, (2004), secondo il quale, la società sta superando l'idea che solo pochi esperti possano essere in possesso di conoscenze chiave affidabili, mentre l'opera di tanti, anche in gruppo, può portare a un livello superiore di affidabilità; esempio comune a noi universitarie: la piattaforma e-learning moodle ( mix di programmatori su diverse materie).</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Quest'ultima è definita " intellligenza collettiva" dal filosofo Pierre Levy, nel 1996.</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 vantaggi e i rischi della ricerca online</a:t>
            </a:r>
            <a:endParaRPr b="0" lang="en-US" sz="2800" spc="-1" strike="noStrike">
              <a:solidFill>
                <a:srgbClr val="1f497d"/>
              </a:solidFill>
              <a:latin typeface="Arial"/>
            </a:endParaRPr>
          </a:p>
        </p:txBody>
      </p:sp>
      <p:sp>
        <p:nvSpPr>
          <p:cNvPr id="56"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I ragazzi di oggi, i "nativi digitali", cosidetti per le loro capacità tecnologicamente innate. Sarano sicuramente abili online ma hanno grosse difficoltà quando si tratta di selezionare informazioni affidabili in rete. In risposta alle tante critiche nate dalle voci dei professori, vi è un "problema educativo", non certo di una pecca di wikipedia. Ma è ritenuto sbagliato il metodo col quale il professore assegna una ricerca.</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arebbe preferibile e interessante, invece di dare solo l'argomento della ricerca, proporre allo studente di registrarsi su Wikipedia e constatare se insorgono errori nella pagina assegnata di ricerca. In modo di rielaborare parte per parte l'intero documento senza fare solo copia-incolla. E attraverso questo processo si spingono gli studenti a diventare attivi, anche se vi è facilità e abbondanza di accessi che non regolano completamente il "vandalismo online".</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ciclopedia cartacea o online?</a:t>
            </a:r>
            <a:endParaRPr b="0" lang="en-US" sz="2800" spc="-1" strike="noStrike">
              <a:solidFill>
                <a:srgbClr val="1f497d"/>
              </a:solidFill>
              <a:latin typeface="Arial"/>
            </a:endParaRPr>
          </a:p>
        </p:txBody>
      </p:sp>
      <p:sp>
        <p:nvSpPr>
          <p:cNvPr id="5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Rispetto al cartaceo, nell'enciclopedia online, possiamo trovare anche "teorie alternative", come ad esempio, il riscaldamento globale; tema di grande attualità e ricchi di pro e contro, questi ultimi possono essere integrati da approfondimenti e collagamenti tramite link, in modo che il ricercatore si possa fare un'idea a 360' di ciò su cui si sta documentando, in modo da sviluppare negli allievi una consapevolezza epistemologica avanzata.  Contrastando il pensiero che sia solo una "edizione online", meno ricca di quella cartacea.</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502920" y="539280"/>
            <a:ext cx="9072360" cy="6218280"/>
          </a:xfrm>
          <a:prstGeom prst="rect">
            <a:avLst/>
          </a:prstGeom>
          <a:noFill/>
          <a:ln w="0">
            <a:noFill/>
          </a:ln>
        </p:spPr>
        <p:txBody>
          <a:bodyPr lIns="0" rIns="0" tIns="0" bIns="0" anchor="t">
            <a:normAutofit fontScale="98000"/>
          </a:bodyPr>
          <a:p>
            <a:pPr marL="423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23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Unicode MS"/>
              </a:rPr>
              <a:t>In conclusione...</a:t>
            </a:r>
            <a:endParaRPr b="0" lang="en-US" sz="2800" spc="-1" strike="noStrike">
              <a:solidFill>
                <a:srgbClr val="000000"/>
              </a:solidFill>
              <a:latin typeface="Arial"/>
            </a:endParaRPr>
          </a:p>
          <a:p>
            <a:pPr marL="423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3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Questi strumenti possono essere indirizzati alla didattica nel caso relativo alla professione di educatrice di nido in merito a:</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Organizzazione della didattica</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Progettazione degli interventi educativi</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ollaborazioni e scambio di idee tra colleghi</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Esposizione della documentazione in merito ai progetti destinata ai genitori</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cambio interattivo fra le parti</a:t>
            </a:r>
            <a:endParaRPr b="0" lang="en-US" sz="2000" spc="-1" strike="noStrike">
              <a:solidFill>
                <a:srgbClr val="000000"/>
              </a:solidFill>
              <a:latin typeface="Arial"/>
            </a:endParaRPr>
          </a:p>
          <a:p>
            <a:pPr marL="42300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arebbe interessante sviluppare una pedablogia che trasmetta contenuti pedagogici con l'utilizzo del blog, del wiki oppure tramite strumenti disponibili sul web come le piattaforme e-learning, webquest, i forum, gli e-groups...</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Wikipedia tra dubbi ed errori</a:t>
            </a:r>
            <a:endParaRPr b="0" lang="en-US" sz="2800" spc="-1" strike="noStrike">
              <a:solidFill>
                <a:srgbClr val="1f497d"/>
              </a:solidFill>
              <a:latin typeface="Arial"/>
            </a:endParaRPr>
          </a:p>
        </p:txBody>
      </p:sp>
      <p:sp>
        <p:nvSpPr>
          <p:cNvPr id="43" name="PlaceHolder 2"/>
          <p:cNvSpPr>
            <a:spLocks noGrp="1"/>
          </p:cNvSpPr>
          <p:nvPr>
            <p:ph/>
          </p:nvPr>
        </p:nvSpPr>
        <p:spPr>
          <a:xfrm>
            <a:off x="360360" y="1440000"/>
            <a:ext cx="9215280" cy="5317920"/>
          </a:xfrm>
          <a:prstGeom prst="rect">
            <a:avLst/>
          </a:prstGeom>
          <a:noFill/>
          <a:ln w="0">
            <a:noFill/>
          </a:ln>
        </p:spPr>
        <p:txBody>
          <a:bodyPr lIns="0" rIns="0" tIns="0" bIns="0" anchor="t">
            <a:normAutofit fontScale="98000"/>
          </a:bodyPr>
          <a:p>
            <a:pPr marL="423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Articolo tratto dalla pagina culturale, edizione Bologna, Repubblica, mercoledi 21 febbraio 2007.</a:t>
            </a:r>
            <a:endParaRPr b="0" lang="en-US" sz="2000" spc="-1" strike="noStrike">
              <a:solidFill>
                <a:srgbClr val="000000"/>
              </a:solidFill>
              <a:latin typeface="Arial"/>
            </a:endParaRPr>
          </a:p>
          <a:p>
            <a:pPr marL="423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Wikipedia si presenta come un enciclopedia libera costruita in rete, è aperta e collaborativa. Possiede tre caratteristiche fondamentali che la distinguono dalla semplice enciclopedia:</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Natura aperta della stesura delle voci create.</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Viene realizzata tramite lo strumento wiki, particolare tipo di sito web.</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Possiede un software che memorizza le eventuali modifiche.</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Queste caratteristiche non garantiscono l'affidabilità e la serietà tipica di un enciclopedia tradizionale. Quest'ultima si caratterizza diversamente:</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ono precisate le responsabilità editoriali e autoriali.</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Le responsabilità sono facilmente individuabili.</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Wikipedia è destinata ad essere un guazzabuglio innaffidabil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502920" y="720720"/>
            <a:ext cx="9072360" cy="6037200"/>
          </a:xfrm>
          <a:prstGeom prst="rect">
            <a:avLst/>
          </a:prstGeom>
          <a:noFill/>
          <a:ln w="0">
            <a:noFill/>
          </a:ln>
        </p:spPr>
        <p:txBody>
          <a:bodyPr lIns="0" rIns="0" tIns="0" bIns="0" anchor="t">
            <a:normAutofit fontScale="97000"/>
          </a:bodyPr>
          <a:p>
            <a:pPr marL="41868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ritiche:</a:t>
            </a:r>
            <a:endParaRPr b="0" lang="en-US" sz="2000" spc="-1" strike="noStrike">
              <a:solidFill>
                <a:srgbClr val="000000"/>
              </a:solidFill>
              <a:latin typeface="Arial"/>
            </a:endParaRPr>
          </a:p>
          <a:p>
            <a:pPr marL="41868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Tullio Gregory (uno dei massimi storici italiani della filosofia ed enciclopedisti), in un articolo comparso nel Sole 24 ore, evidenzia:</a:t>
            </a: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L'arbitrarietà delle fonti</a:t>
            </a: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Inaffidabilità delle voci</a:t>
            </a: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carsa qualità scientifica delle voci</a:t>
            </a: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carso controllo</a:t>
            </a: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ome conseguenza delle caratteristiche di Wikipedia tramite esempi particolarmente eclatanti di errori,omissioni,inesattezze presentate nelle voci italiane di Wikipedia.</a:t>
            </a: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Non tutte le versioni di Wikipedia subiscono lo stesso tipo di critica radicale: la versione inglese produce effetti ben più positivi.</a:t>
            </a:r>
            <a:endParaRPr b="0" lang="en-US" sz="2000" spc="-1" strike="noStrike">
              <a:solidFill>
                <a:srgbClr val="000000"/>
              </a:solidFill>
              <a:latin typeface="Arial"/>
            </a:endParaRPr>
          </a:p>
          <a:p>
            <a:pPr marL="41868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Perchè la versione inglese, pur se non priva di inesattezze, è comunque assai più affidabile?</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502920" y="720720"/>
            <a:ext cx="9072360" cy="60372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La versione inglese di Wikipedia venne persino paragonata all' Encyclopaedia Britannica.</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ome si spiega questa vasta differenza? Il problema principale riguarda i numer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I collaboratori della versione inglese sono molto più numeros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iò rende possibile una maggiore revisione di più persone competenti.</a:t>
            </a:r>
            <a:endParaRPr b="0" lang="en-US" sz="2000" spc="-1" strike="noStrike">
              <a:solidFill>
                <a:srgbClr val="000000"/>
              </a:solidFill>
              <a:latin typeface="Arial"/>
            </a:endParaRPr>
          </a:p>
          <a:p>
            <a:pPr marL="431640" indent="-323640" algn="ctr">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In effett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Larry Sanger (cofondatore Wikipedia) suggerisce l'opportunica di subordinare i risultati di una collaborazione aperta alla revisione da parte di redattori qualificati. Il suo progetto, Citizendium, ha queste caratteristiche.</a:t>
            </a:r>
            <a:endParaRPr b="0" lang="en-US" sz="2000" spc="-1" strike="noStrike">
              <a:solidFill>
                <a:srgbClr val="000000"/>
              </a:solidFill>
              <a:latin typeface="Arial"/>
            </a:endParaRPr>
          </a:p>
          <a:p>
            <a:pPr marL="431640" indent="0" algn="ctr">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323640" algn="ctr">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Wkipedia o modello tradizional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La contaminazione fra due modelli editoriali apparentemente così diversi potrebbe rivelarsi più interessante e produttiva di una loro semplice contaminazione.</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LOG </a:t>
            </a:r>
            <a:br>
              <a:rPr sz="3600"/>
            </a:br>
            <a:r>
              <a:rPr b="0" lang="es-ES" sz="2800" spc="-1" strike="noStrike">
                <a:solidFill>
                  <a:srgbClr val="000000"/>
                </a:solidFill>
                <a:latin typeface="Arial"/>
              </a:rPr>
              <a:t>diario di bordo sul web e non solo</a:t>
            </a:r>
            <a:endParaRPr b="0" lang="en-US" sz="2800" spc="-1" strike="noStrike">
              <a:solidFill>
                <a:srgbClr val="1f497d"/>
              </a:solidFill>
              <a:latin typeface="Arial"/>
            </a:endParaRPr>
          </a:p>
        </p:txBody>
      </p:sp>
      <p:sp>
        <p:nvSpPr>
          <p:cNvPr id="47"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E' un oggetto di ricerca e studio, favorisce lo sviluppo per la comunicazione in rete ed è importante per il singolo e per la didattica.</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Unicode MS"/>
              </a:rPr>
              <a:t>BLOG: LE CARATTERISTICH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Rapidità d' uso</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osti: quasi completamente gratuit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 </a:t>
            </a:r>
            <a:r>
              <a:rPr b="0" lang="it-IT" sz="2000" spc="-1" strike="noStrike">
                <a:solidFill>
                  <a:srgbClr val="000000"/>
                </a:solidFill>
                <a:latin typeface="Arial"/>
                <a:ea typeface="Arial Unicode MS"/>
              </a:rPr>
              <a:t>Rapidi aggiornament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Distribuzione contenuti: avviene velocement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ollaborazione</a:t>
            </a:r>
            <a:endParaRPr b="0" lang="en-US" sz="2000" spc="-1" strike="noStrike">
              <a:solidFill>
                <a:srgbClr val="000000"/>
              </a:solidFill>
              <a:latin typeface="Arial"/>
            </a:endParaRPr>
          </a:p>
          <a:p>
            <a:pPr marL="43164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539640" y="360360"/>
            <a:ext cx="9072720" cy="6480000"/>
          </a:xfrm>
          <a:prstGeom prst="rect">
            <a:avLst/>
          </a:prstGeom>
          <a:noFill/>
          <a:ln w="0">
            <a:noFill/>
          </a:ln>
        </p:spPr>
        <p:txBody>
          <a:bodyPr lIns="0" rIns="0" tIns="0" bIns="0" anchor="t">
            <a:normAutofit/>
          </a:bodyPr>
          <a:p>
            <a:pPr marL="431640"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31640"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Unicode MS"/>
              </a:rPr>
              <a:t>BLOG: LE TIPOLOGIE</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directory</a:t>
            </a:r>
            <a:r>
              <a:rPr b="0" lang="it-IT" sz="2000" spc="-1" strike="noStrike">
                <a:solidFill>
                  <a:srgbClr val="000000"/>
                </a:solidFill>
                <a:latin typeface="Arial"/>
                <a:ea typeface="Arial Unicode MS"/>
              </a:rPr>
              <a:t>: ha la funzione di filtraggio di articoli e link per metterli in                                   evidenza.</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personale</a:t>
            </a:r>
            <a:r>
              <a:rPr b="0" lang="it-IT" sz="2000" spc="-1" strike="noStrike">
                <a:solidFill>
                  <a:srgbClr val="000000"/>
                </a:solidFill>
                <a:latin typeface="Arial"/>
                <a:ea typeface="Arial Unicode MS"/>
              </a:rPr>
              <a:t>: sono diari personali, principalmente con scrittura narrativa.</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di attualità</a:t>
            </a:r>
            <a:r>
              <a:rPr b="0" lang="it-IT" sz="2000" spc="-1" strike="noStrike">
                <a:solidFill>
                  <a:srgbClr val="000000"/>
                </a:solidFill>
                <a:latin typeface="Arial"/>
                <a:ea typeface="Arial Unicode MS"/>
              </a:rPr>
              <a:t>: possibilità di esporre la propria opinione su argomenti di                                 attualità e cronaca.</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tematico</a:t>
            </a:r>
            <a:r>
              <a:rPr b="0" lang="it-IT" sz="2000" spc="-1" strike="noStrike">
                <a:solidFill>
                  <a:srgbClr val="000000"/>
                </a:solidFill>
                <a:latin typeface="Arial"/>
                <a:ea typeface="Arial Unicode MS"/>
              </a:rPr>
              <a:t>: punto d' incontro di persone con gli stessi interess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vetrina</a:t>
            </a:r>
            <a:r>
              <a:rPr b="0" lang="it-IT" sz="2000" spc="-1" strike="noStrike">
                <a:solidFill>
                  <a:srgbClr val="000000"/>
                </a:solidFill>
                <a:latin typeface="Arial"/>
                <a:ea typeface="Arial Unicode MS"/>
              </a:rPr>
              <a:t>: gli autori danno importanza alle proprie oper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politico</a:t>
            </a:r>
            <a:r>
              <a:rPr b="0" lang="it-IT" sz="2000" spc="-1" strike="noStrike">
                <a:solidFill>
                  <a:srgbClr val="000000"/>
                </a:solidFill>
                <a:latin typeface="Arial"/>
                <a:ea typeface="Arial Unicode MS"/>
              </a:rPr>
              <a:t>: lo usano i politici come interfaccia di comunicazion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Watch blog</a:t>
            </a:r>
            <a:r>
              <a:rPr b="0" lang="it-IT" sz="2000" spc="-1" strike="noStrike">
                <a:solidFill>
                  <a:srgbClr val="000000"/>
                </a:solidFill>
                <a:latin typeface="Arial"/>
                <a:ea typeface="Arial Unicode MS"/>
              </a:rPr>
              <a:t>: l' autore critica ciò che considera errori di notiziari on-line, siti                          web o altri blog.</a:t>
            </a:r>
            <a:endParaRPr b="0" lang="en-US" sz="2000" spc="-1" strike="noStrike">
              <a:solidFill>
                <a:srgbClr val="000000"/>
              </a:solidFill>
              <a:latin typeface="Arial"/>
            </a:endParaRPr>
          </a:p>
          <a:p>
            <a:pPr marL="43164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502920" y="360000"/>
            <a:ext cx="9072360" cy="6397560"/>
          </a:xfrm>
          <a:prstGeom prst="rect">
            <a:avLst/>
          </a:prstGeom>
          <a:noFill/>
          <a:ln w="0">
            <a:noFill/>
          </a:ln>
        </p:spPr>
        <p:txBody>
          <a:bodyPr lIns="0" rIns="0" tIns="0" bIns="0" anchor="t">
            <a:normAutofit fontScale="95000"/>
          </a:bodyPr>
          <a:p>
            <a:pPr marL="4100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Alle tipologie descritte precedentemente, se ne aggiungono altre definite </a:t>
            </a:r>
            <a:r>
              <a:rPr b="1" lang="it-IT" sz="2000" spc="-1" strike="noStrike">
                <a:solidFill>
                  <a:srgbClr val="000000"/>
                </a:solidFill>
                <a:latin typeface="Arial"/>
                <a:ea typeface="Arial Unicode MS"/>
              </a:rPr>
              <a:t>SPERIMENTALI</a:t>
            </a:r>
            <a:r>
              <a:rPr b="0" lang="it-IT" sz="2000" spc="-1" strike="noStrike">
                <a:solidFill>
                  <a:srgbClr val="000000"/>
                </a:solidFill>
                <a:latin typeface="Arial"/>
                <a:ea typeface="Arial Unicode MS"/>
              </a:rPr>
              <a:t>:</a:t>
            </a: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PhotoBlog</a:t>
            </a:r>
            <a:r>
              <a:rPr b="0" lang="it-IT" sz="2000" spc="-1" strike="noStrike">
                <a:solidFill>
                  <a:srgbClr val="000000"/>
                </a:solidFill>
                <a:latin typeface="Arial"/>
                <a:ea typeface="Arial Unicode MS"/>
              </a:rPr>
              <a:t>: vengono pubblicate foto.</a:t>
            </a: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M-Blog</a:t>
            </a:r>
            <a:r>
              <a:rPr b="0" lang="it-IT" sz="2000" spc="-1" strike="noStrike">
                <a:solidFill>
                  <a:srgbClr val="000000"/>
                </a:solidFill>
                <a:latin typeface="Arial"/>
                <a:ea typeface="Arial Unicode MS"/>
              </a:rPr>
              <a:t>: si pubblicizzano proprie scoperte musicali in file audio o mp3.</a:t>
            </a: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Vlog o video Blog</a:t>
            </a:r>
            <a:r>
              <a:rPr b="0" lang="it-IT" sz="2000" spc="-1" strike="noStrike">
                <a:solidFill>
                  <a:srgbClr val="000000"/>
                </a:solidFill>
                <a:latin typeface="Arial"/>
                <a:ea typeface="Arial Unicode MS"/>
              </a:rPr>
              <a:t>: utilizza filmati come materiale principale accompagnato                                   spesso da testo e immagini.</a:t>
            </a: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Audio Blog e podcasting</a:t>
            </a:r>
            <a:r>
              <a:rPr b="0" lang="it-IT" sz="2000" spc="-1" strike="noStrike">
                <a:solidFill>
                  <a:srgbClr val="000000"/>
                </a:solidFill>
                <a:latin typeface="Arial"/>
                <a:ea typeface="Arial Unicode MS"/>
              </a:rPr>
              <a:t>: vengono pubblicati audio che possono essere                                                  scaricati.</a:t>
            </a: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WikiBlog</a:t>
            </a:r>
            <a:r>
              <a:rPr b="0" lang="it-IT" sz="2000" spc="-1" strike="noStrike">
                <a:solidFill>
                  <a:srgbClr val="000000"/>
                </a:solidFill>
                <a:latin typeface="Arial"/>
                <a:ea typeface="Arial Unicode MS"/>
              </a:rPr>
              <a:t>: vengono aggiunte le funzionalità di wiki.</a:t>
            </a:r>
            <a:endParaRPr b="0" lang="en-US" sz="2000" spc="-1" strike="noStrike">
              <a:solidFill>
                <a:srgbClr val="000000"/>
              </a:solidFill>
              <a:latin typeface="Arial"/>
            </a:endParaRPr>
          </a:p>
          <a:p>
            <a:pPr marL="41004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Un' altra tipologia, trasversale rispetto a quelle fin qui considerate, è:</a:t>
            </a: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WeBlog collaborativi</a:t>
            </a:r>
            <a:r>
              <a:rPr b="0" lang="it-IT" sz="2000" spc="-1" strike="noStrike">
                <a:solidFill>
                  <a:srgbClr val="000000"/>
                </a:solidFill>
                <a:latin typeface="Arial"/>
                <a:ea typeface="Arial Unicode MS"/>
              </a:rPr>
              <a:t>: l' inserimento dei contenuti è condivisa da un gruppo di                                    "redattori".</a:t>
            </a:r>
            <a:endParaRPr b="0" lang="en-US" sz="2000" spc="-1" strike="noStrike">
              <a:solidFill>
                <a:srgbClr val="000000"/>
              </a:solidFill>
              <a:latin typeface="Arial"/>
            </a:endParaRPr>
          </a:p>
          <a:p>
            <a:pPr marL="41004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Nei Blog si possono eseguire rassegne o fare segnalazioni, commenti, narrazioni e affini, progettazioni e collaborazioni.</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502920" y="360360"/>
            <a:ext cx="9072360" cy="74628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Unicode MS"/>
              </a:rPr>
              <a:t>BLOG DIDATTICI: LE POSSIBILI ATTIVITA'</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Web publishing e blog di classe locale</a:t>
            </a:r>
            <a:r>
              <a:rPr b="0" lang="it-IT" sz="2000" spc="-1" strike="noStrike">
                <a:solidFill>
                  <a:srgbClr val="000000"/>
                </a:solidFill>
                <a:latin typeface="Arial"/>
                <a:ea typeface="Arial Unicode MS"/>
              </a:rPr>
              <a:t>: strumento di informazione o personale per l'insegnante e per lo studente. Consigliato per gli insegnanti che sono alla loro prima esperienza. Blog creato per studenti, genitori, colleghi come fonte di informazione sulla classe. Può contenere progetti, orari e questionari on-line. L'insegnante può invitare gli studenti a creare un blog personale il quale può avere diversi utilizzi: quaderno personale, diario personale e e-portfolio che può essere consultato dalle famigli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di classe a livello locale e comunicazione/collaborazione</a:t>
            </a:r>
            <a:r>
              <a:rPr b="0" lang="it-IT" sz="2000" spc="-1" strike="noStrike">
                <a:solidFill>
                  <a:srgbClr val="000000"/>
                </a:solidFill>
                <a:latin typeface="Arial"/>
                <a:ea typeface="Arial Unicode MS"/>
              </a:rPr>
              <a:t>: attività di scrittura colaborativa alla quale si può accedere solo quando si sono sviluppate competenze di lettura e scrittura nel blog. Bisogna incoraggiare gli studenti a registrarsi in blog di gruppo per poi presentare attività collettive come espressione delle proprie opinioni sulle attività svolte insiem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di classe a livello globale e comunicazione/collaborazione</a:t>
            </a:r>
            <a:r>
              <a:rPr b="0" lang="it-IT" sz="2000" spc="-1" strike="noStrike">
                <a:solidFill>
                  <a:srgbClr val="000000"/>
                </a:solidFill>
                <a:latin typeface="Arial"/>
                <a:ea typeface="Arial Unicode MS"/>
              </a:rPr>
              <a:t>: si può aprire la classe ad altre classi, italiane o straniere, per aprirsi a nuove esperienze di scambi e confronti con altre realtà e contesti culturali. Ad esempio eTwinning (gemellaggio culturale elettronico).</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di classe globale e web publishing</a:t>
            </a:r>
            <a:r>
              <a:rPr b="0" lang="it-IT" sz="2000" spc="-1" strike="noStrike">
                <a:solidFill>
                  <a:srgbClr val="000000"/>
                </a:solidFill>
                <a:latin typeface="Arial"/>
                <a:ea typeface="Arial Unicode MS"/>
              </a:rPr>
              <a:t>: strumento per raccogliere e valorizzare tutti i progetti proposti dalle scuole. Gli insegnanti possono utilizzare il blog come luogo personale di riflessione sul loro lavoro da offrire ad altri insegnanti, condividendo idee su attività didattiche e tecniche di gestione della tecnologia in classe.</a:t>
            </a:r>
            <a:endParaRPr b="0" lang="en-US" sz="2000" spc="-1" strike="noStrike">
              <a:solidFill>
                <a:srgbClr val="000000"/>
              </a:solidFill>
              <a:latin typeface="Arial"/>
            </a:endParaRPr>
          </a:p>
          <a:p>
            <a:pPr marL="43164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 sviluppo e l'ampiezza nel tempo di Wikipedia</a:t>
            </a:r>
            <a:endParaRPr b="0" lang="en-US" sz="2800" spc="-1" strike="noStrike">
              <a:solidFill>
                <a:srgbClr val="1f497d"/>
              </a:solidFill>
              <a:latin typeface="Arial"/>
            </a:endParaRPr>
          </a:p>
        </p:txBody>
      </p:sp>
      <p:sp>
        <p:nvSpPr>
          <p:cNvPr id="52"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VILUPPO</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Il 15 gennaio 2001, avvenne la creazione di Wikipedia. Ora passati 12 anni, invece di accedere a Wikipedia grazie ad un modem analogico a 56k, usiamo il wifi. Ciò indica come nel settore informatico solo 12 anni, possano sembrare un'eternità.</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AMPIEZZA</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Wikipedia è sempre aggiornata di nuov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ontenuti: ( 17 milioni dei quali 3.5 in inglese e 740.000 in italiano; dati settembre 2010, fonte statistica Wikipedia).</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Utenti: ( oltre 1.2 milioni hanno eseguito più di 10 modifich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pazi: sempre più visitata, da anni ormai costantemente tra i primi 10 siti più visitati, secondo Alexa.com)</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1:32:32Z</dcterms:created>
  <dc:creator>maurizio</dc:creator>
  <dc:description/>
  <dc:language>en-US</dc:language>
  <cp:lastModifiedBy>maurizio</cp:lastModifiedBy>
  <dcterms:modified xsi:type="dcterms:W3CDTF">2013-11-23T11:14:36Z</dcterms:modified>
  <cp:revision>25</cp:revision>
  <dc:subject/>
  <dc:title>  Strumenti Di Apprendimento:  Wikipedia e Blog  Capelli Claudia – Greggi Elisa – Chiurazzi Sara – L'intrepido Mariagrazia – Piparo Chiara   </dc:title>
</cp:coreProperties>
</file>